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7C0-D203-452F-81C5-F962C899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671-99A9-49F9-B666-B292B2DF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10A-E6A6-4B9B-B4EB-2D47E210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4EB-6CD9-4BD9-A973-0492FFF8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021-F210-49C8-98D2-AA13F2F8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08C-7BD0-4E92-AA98-730A5A9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27C-9769-425F-8C58-BA2827C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C5B-3F96-4C7A-AB16-831097C6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115-DCCE-4D12-A91A-2CBA85E7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7FE-710D-4D03-9C85-47B5AD2E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E57-CBC6-4378-86EF-92F64B9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D93-0125-4E25-A4D9-77FB747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A918-794D-4ECF-9618-538494364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ing Digital System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5B9-8C8C-4A08-9568-2B9184B560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chronous Circui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chronous circuits operate with a periodic signal commonly referred to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oc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ck serves as a common time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ition in clock (rising or falling) determines when the computation of output events is initia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 value on signal is sampled at clock transition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event on input signal before the clock transition occurs, the output may also chan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change, of course, takes some time (propagation ti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2AF-5857-4F55-82FF-DBC00DF12C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346640" y="511956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816520" y="4030200"/>
            <a:ext cx="14400" cy="14144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ynchronou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global c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quest-acknowled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ndsha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wait for events on specific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Asynchronous communication chann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2984040" y="4030560"/>
            <a:ext cx="1800" cy="14414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8720" y="428796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97040" y="4699080"/>
            <a:ext cx="555480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97040" y="5330880"/>
            <a:ext cx="5554800" cy="1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74680" y="49006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121360" y="4710240"/>
            <a:ext cx="163188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2080" y="4711680"/>
            <a:ext cx="779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21200" y="4928400"/>
            <a:ext cx="9720" cy="405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397400" y="4947840"/>
            <a:ext cx="71424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9760" y="5345280"/>
            <a:ext cx="6523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11640" y="4295880"/>
            <a:ext cx="972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97360" y="4286160"/>
            <a:ext cx="2124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22640" y="5345280"/>
            <a:ext cx="2158920" cy="7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2233080" y="4030560"/>
            <a:ext cx="1800" cy="1285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3720600" y="4030560"/>
            <a:ext cx="1800" cy="14493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4381560" y="4030560"/>
            <a:ext cx="1440" cy="1457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5099040" y="4030560"/>
            <a:ext cx="1440" cy="1457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6519960" y="4276440"/>
            <a:ext cx="1440" cy="10825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84400" y="4276800"/>
            <a:ext cx="972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2520" y="4705200"/>
            <a:ext cx="741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83000" y="4957920"/>
            <a:ext cx="9720" cy="404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72080" y="5345280"/>
            <a:ext cx="77976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084640" y="4952520"/>
            <a:ext cx="71460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36880" y="444348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57480" y="4451400"/>
            <a:ext cx="1305000" cy="728640"/>
          </a:xfrm>
          <a:custGeom>
            <a:avLst/>
            <a:gdLst/>
            <a:ahLst/>
            <a:rect l="l" t="t" r="r" b="b"/>
            <a:pathLst>
              <a:path w="822" h="459">
                <a:moveTo>
                  <a:pt x="0" y="25"/>
                </a:moveTo>
                <a:cubicBezTo>
                  <a:pt x="134" y="12"/>
                  <a:pt x="269" y="0"/>
                  <a:pt x="357" y="61"/>
                </a:cubicBezTo>
                <a:cubicBezTo>
                  <a:pt x="445" y="122"/>
                  <a:pt x="451" y="329"/>
                  <a:pt x="528" y="394"/>
                </a:cubicBezTo>
                <a:cubicBezTo>
                  <a:pt x="605" y="459"/>
                  <a:pt x="713" y="455"/>
                  <a:pt x="822" y="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24400" y="4476600"/>
            <a:ext cx="647640" cy="700200"/>
          </a:xfrm>
          <a:custGeom>
            <a:avLst/>
            <a:gdLst/>
            <a:ahLst/>
            <a:rect l="l" t="t" r="r" b="b"/>
            <a:pathLst>
              <a:path w="408" h="441">
                <a:moveTo>
                  <a:pt x="0" y="441"/>
                </a:moveTo>
                <a:cubicBezTo>
                  <a:pt x="45" y="440"/>
                  <a:pt x="90" y="439"/>
                  <a:pt x="123" y="399"/>
                </a:cubicBezTo>
                <a:cubicBezTo>
                  <a:pt x="156" y="359"/>
                  <a:pt x="172" y="259"/>
                  <a:pt x="201" y="198"/>
                </a:cubicBezTo>
                <a:cubicBezTo>
                  <a:pt x="230" y="137"/>
                  <a:pt x="262" y="66"/>
                  <a:pt x="297" y="33"/>
                </a:cubicBezTo>
                <a:cubicBezTo>
                  <a:pt x="332" y="0"/>
                  <a:pt x="370" y="1"/>
                  <a:pt x="408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65560" y="442908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70440" y="508176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186520" y="4476600"/>
            <a:ext cx="576000" cy="71604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0"/>
                </a:moveTo>
                <a:cubicBezTo>
                  <a:pt x="68" y="3"/>
                  <a:pt x="136" y="6"/>
                  <a:pt x="171" y="42"/>
                </a:cubicBezTo>
                <a:cubicBezTo>
                  <a:pt x="206" y="78"/>
                  <a:pt x="198" y="154"/>
                  <a:pt x="213" y="216"/>
                </a:cubicBezTo>
                <a:cubicBezTo>
                  <a:pt x="228" y="278"/>
                  <a:pt x="236" y="383"/>
                  <a:pt x="261" y="417"/>
                </a:cubicBezTo>
                <a:cubicBezTo>
                  <a:pt x="286" y="451"/>
                  <a:pt x="324" y="435"/>
                  <a:pt x="363" y="4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740-170B-484E-843A-BB6149C7F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ynchronou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35" name=""/>
          <p:cNvSpPr/>
          <p:nvPr/>
        </p:nvSpPr>
        <p:spPr>
          <a:xfrm>
            <a:off x="1278000" y="2206800"/>
            <a:ext cx="1509480" cy="14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70520" y="2206800"/>
            <a:ext cx="1509840" cy="14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87480" y="2424240"/>
            <a:ext cx="308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787480" y="2757600"/>
            <a:ext cx="308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7040" y="202716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25880" y="24256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87480" y="2968560"/>
            <a:ext cx="3083040" cy="479520"/>
          </a:xfrm>
          <a:prstGeom prst="rightArrow">
            <a:avLst>
              <a:gd name="adj1" fmla="val 50000"/>
              <a:gd name="adj2" fmla="val 16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97240" y="299736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4D8-0C8C-4863-9309-186DDE147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Valu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ary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or 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riven by a power supply or the output of a ga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0-0.8] 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gic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2.0 – 3.3] 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gic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a signal is disconnected? (high-impedan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a signal is currently driven to both a 0 and a 1 value?  (unknow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initial value of a signal is unknow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bout the signal strengt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at we want to describe a digital system as accurately as possi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138-ACD4-4351-819E-88924F51E3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Valu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6" name=""/>
          <p:cNvSpPr/>
          <p:nvPr/>
        </p:nvSpPr>
        <p:spPr>
          <a:xfrm>
            <a:off x="1393920" y="2550960"/>
            <a:ext cx="62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93920" y="232884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19600" y="2894040"/>
            <a:ext cx="5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82640" y="2424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59120" y="2438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57560" y="24224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438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44720" y="2438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39920" y="2438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6400" y="24336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243684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13280" y="24336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02000" y="24336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51200" y="234000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97560" y="24224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3680" y="24271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72120" y="24112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70560" y="24271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59280" y="24271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54840" y="24271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30960" y="24224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29400" y="242568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27840" y="24224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59280" y="2327400"/>
            <a:ext cx="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02000" y="232884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22360" y="28479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68960" y="2550960"/>
            <a:ext cx="0" cy="297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302000" y="1084320"/>
            <a:ext cx="0" cy="32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3400" y="2847960"/>
            <a:ext cx="5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56000" y="1089000"/>
            <a:ext cx="0" cy="32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91400" y="390060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73400" y="389556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1720" y="4645080"/>
            <a:ext cx="90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: Why do we want to represent a situ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apparently corresponds to a design erro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8760" y="5591160"/>
            <a:ext cx="876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may want to observe the effects of a design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it propag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58B-6D7E-47D3-AFED-49F91F87A3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Values: IEEE 1164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81760" y="1704960"/>
            <a:ext cx="372096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nine valued system is not a part of VHDL language; but rather a standard definition that vendors are motivated to support for portabil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855720" y="990720"/>
          <a:ext cx="4120920" cy="4052880"/>
        </p:xfrm>
        <a:graphic>
          <a:graphicData uri="http://schemas.openxmlformats.org/drawingml/2006/table">
            <a:tbl>
              <a:tblPr/>
              <a:tblGrid>
                <a:gridCol w="137772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terpre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nitial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cing 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cing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cin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 imped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ak 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ak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ak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n’t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>
            <a:off x="674640" y="5410080"/>
            <a:ext cx="77598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package that contains this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these values are synthesize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B52-9FA0-4959-9BB2-D38B24941D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Values: IEEE 1164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EEE 1164 package defines multivalue logic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ic operations for multivalue log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ome conversion routines from this logic to other types that are par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_BIT(S: STD_ULOGIC, XMAP:BIT:=‘0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_BITVECTOR(S: STD_ULOGIC_VECTOR,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XMAP:BIT:=‘0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T_VECTO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_STDULOGIC(B:BI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tu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D_ULOGIC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A70-AE88-4380-BC1E-7787BA9C97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hared Sign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drivers for input and multiple destinations for output sign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rivers (transmitter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ri-state buffers can be controlled by a decoder to ensure that only one source is driving the bus at a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may be multiple receivers listening the b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798480" y="4151160"/>
            <a:ext cx="716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87520" y="4883040"/>
            <a:ext cx="399960" cy="29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349360" y="4882320"/>
            <a:ext cx="400320" cy="2984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35320" y="4995720"/>
            <a:ext cx="112680" cy="1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685880" y="464328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543040" y="464328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85880" y="464328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100240" y="4150800"/>
            <a:ext cx="0" cy="49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685880" y="5181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552760" y="5181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87520" y="5791320"/>
            <a:ext cx="3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18760" y="57913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062000" y="5048280"/>
            <a:ext cx="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062000" y="50482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62000" y="552456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00240" y="50479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00240" y="504828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57160" y="5791320"/>
            <a:ext cx="40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2080" y="4883040"/>
            <a:ext cx="399960" cy="29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363920" y="4882320"/>
            <a:ext cx="400320" cy="2984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9880" y="4995720"/>
            <a:ext cx="112680" cy="1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700440" y="464328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557600" y="464328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00440" y="464328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114800" y="4150800"/>
            <a:ext cx="0" cy="49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700440" y="5181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567320" y="5181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02080" y="5791320"/>
            <a:ext cx="3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33320" y="579132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076560" y="5048280"/>
            <a:ext cx="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76560" y="50482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76560" y="552456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114800" y="50479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504828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71720" y="5791320"/>
            <a:ext cx="40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95880" y="5105520"/>
            <a:ext cx="536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43720" y="4883040"/>
            <a:ext cx="399960" cy="29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405560" y="4882320"/>
            <a:ext cx="400320" cy="2984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4995720"/>
            <a:ext cx="112680" cy="10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742080" y="464328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7599240" y="4643280"/>
            <a:ext cx="0" cy="23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42080" y="464328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7156440" y="4150800"/>
            <a:ext cx="0" cy="49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742080" y="5181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608960" y="5181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39040" y="5791320"/>
            <a:ext cx="33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72080" y="5791320"/>
            <a:ext cx="42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118200" y="5048280"/>
            <a:ext cx="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18200" y="504828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18200" y="552456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156440" y="50479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56440" y="504828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09040" y="579132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53F-1A6C-4072-9BEB-F33DD54B18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ultiple Drive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red log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es permit one transmitter at a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ever, certain forms of switching circuits are designed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ired logic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permit multiple trans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s in these circuits produce AND and OR Boolean fun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ired-AND log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f at least one device driving the signal to a 0, the value of the signal will be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DL must be expressive enough to describe such circuits for accurate simul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olved signals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th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s compilers produce logic that arbitrates among accesses to shared signals. For example, when only one source is permitted then a decoder must be synthesized to control multiple driv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2AE-728A-4685-ABFF-48987F7C5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vervie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seek to describe attributes of digital systems common to multiple levels of abstra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s, propagation delays, concur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veforms and timing (synchronous vs. asynchrono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ardware description languages must provide constructs for naturally describing these attributes of a specific desig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mulators use such descriptions 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mimicking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hysical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nthesis compilers use such descriptions for synthesizing hard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763-208A-4312-875D-998EF9730B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 and Synthesi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programs are unlike programs written in Pascal, C, C++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is for describing a digital system for mainly two purpo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dea is to come up with a description that behaves like the real system with a desired level of accurac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AD4-F5C2-471A-8FC1-D53833FAF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cribing Syste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stem is an assemblage of objects united by some form of regular interaction or interdepend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anything from single chips to large super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spects of a digital system we want to descri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tructural or Behavio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al and behavioral descriptions are complementary of each other and are expected to be supported by any HD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663-536F-4B5E-904F-2A448588A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digital syste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s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inary sig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may take values of 1 or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tes, flip-flops, counters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forms input signals to output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i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connect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lf ad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4881600"/>
            <a:ext cx="782640" cy="20628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97000" y="4792680"/>
            <a:ext cx="52092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4800" y="4792680"/>
            <a:ext cx="573120" cy="3859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23760" y="4881600"/>
            <a:ext cx="1043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3760" y="5037120"/>
            <a:ext cx="1043280" cy="912960"/>
          </a:xfrm>
          <a:custGeom>
            <a:avLst/>
            <a:gdLst/>
            <a:ahLst/>
            <a:rect l="l" t="t" r="r" b="b"/>
            <a:pathLst>
              <a:path w="80" h="71">
                <a:moveTo>
                  <a:pt x="80" y="4"/>
                </a:moveTo>
                <a:lnTo>
                  <a:pt x="65" y="4"/>
                </a:lnTo>
                <a:cubicBezTo>
                  <a:pt x="65" y="2"/>
                  <a:pt x="63" y="0"/>
                  <a:pt x="62" y="0"/>
                </a:cubicBezTo>
                <a:cubicBezTo>
                  <a:pt x="60" y="0"/>
                  <a:pt x="59" y="2"/>
                  <a:pt x="59" y="4"/>
                </a:cubicBezTo>
                <a:lnTo>
                  <a:pt x="59" y="4"/>
                </a:lnTo>
                <a:lnTo>
                  <a:pt x="27" y="4"/>
                </a:lnTo>
                <a:lnTo>
                  <a:pt x="27" y="71"/>
                </a:lnTo>
                <a:lnTo>
                  <a:pt x="0" y="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9680" y="4984920"/>
            <a:ext cx="325440" cy="1440"/>
          </a:xfrm>
          <a:custGeom>
            <a:avLst/>
            <a:gdLst/>
            <a:ahLst/>
            <a:rect l="l" t="t" r="r" b="b"/>
            <a:pathLst>
              <a:path w="205" h="0">
                <a:moveTo>
                  <a:pt x="0" y="0"/>
                </a:moveTo>
                <a:lnTo>
                  <a:pt x="115" y="0"/>
                </a:lnTo>
                <a:lnTo>
                  <a:pt x="115" y="0"/>
                </a:lnTo>
                <a:lnTo>
                  <a:pt x="2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14480" y="5743440"/>
            <a:ext cx="782640" cy="192240"/>
          </a:xfrm>
          <a:custGeom>
            <a:avLst/>
            <a:gdLst/>
            <a:ahLst/>
            <a:rect l="l" t="t" r="r" b="b"/>
            <a:pathLst>
              <a:path w="493" h="121">
                <a:moveTo>
                  <a:pt x="0" y="0"/>
                </a:moveTo>
                <a:lnTo>
                  <a:pt x="246" y="0"/>
                </a:lnTo>
                <a:moveTo>
                  <a:pt x="0" y="121"/>
                </a:moveTo>
                <a:lnTo>
                  <a:pt x="246" y="121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56530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56530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56530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56530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1960" y="4881600"/>
            <a:ext cx="235080" cy="861840"/>
          </a:xfrm>
          <a:custGeom>
            <a:avLst/>
            <a:gdLst/>
            <a:ahLst/>
            <a:rect l="l" t="t" r="r" b="b"/>
            <a:pathLst>
              <a:path w="148" h="543">
                <a:moveTo>
                  <a:pt x="148" y="0"/>
                </a:moveTo>
                <a:lnTo>
                  <a:pt x="0" y="0"/>
                </a:lnTo>
                <a:lnTo>
                  <a:pt x="0" y="543"/>
                </a:lnTo>
                <a:lnTo>
                  <a:pt x="115" y="5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76200" y="5821200"/>
            <a:ext cx="638280" cy="114480"/>
          </a:xfrm>
          <a:custGeom>
            <a:avLst/>
            <a:gdLst/>
            <a:ahLst/>
            <a:rect l="l" t="t" r="r" b="b"/>
            <a:pathLst>
              <a:path w="402" h="72">
                <a:moveTo>
                  <a:pt x="0" y="0"/>
                </a:moveTo>
                <a:lnTo>
                  <a:pt x="0" y="72"/>
                </a:lnTo>
                <a:lnTo>
                  <a:pt x="402" y="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97120" y="5846760"/>
            <a:ext cx="338040" cy="1440"/>
          </a:xfrm>
          <a:custGeom>
            <a:avLst/>
            <a:gdLst/>
            <a:ahLst/>
            <a:rect l="l" t="t" r="r" b="b"/>
            <a:pathLst>
              <a:path w="213" h="0">
                <a:moveTo>
                  <a:pt x="0" y="0"/>
                </a:moveTo>
                <a:lnTo>
                  <a:pt x="123" y="0"/>
                </a:lnTo>
                <a:lnTo>
                  <a:pt x="123" y="0"/>
                </a:lnTo>
                <a:lnTo>
                  <a:pt x="21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5200" y="466236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72940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8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653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038480" y="4191120"/>
          <a:ext cx="3657600" cy="1825560"/>
        </p:xfrm>
        <a:graphic>
          <a:graphicData uri="http://schemas.openxmlformats.org/drawingml/2006/table">
            <a:tbl>
              <a:tblPr/>
              <a:tblGrid>
                <a:gridCol w="838440"/>
                <a:gridCol w="1066680"/>
                <a:gridCol w="83808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B50-A21B-427C-A284-FDCFB15F1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83040" y="1219320"/>
            <a:ext cx="362160" cy="779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3840" y="1201680"/>
            <a:ext cx="361800" cy="779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Events and Propagation Delay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5105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a signal changes values (1-to-0, 0-to-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agation dela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me elapsed before changes at input will produce a change at output (5 ns for this examp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7360" y="1090440"/>
            <a:ext cx="15840" cy="3332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66840" y="18367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32200" y="111096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353960"/>
            <a:ext cx="11034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22480" y="136044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83200" y="134136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57480" y="22129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4760" y="1335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000680" y="1352520"/>
            <a:ext cx="110304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922480" y="182412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064120" y="183204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51840" y="133344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68960" y="134460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9160" y="27147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9160" y="35272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1120" y="2228760"/>
            <a:ext cx="2147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25880" y="3060720"/>
            <a:ext cx="214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176880" y="3483000"/>
            <a:ext cx="238464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27320" y="4424400"/>
            <a:ext cx="7272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40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14560" y="3920760"/>
            <a:ext cx="1086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32200" y="3498840"/>
            <a:ext cx="109368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8880" y="441468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998880" y="109980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89520" y="136836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7520" y="136836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9520" y="221292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89520" y="2714760"/>
            <a:ext cx="2179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72360" y="180828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5760" y="130644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049720" y="109980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167520" y="1114560"/>
            <a:ext cx="0" cy="33192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238880" y="110448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375760" y="109008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68960" y="222876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6880" y="2228760"/>
            <a:ext cx="2148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75760" y="222876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021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51120" y="3021120"/>
            <a:ext cx="107136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43200" y="3921120"/>
            <a:ext cx="1071360" cy="48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0560" y="302508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7800" y="301248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4200" y="393372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390456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236000" y="3927240"/>
            <a:ext cx="11397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54880" y="391248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54880" y="4390920"/>
            <a:ext cx="2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71800" y="1090080"/>
            <a:ext cx="181080" cy="11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717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523880"/>
            <a:ext cx="457200" cy="1295640"/>
          </a:xfrm>
          <a:custGeom>
            <a:avLst/>
            <a:gdLst/>
            <a:ahLst/>
            <a:rect l="l" t="t" r="r" b="b"/>
            <a:pathLst>
              <a:path w="288" h="816">
                <a:moveTo>
                  <a:pt x="0" y="0"/>
                </a:moveTo>
                <a:cubicBezTo>
                  <a:pt x="96" y="52"/>
                  <a:pt x="192" y="104"/>
                  <a:pt x="240" y="240"/>
                </a:cubicBezTo>
                <a:cubicBezTo>
                  <a:pt x="288" y="376"/>
                  <a:pt x="288" y="596"/>
                  <a:pt x="288" y="8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81952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0"/>
                </a:moveTo>
                <a:cubicBezTo>
                  <a:pt x="36" y="96"/>
                  <a:pt x="72" y="192"/>
                  <a:pt x="144" y="240"/>
                </a:cubicBezTo>
                <a:cubicBezTo>
                  <a:pt x="216" y="288"/>
                  <a:pt x="324" y="288"/>
                  <a:pt x="432" y="28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27480" y="2819520"/>
            <a:ext cx="635040" cy="1447560"/>
          </a:xfrm>
          <a:custGeom>
            <a:avLst/>
            <a:gdLst/>
            <a:ahLst/>
            <a:rect l="l" t="t" r="r" b="b"/>
            <a:pathLst>
              <a:path w="400" h="912">
                <a:moveTo>
                  <a:pt x="16" y="0"/>
                </a:moveTo>
                <a:cubicBezTo>
                  <a:pt x="8" y="212"/>
                  <a:pt x="0" y="424"/>
                  <a:pt x="64" y="576"/>
                </a:cubicBezTo>
                <a:cubicBezTo>
                  <a:pt x="128" y="728"/>
                  <a:pt x="336" y="856"/>
                  <a:pt x="400" y="9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69320" y="44434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54440" y="44197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22560" y="44197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88520" y="44197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5200" y="44197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98200" y="44197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1600200"/>
            <a:ext cx="457200" cy="1295280"/>
          </a:xfrm>
          <a:custGeom>
            <a:avLst/>
            <a:gdLst/>
            <a:ahLst/>
            <a:rect l="l" t="t" r="r" b="b"/>
            <a:pathLst>
              <a:path w="288" h="816">
                <a:moveTo>
                  <a:pt x="0" y="0"/>
                </a:moveTo>
                <a:cubicBezTo>
                  <a:pt x="96" y="52"/>
                  <a:pt x="192" y="104"/>
                  <a:pt x="240" y="240"/>
                </a:cubicBezTo>
                <a:cubicBezTo>
                  <a:pt x="288" y="376"/>
                  <a:pt x="288" y="596"/>
                  <a:pt x="288" y="8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89548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0"/>
                </a:moveTo>
                <a:cubicBezTo>
                  <a:pt x="36" y="96"/>
                  <a:pt x="72" y="192"/>
                  <a:pt x="144" y="240"/>
                </a:cubicBezTo>
                <a:cubicBezTo>
                  <a:pt x="216" y="288"/>
                  <a:pt x="324" y="288"/>
                  <a:pt x="432" y="28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60840" y="2895480"/>
            <a:ext cx="635040" cy="1447920"/>
          </a:xfrm>
          <a:custGeom>
            <a:avLst/>
            <a:gdLst/>
            <a:ahLst/>
            <a:rect l="l" t="t" r="r" b="b"/>
            <a:pathLst>
              <a:path w="400" h="912">
                <a:moveTo>
                  <a:pt x="16" y="0"/>
                </a:moveTo>
                <a:cubicBezTo>
                  <a:pt x="8" y="212"/>
                  <a:pt x="0" y="424"/>
                  <a:pt x="64" y="576"/>
                </a:cubicBezTo>
                <a:cubicBezTo>
                  <a:pt x="128" y="728"/>
                  <a:pt x="336" y="856"/>
                  <a:pt x="400" y="9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AD7-1528-4208-85BB-766416073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currency of Ope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our previous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change occurs at one of the inputs, sa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two gates concurrently compute the values of output signals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events occur at these sign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igger more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3111480" y="371160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711600"/>
            <a:ext cx="57276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71880" y="5019840"/>
            <a:ext cx="50940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71880" y="5019840"/>
            <a:ext cx="50940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71880" y="5019840"/>
            <a:ext cx="50940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71880" y="5019840"/>
            <a:ext cx="50940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6000" y="357192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6880" y="3807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4400" y="4653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_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46160" y="3809880"/>
            <a:ext cx="116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46160" y="4014720"/>
            <a:ext cx="116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90680" y="38336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960" y="3905280"/>
            <a:ext cx="93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7320" y="380700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14760" y="3807000"/>
            <a:ext cx="57312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06920" y="45435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06920" y="45435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06920" y="45435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6920" y="45435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19480" y="380988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9480" y="509580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1760" y="401004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1760" y="529596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3600" y="3963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74840" y="3763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6160" y="484344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4720" y="390528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14720" y="465300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70440" y="3859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51560" y="494352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22936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6680" y="473868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19720" y="47386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19720" y="501984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72120" y="5124600"/>
            <a:ext cx="2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38560" y="4096800"/>
            <a:ext cx="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38560" y="409716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94280" y="479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87880" y="4000680"/>
            <a:ext cx="12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86600" y="49150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87880" y="443232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7680" y="49338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2080" y="36162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5638680"/>
            <a:ext cx="7629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s on signals lead to computations that may generate events on other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F7A-E811-4635-ACFD-3E4DA669B2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ll Adder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th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1851120"/>
          <a:ext cx="609588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_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678-D854-489B-BE3E-775DEF4587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245120" y="5200560"/>
            <a:ext cx="193680" cy="255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33760" y="3121200"/>
            <a:ext cx="193680" cy="25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40040" y="1177920"/>
            <a:ext cx="193680" cy="255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049720" y="90468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929720" y="88236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13680" y="892080"/>
            <a:ext cx="0" cy="5235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41760" y="90468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ll Adder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200320" y="890640"/>
            <a:ext cx="7920" cy="563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23960" y="15652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35440" y="923760"/>
            <a:ext cx="0" cy="5235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117000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4840" y="1903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31880" y="11350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46280" y="23004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46280" y="29322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9120" y="41911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61168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y = s2 +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79360" y="250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22680" y="11779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9880" y="157464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32440" y="114696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65760" y="116208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1520" y="1170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78360" y="156672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61280" y="113904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2520" y="117000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8280" y="11779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15120" y="157464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97680" y="114696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3240" y="1170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30600" y="2282760"/>
            <a:ext cx="1424160" cy="15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32440" y="1886040"/>
            <a:ext cx="936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69200" y="1893960"/>
            <a:ext cx="936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7760" y="1901880"/>
            <a:ext cx="143352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81800" y="2298600"/>
            <a:ext cx="1415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5600" y="1878120"/>
            <a:ext cx="972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97680" y="1889280"/>
            <a:ext cx="739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45000" y="2925720"/>
            <a:ext cx="7142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1960" y="2513160"/>
            <a:ext cx="9360" cy="4190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60880" y="2526480"/>
            <a:ext cx="9720" cy="405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6640" y="2535120"/>
            <a:ext cx="7142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73480" y="2932200"/>
            <a:ext cx="2141640" cy="7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15120" y="2534400"/>
            <a:ext cx="9720" cy="405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39080" y="2513160"/>
            <a:ext cx="9360" cy="404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24840" y="2513160"/>
            <a:ext cx="7142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720" y="2917800"/>
            <a:ext cx="7077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36560" y="35258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262080" y="5014800"/>
            <a:ext cx="24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 = s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_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27280" y="61437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09760" y="62024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18600" y="61866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02600" y="61866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15400" y="6188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50520" y="6188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55400" y="6183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49200" y="6183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4720" y="54784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9040" y="547848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1960" y="5051520"/>
            <a:ext cx="9360" cy="40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5280" y="5064840"/>
            <a:ext cx="9360" cy="4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61040" y="507348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87880" y="5470560"/>
            <a:ext cx="214164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29520" y="5072760"/>
            <a:ext cx="9360" cy="4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953480" y="5064840"/>
            <a:ext cx="9360" cy="4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24840" y="506556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78680" y="5484960"/>
            <a:ext cx="7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73640" y="6132600"/>
            <a:ext cx="1420560" cy="11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89520" y="573480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02480" y="5756400"/>
            <a:ext cx="1436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19800" y="572688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4200" y="6132600"/>
            <a:ext cx="1436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46280" y="48020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363920" y="923760"/>
            <a:ext cx="0" cy="5235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781600" y="95220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491160" y="88704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0560" y="30510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 =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040" y="3765600"/>
            <a:ext cx="17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 = s1 · c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360" y="4348080"/>
            <a:ext cx="17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 = a ·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46440" y="3106800"/>
            <a:ext cx="972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9880" y="310680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46840" y="3106800"/>
            <a:ext cx="936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0600" y="353376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72240" y="353376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69200" y="3114720"/>
            <a:ext cx="936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59480" y="3114720"/>
            <a:ext cx="73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91360" y="3121200"/>
            <a:ext cx="73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13520" y="3106800"/>
            <a:ext cx="972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27920" y="352584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651880" y="88704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200" y="61596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08120" y="6151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32040" y="1867680"/>
            <a:ext cx="9720" cy="40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90600" y="1876320"/>
            <a:ext cx="1433520" cy="1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30400" y="116208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6160" y="1170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3360" y="15667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39960" y="113904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8720" y="2932200"/>
            <a:ext cx="7873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0320" y="2932200"/>
            <a:ext cx="7142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49480" y="353376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10680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27520" y="439092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6440" y="480528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57800" y="480852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60880" y="479736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81600" y="4392720"/>
            <a:ext cx="9720" cy="4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1600" y="440676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86480" y="4406040"/>
            <a:ext cx="9720" cy="419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81800" y="479736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92800" y="4800600"/>
            <a:ext cx="75564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789440"/>
            <a:ext cx="76212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72000" y="41911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71840" y="419112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54760" y="377208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80160" y="378540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60880" y="378936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6280" y="4194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6480" y="4194000"/>
            <a:ext cx="741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24840" y="4194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21800" y="378936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47200" y="380376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27920" y="3807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16160" y="3106800"/>
            <a:ext cx="723960" cy="426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16160" y="3749760"/>
            <a:ext cx="140652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3560" y="4365720"/>
            <a:ext cx="723960" cy="42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90600" y="5040360"/>
            <a:ext cx="1441440" cy="426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3640" y="1295280"/>
            <a:ext cx="600120" cy="1825920"/>
          </a:xfrm>
          <a:custGeom>
            <a:avLst/>
            <a:gdLst/>
            <a:ahLst/>
            <a:rect l="l" t="t" r="r" b="b"/>
            <a:pathLst>
              <a:path w="448" h="1248">
                <a:moveTo>
                  <a:pt x="0" y="0"/>
                </a:moveTo>
                <a:cubicBezTo>
                  <a:pt x="30" y="280"/>
                  <a:pt x="61" y="560"/>
                  <a:pt x="136" y="768"/>
                </a:cubicBezTo>
                <a:cubicBezTo>
                  <a:pt x="211" y="976"/>
                  <a:pt x="329" y="1112"/>
                  <a:pt x="448" y="12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27440" y="3376440"/>
            <a:ext cx="615960" cy="1830600"/>
          </a:xfrm>
          <a:custGeom>
            <a:avLst/>
            <a:gdLst/>
            <a:ahLst/>
            <a:rect l="l" t="t" r="r" b="b"/>
            <a:pathLst>
              <a:path w="448" h="1184">
                <a:moveTo>
                  <a:pt x="0" y="0"/>
                </a:moveTo>
                <a:cubicBezTo>
                  <a:pt x="50" y="229"/>
                  <a:pt x="101" y="459"/>
                  <a:pt x="176" y="656"/>
                </a:cubicBezTo>
                <a:cubicBezTo>
                  <a:pt x="251" y="853"/>
                  <a:pt x="349" y="1018"/>
                  <a:pt x="448" y="118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89160" y="5745240"/>
            <a:ext cx="2154240" cy="426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48240" y="4406040"/>
            <a:ext cx="9360" cy="419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BE8-5350-490E-9C1F-3D76E4CD4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224320" y="4528800"/>
            <a:ext cx="0" cy="1911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425680" y="4563720"/>
            <a:ext cx="0" cy="1911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689120" y="4555800"/>
            <a:ext cx="0" cy="1911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aveforms and Tim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quence of events that occur on a signal produce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veform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that sig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379440" y="49593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21040" y="456408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5920" y="529740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7360" y="45291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1760" y="56944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1760" y="63262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1760" y="5896080"/>
            <a:ext cx="4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06800" y="4572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48040" y="496872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49880" y="455616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33640" y="496872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62480" y="4572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86440" y="4572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16200" y="5686200"/>
            <a:ext cx="1440000" cy="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56200" y="5299920"/>
            <a:ext cx="0" cy="40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42000" y="5691240"/>
            <a:ext cx="615960" cy="3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57960" y="5299920"/>
            <a:ext cx="0" cy="40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76840" y="5691240"/>
            <a:ext cx="739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57960" y="5938920"/>
            <a:ext cx="9360" cy="404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02120" y="5942160"/>
            <a:ext cx="7142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5935680"/>
            <a:ext cx="174960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67320" y="6326280"/>
            <a:ext cx="6523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16200" y="5290560"/>
            <a:ext cx="0" cy="414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38320" y="5289480"/>
            <a:ext cx="704880" cy="1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71640" y="496728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27120" y="4572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14520" y="457056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55800" y="6326280"/>
            <a:ext cx="16761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938160" y="4339800"/>
            <a:ext cx="0" cy="1971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85920" y="2441520"/>
            <a:ext cx="942840" cy="870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1262520" y="3020040"/>
            <a:ext cx="24588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23840" y="31226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17720" y="26798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35240" y="26798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22640" y="31021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41600" y="2523960"/>
            <a:ext cx="35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63920" y="2938320"/>
            <a:ext cx="544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2040" y="2516040"/>
            <a:ext cx="35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6120" y="2938320"/>
            <a:ext cx="528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35240" y="3043080"/>
            <a:ext cx="9684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98480" y="3313080"/>
            <a:ext cx="9684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85880" y="2324160"/>
            <a:ext cx="9684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4280" y="3430440"/>
            <a:ext cx="0" cy="1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39880" y="216864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30200" y="1965240"/>
            <a:ext cx="465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09680" y="3313080"/>
            <a:ext cx="465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605040" y="2065320"/>
          <a:ext cx="4464360" cy="2190600"/>
        </p:xfrm>
        <a:graphic>
          <a:graphicData uri="http://schemas.openxmlformats.org/drawingml/2006/table">
            <a:tbl>
              <a:tblPr/>
              <a:tblGrid>
                <a:gridCol w="552600"/>
                <a:gridCol w="784080"/>
                <a:gridCol w="725760"/>
                <a:gridCol w="841320"/>
                <a:gridCol w="725400"/>
                <a:gridCol w="83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 flipV="1">
            <a:off x="3086280" y="4571640"/>
            <a:ext cx="0" cy="1911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803760" y="4571640"/>
            <a:ext cx="0" cy="1911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521240" y="4528800"/>
            <a:ext cx="0" cy="1911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956200" y="4422600"/>
            <a:ext cx="0" cy="1911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703920" y="4431960"/>
            <a:ext cx="0" cy="1911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35080" y="5297400"/>
            <a:ext cx="0" cy="408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57240" y="5686560"/>
            <a:ext cx="1077840" cy="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35000" y="64119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43840" y="64245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27840" y="64245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40640" y="642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75760" y="642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80640" y="64213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69520" y="639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360" y="63896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42000" y="5310360"/>
            <a:ext cx="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56200" y="5300640"/>
            <a:ext cx="70956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67480" y="5281560"/>
            <a:ext cx="0" cy="409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48240" y="5289480"/>
            <a:ext cx="212760" cy="1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5310360"/>
            <a:ext cx="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07280" y="5319720"/>
            <a:ext cx="296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31960" y="5938920"/>
            <a:ext cx="9720" cy="404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631960" y="5935320"/>
            <a:ext cx="56376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02280" y="6321600"/>
            <a:ext cx="7081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68760" y="496404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98480" y="49608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332080" y="4724280"/>
            <a:ext cx="164880" cy="76320"/>
            <a:chOff x="2332080" y="4724280"/>
            <a:chExt cx="164880" cy="76320"/>
          </a:xfrm>
        </p:grpSpPr>
        <p:sp>
          <p:nvSpPr>
            <p:cNvPr id="392" name=""/>
            <p:cNvSpPr/>
            <p:nvPr/>
          </p:nvSpPr>
          <p:spPr>
            <a:xfrm flipH="1">
              <a:off x="2332080" y="4724280"/>
              <a:ext cx="9504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27120" y="4724280"/>
              <a:ext cx="6984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168880" y="4762440"/>
            <a:ext cx="164880" cy="76320"/>
            <a:chOff x="5168880" y="4762440"/>
            <a:chExt cx="164880" cy="76320"/>
          </a:xfrm>
        </p:grpSpPr>
        <p:sp>
          <p:nvSpPr>
            <p:cNvPr id="395" name=""/>
            <p:cNvSpPr/>
            <p:nvPr/>
          </p:nvSpPr>
          <p:spPr>
            <a:xfrm flipH="1">
              <a:off x="5168880" y="4762440"/>
              <a:ext cx="9504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63920" y="4762440"/>
              <a:ext cx="6984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235240" y="609588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641320" y="60958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B05-87F7-4BF6-8856-53637EF78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0-07T05:14:24Z</dcterms:modified>
  <cp:revision>401</cp:revision>
  <dc:subject/>
  <dc:title>PowerPoint Presentation</dc:title>
</cp:coreProperties>
</file>