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291-C5DD-47BC-8B9C-654084D0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E5C-EFF0-486C-8114-0AEBF368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A9F-C49D-48BD-A020-BD9F1B17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520-FB8C-449B-B600-DFEB70C4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C9B-4BC4-4253-86C4-21881E4F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14D-91F4-4882-B153-DC8739B3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FFF-CF77-4D09-910A-F434EEC5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FDB-A131-41B5-8151-25BC8461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376-3989-4486-8132-0FB5C0BF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8AA-B62B-4EF7-8ECF-2F32B44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1ED-DED4-4A28-B71E-2D64C3C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3E4-5885-4A2A-B264-DC074C62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27A2-E850-42F4-ACB0-C7B80DCE1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2356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emory Models   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C2E-5346-4ACE-AEC1-C9143177B7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560" y="17136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CS’ controlled write cycle time (OE’ = 0).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139760" y="2479320"/>
            <a:ext cx="7261200" cy="4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39760" y="3416400"/>
            <a:ext cx="7269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39760" y="2000160"/>
            <a:ext cx="961560" cy="480960"/>
            <a:chOff x="1139760" y="2000160"/>
            <a:chExt cx="961560" cy="480960"/>
          </a:xfrm>
        </p:grpSpPr>
        <p:sp>
          <p:nvSpPr>
            <p:cNvPr id="487" name=""/>
            <p:cNvSpPr/>
            <p:nvPr/>
          </p:nvSpPr>
          <p:spPr>
            <a:xfrm>
              <a:off x="1139760" y="2009520"/>
              <a:ext cx="790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39760" y="2476440"/>
              <a:ext cx="80928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1939320" y="2000160"/>
              <a:ext cx="162000" cy="466560"/>
              <a:chOff x="1939320" y="2000160"/>
              <a:chExt cx="162000" cy="466560"/>
            </a:xfrm>
          </p:grpSpPr>
          <p:sp>
            <p:nvSpPr>
              <p:cNvPr id="490" name=""/>
              <p:cNvSpPr/>
              <p:nvPr/>
            </p:nvSpPr>
            <p:spPr>
              <a:xfrm>
                <a:off x="1939680" y="2000160"/>
                <a:ext cx="16164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1939320" y="2000160"/>
                <a:ext cx="15228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 flipV="1">
            <a:off x="6864480" y="2009520"/>
            <a:ext cx="177156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73840" y="2476440"/>
            <a:ext cx="178128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000" y="197640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760" y="295416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711840" y="1990800"/>
            <a:ext cx="162000" cy="466560"/>
            <a:chOff x="6711840" y="1990800"/>
            <a:chExt cx="162000" cy="466560"/>
          </a:xfrm>
        </p:grpSpPr>
        <p:sp>
          <p:nvSpPr>
            <p:cNvPr id="497" name=""/>
            <p:cNvSpPr/>
            <p:nvPr/>
          </p:nvSpPr>
          <p:spPr>
            <a:xfrm>
              <a:off x="6711840" y="199080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11840" y="199080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2092320" y="2476440"/>
            <a:ext cx="4619520" cy="9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01680" y="2004840"/>
            <a:ext cx="4619880" cy="9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06640" y="1560600"/>
            <a:ext cx="0" cy="31114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83480" y="1546200"/>
            <a:ext cx="0" cy="1579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006640" y="1362240"/>
            <a:ext cx="4776840" cy="405720"/>
            <a:chOff x="2006640" y="1362240"/>
            <a:chExt cx="4776840" cy="405720"/>
          </a:xfrm>
        </p:grpSpPr>
        <p:sp>
          <p:nvSpPr>
            <p:cNvPr id="504" name=""/>
            <p:cNvSpPr/>
            <p:nvPr/>
          </p:nvSpPr>
          <p:spPr>
            <a:xfrm>
              <a:off x="2006640" y="1763640"/>
              <a:ext cx="477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72960" y="1362240"/>
              <a:ext cx="47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W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1139760" y="2944800"/>
            <a:ext cx="20224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39760" y="3416400"/>
            <a:ext cx="75153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62240" y="294012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99320" y="2930400"/>
            <a:ext cx="2736720" cy="144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38560" y="2673360"/>
            <a:ext cx="0" cy="7430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27680" y="2673360"/>
            <a:ext cx="9720" cy="3654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69880" y="731880"/>
            <a:ext cx="767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 goes low before or at the same time as CS’ goe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’ goes high before or at the same time as WE’ goe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746680" y="2940120"/>
            <a:ext cx="15264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3238560" y="2473200"/>
            <a:ext cx="2589120" cy="405720"/>
            <a:chOff x="3238560" y="2473200"/>
            <a:chExt cx="2589120" cy="405720"/>
          </a:xfrm>
        </p:grpSpPr>
        <p:sp>
          <p:nvSpPr>
            <p:cNvPr id="515" name=""/>
            <p:cNvSpPr/>
            <p:nvPr/>
          </p:nvSpPr>
          <p:spPr>
            <a:xfrm>
              <a:off x="3238560" y="2839680"/>
              <a:ext cx="258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44400" y="2473200"/>
              <a:ext cx="47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C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5827680" y="2486160"/>
            <a:ext cx="955800" cy="405720"/>
            <a:chOff x="5827680" y="2486160"/>
            <a:chExt cx="955800" cy="405720"/>
          </a:xfrm>
        </p:grpSpPr>
        <p:sp>
          <p:nvSpPr>
            <p:cNvPr id="518" name=""/>
            <p:cNvSpPr/>
            <p:nvPr/>
          </p:nvSpPr>
          <p:spPr>
            <a:xfrm>
              <a:off x="6156720" y="2486160"/>
              <a:ext cx="46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W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27680" y="2844720"/>
              <a:ext cx="9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163520" y="4282920"/>
            <a:ext cx="7269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16640" y="382104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63520" y="3811680"/>
            <a:ext cx="20224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1139760" y="4277880"/>
            <a:ext cx="7367760" cy="9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86000" y="380700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08680" y="3797280"/>
            <a:ext cx="2736720" cy="144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62320" y="3714840"/>
            <a:ext cx="0" cy="1114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57400" y="381168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00360" y="380700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59160" y="3816360"/>
            <a:ext cx="16164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756040" y="3807000"/>
            <a:ext cx="15228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010200" y="3797280"/>
            <a:ext cx="15264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248160" y="3813120"/>
            <a:ext cx="15228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483240" y="3811680"/>
            <a:ext cx="15264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751440" y="3801960"/>
            <a:ext cx="15228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005240" y="3792600"/>
            <a:ext cx="15228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7243560" y="3808440"/>
            <a:ext cx="15228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7478640" y="3807000"/>
            <a:ext cx="15264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7751520" y="3814920"/>
            <a:ext cx="15228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8005680" y="3805200"/>
            <a:ext cx="15264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8243640" y="3821040"/>
            <a:ext cx="15228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8478720" y="3819600"/>
            <a:ext cx="15264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014560" y="2535120"/>
            <a:ext cx="1247760" cy="312120"/>
            <a:chOff x="2014560" y="2535120"/>
            <a:chExt cx="1247760" cy="312120"/>
          </a:xfrm>
        </p:grpSpPr>
        <p:sp>
          <p:nvSpPr>
            <p:cNvPr id="543" name=""/>
            <p:cNvSpPr/>
            <p:nvPr/>
          </p:nvSpPr>
          <p:spPr>
            <a:xfrm>
              <a:off x="2014560" y="2825640"/>
              <a:ext cx="12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37280" y="2535120"/>
              <a:ext cx="241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014560" y="3522600"/>
            <a:ext cx="3822840" cy="312120"/>
            <a:chOff x="2014560" y="3522600"/>
            <a:chExt cx="3822840" cy="312120"/>
          </a:xfrm>
        </p:grpSpPr>
        <p:sp>
          <p:nvSpPr>
            <p:cNvPr id="546" name=""/>
            <p:cNvSpPr/>
            <p:nvPr/>
          </p:nvSpPr>
          <p:spPr>
            <a:xfrm>
              <a:off x="2014560" y="3660480"/>
              <a:ext cx="16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00520" y="3522600"/>
              <a:ext cx="291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A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94000" y="3655800"/>
              <a:ext cx="16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155600" y="5321160"/>
            <a:ext cx="7269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840" y="48592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165320" y="5065200"/>
            <a:ext cx="7378560" cy="9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45520" y="4621320"/>
            <a:ext cx="0" cy="742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165320" y="6345360"/>
            <a:ext cx="7269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1240" y="58831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80040" y="5896080"/>
            <a:ext cx="42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967520" y="5875200"/>
            <a:ext cx="162000" cy="466920"/>
            <a:chOff x="7967520" y="5875200"/>
            <a:chExt cx="162000" cy="466920"/>
          </a:xfrm>
        </p:grpSpPr>
        <p:sp>
          <p:nvSpPr>
            <p:cNvPr id="557" name=""/>
            <p:cNvSpPr/>
            <p:nvPr/>
          </p:nvSpPr>
          <p:spPr>
            <a:xfrm>
              <a:off x="7967520" y="5875200"/>
              <a:ext cx="16200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7967520" y="5875200"/>
              <a:ext cx="15264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7072200" y="5881680"/>
            <a:ext cx="162000" cy="466560"/>
            <a:chOff x="7072200" y="5881680"/>
            <a:chExt cx="162000" cy="466560"/>
          </a:xfrm>
        </p:grpSpPr>
        <p:sp>
          <p:nvSpPr>
            <p:cNvPr id="560" name=""/>
            <p:cNvSpPr/>
            <p:nvPr/>
          </p:nvSpPr>
          <p:spPr>
            <a:xfrm>
              <a:off x="7072200" y="588168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072200" y="588168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8153280" y="5896080"/>
            <a:ext cx="162000" cy="466560"/>
            <a:chOff x="8153280" y="5896080"/>
            <a:chExt cx="162000" cy="466560"/>
          </a:xfrm>
        </p:grpSpPr>
        <p:sp>
          <p:nvSpPr>
            <p:cNvPr id="563" name=""/>
            <p:cNvSpPr/>
            <p:nvPr/>
          </p:nvSpPr>
          <p:spPr>
            <a:xfrm>
              <a:off x="8153280" y="589608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8153280" y="589608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8340480" y="5910120"/>
            <a:ext cx="162000" cy="466920"/>
            <a:chOff x="8340480" y="5910120"/>
            <a:chExt cx="162000" cy="466920"/>
          </a:xfrm>
        </p:grpSpPr>
        <p:sp>
          <p:nvSpPr>
            <p:cNvPr id="566" name=""/>
            <p:cNvSpPr/>
            <p:nvPr/>
          </p:nvSpPr>
          <p:spPr>
            <a:xfrm>
              <a:off x="8340840" y="5910120"/>
              <a:ext cx="16164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8340480" y="5910120"/>
              <a:ext cx="15228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6962760" y="5653080"/>
            <a:ext cx="0" cy="7430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89400" y="6334200"/>
            <a:ext cx="42037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775640" y="5896080"/>
            <a:ext cx="162000" cy="466560"/>
            <a:chOff x="7775640" y="5896080"/>
            <a:chExt cx="162000" cy="466560"/>
          </a:xfrm>
        </p:grpSpPr>
        <p:sp>
          <p:nvSpPr>
            <p:cNvPr id="571" name=""/>
            <p:cNvSpPr/>
            <p:nvPr/>
          </p:nvSpPr>
          <p:spPr>
            <a:xfrm>
              <a:off x="7775640" y="589608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775640" y="589608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607160" y="5881680"/>
            <a:ext cx="162000" cy="466560"/>
            <a:chOff x="7607160" y="5881680"/>
            <a:chExt cx="162000" cy="466560"/>
          </a:xfrm>
        </p:grpSpPr>
        <p:sp>
          <p:nvSpPr>
            <p:cNvPr id="574" name=""/>
            <p:cNvSpPr/>
            <p:nvPr/>
          </p:nvSpPr>
          <p:spPr>
            <a:xfrm>
              <a:off x="7607160" y="588168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607160" y="588168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97640" y="5896080"/>
            <a:ext cx="162000" cy="466560"/>
            <a:chOff x="7397640" y="5896080"/>
            <a:chExt cx="162000" cy="466560"/>
          </a:xfrm>
        </p:grpSpPr>
        <p:sp>
          <p:nvSpPr>
            <p:cNvPr id="577" name=""/>
            <p:cNvSpPr/>
            <p:nvPr/>
          </p:nvSpPr>
          <p:spPr>
            <a:xfrm>
              <a:off x="7397640" y="589608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397640" y="589608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243560" y="5910120"/>
            <a:ext cx="162000" cy="466920"/>
            <a:chOff x="7243560" y="5910120"/>
            <a:chExt cx="162000" cy="466920"/>
          </a:xfrm>
        </p:grpSpPr>
        <p:sp>
          <p:nvSpPr>
            <p:cNvPr id="580" name=""/>
            <p:cNvSpPr/>
            <p:nvPr/>
          </p:nvSpPr>
          <p:spPr>
            <a:xfrm>
              <a:off x="7243920" y="5910120"/>
              <a:ext cx="16164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243560" y="5910120"/>
              <a:ext cx="15228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4226040" y="5667480"/>
            <a:ext cx="0" cy="742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249800" y="5364000"/>
            <a:ext cx="1587600" cy="345960"/>
            <a:chOff x="4249800" y="5364000"/>
            <a:chExt cx="1587600" cy="345960"/>
          </a:xfrm>
        </p:grpSpPr>
        <p:sp>
          <p:nvSpPr>
            <p:cNvPr id="584" name=""/>
            <p:cNvSpPr/>
            <p:nvPr/>
          </p:nvSpPr>
          <p:spPr>
            <a:xfrm>
              <a:off x="4249800" y="5709960"/>
              <a:ext cx="15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62080" y="5364000"/>
              <a:ext cx="304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D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4608360" y="5961240"/>
            <a:ext cx="98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996240" y="6091200"/>
            <a:ext cx="163512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837400" y="5378400"/>
            <a:ext cx="1141200" cy="331560"/>
            <a:chOff x="5837400" y="5378400"/>
            <a:chExt cx="1141200" cy="331560"/>
          </a:xfrm>
        </p:grpSpPr>
        <p:sp>
          <p:nvSpPr>
            <p:cNvPr id="589" name=""/>
            <p:cNvSpPr/>
            <p:nvPr/>
          </p:nvSpPr>
          <p:spPr>
            <a:xfrm>
              <a:off x="5837400" y="5709960"/>
              <a:ext cx="11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60760" y="5378400"/>
              <a:ext cx="27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182680" y="383076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49400" y="381168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679400" y="383868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46120" y="381960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98440" y="382428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7640" y="4791240"/>
            <a:ext cx="80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-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881760" y="5877000"/>
            <a:ext cx="162000" cy="466560"/>
            <a:chOff x="6881760" y="5877000"/>
            <a:chExt cx="162000" cy="466560"/>
          </a:xfrm>
        </p:grpSpPr>
        <p:sp>
          <p:nvSpPr>
            <p:cNvPr id="598" name=""/>
            <p:cNvSpPr/>
            <p:nvPr/>
          </p:nvSpPr>
          <p:spPr>
            <a:xfrm>
              <a:off x="6881760" y="587700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881760" y="587700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118040" y="5869080"/>
            <a:ext cx="162000" cy="466560"/>
            <a:chOff x="4118040" y="5869080"/>
            <a:chExt cx="162000" cy="466560"/>
          </a:xfrm>
        </p:grpSpPr>
        <p:sp>
          <p:nvSpPr>
            <p:cNvPr id="601" name=""/>
            <p:cNvSpPr/>
            <p:nvPr/>
          </p:nvSpPr>
          <p:spPr>
            <a:xfrm>
              <a:off x="4118040" y="586908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118040" y="586908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flipV="1">
            <a:off x="1103400" y="5873760"/>
            <a:ext cx="3016080" cy="7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03400" y="6340320"/>
            <a:ext cx="3016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7120" y="5975280"/>
            <a:ext cx="191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ld data or high-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E4C-E295-4A3A-ACF9-28DC38EFD0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riting to the Memo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both CS’ and WE’ controlled write cycles, writing to memory occurs when both CS’ and WE’ are low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is completed when either one of these signals goes hig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126-3FC7-42CC-8E64-9D8862AF81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iming Specifications for CMOS S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304920" y="1397160"/>
          <a:ext cx="8562960" cy="4579920"/>
        </p:xfrm>
        <a:graphic>
          <a:graphicData uri="http://schemas.openxmlformats.org/drawingml/2006/table">
            <a:tbl>
              <a:tblPr/>
              <a:tblGrid>
                <a:gridCol w="2974680"/>
                <a:gridCol w="1278000"/>
                <a:gridCol w="1131840"/>
                <a:gridCol w="1030320"/>
                <a:gridCol w="1190880"/>
                <a:gridCol w="957240"/>
              </a:tblGrid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ar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ym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162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258A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d Cycle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R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ress Access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p Select Access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A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p selection to output in low-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C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 enable to output 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 enable to output in low-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O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p de-selection to output in high-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C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p disable to output in high-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O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 hold from address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E0E-4D98-44F2-90A1-3F2207107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iming Specifications for CMOS S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04920" y="990720"/>
          <a:ext cx="8562960" cy="4876560"/>
        </p:xfrm>
        <a:graphic>
          <a:graphicData uri="http://schemas.openxmlformats.org/drawingml/2006/table">
            <a:tbl>
              <a:tblPr/>
              <a:tblGrid>
                <a:gridCol w="2974680"/>
                <a:gridCol w="1278000"/>
                <a:gridCol w="1131840"/>
                <a:gridCol w="1030320"/>
                <a:gridCol w="1190880"/>
                <a:gridCol w="95724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ar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ymb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1162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3258A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 Cycle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W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p selection to end of w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C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ress valid to end of w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A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ress setup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 pulse 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W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 recovery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W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 enable to output in high-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W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 valid to end of w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D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 hold from end of w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D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 active from end of w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548-AF3E-4481-B040-94DA7DC440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ple Memory Mode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arith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m6116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dr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signed(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dat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WE_b, CS_b, OE_b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m611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255-1DA8-4003-B805-9F689FEAB6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ple Memory Mode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33000" y="861480"/>
            <a:ext cx="8381880" cy="544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mple_ra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61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_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**8-1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_vector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1: ram_type:=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&gt;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&gt; ’0’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&lt;=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&gt; ‘Z’);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chip is not selec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S_b = ‘0’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ising_edge(WE_b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1(conv_integer(address’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 &lt;= data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 ns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_b = ‘1’ and OE_b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= ram1(conv_integer(address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&lt;= (others =&gt; ‘Z’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 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_b, CS_b, OE_b, addr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imple_ram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B62-A17D-4563-A9F4-6FD4F3FA6E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zeable Memory Mode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29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mple_ra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61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_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**8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_vector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1: ram_typ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ddress, CS_b, WE_b, OE_b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&lt;=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&gt; ‘Z’);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chip is not selec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S_b = ‘0’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_b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1(conv_integer(address)) &lt;= data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_b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E_b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= ram1(conv_integer(address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&lt;= (others =&gt; ‘Z’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imple_ram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A22-FAF7-4D76-97C2-5CF491EA88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iming Model for SRAM I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eee.std_logic_arith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61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AA: Time := 120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ACS: Time := 120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CLZ: Time := 10 ns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CHZ: Time := 10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OH: Time := 10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WC: Time := 120 ns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AW: Time := 105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WP: Time := 70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WHZ: Time := 35 ns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DW: Time := 35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DH: Time := 0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OW: Time := 10 ns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ddres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signed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data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_vector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WE_b, CS_b, OE_b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61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C4F-AF50-45E8-BBDA-373FA99ECE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iming Model for SRAM II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902484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RA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61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_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**8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_vector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am1: ram_type :=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&gt;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the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&gt; ‘0’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ising_edge(WE_b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S_b’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‘0’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ising_edge(CS_b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E_b’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‘0’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 writ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1(conv_integer(address’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 &lt;= data’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data’delayed is the value of data just before the falling_ed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= transport data’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_OW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falling_edge(WE_b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S_b = ‘0’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–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enter write mode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data &lt;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“ZZZZZZZZ”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_WHZ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166-1A29-46A1-A572-8755430E21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iming Model for SRAM III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2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RA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61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S_b’eve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E_b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S_b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 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-- RAM is de-select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data &lt;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“ZZZZZZZZ”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CHZ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_b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–- read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&lt;= “XXXXXXXX”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CLZ;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&lt;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1((conv_integer(address)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AC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’ev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S_b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E_b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_b = ‘1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&lt;= “XXXXXXXX”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OH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data &lt;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1(conv_integer(address)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_AA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 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S_b, WE_b, addr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AM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563-D831-4B2F-9163-1BA09F779A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O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m16x8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dr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dat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(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vense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m16x8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m_arra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5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ulogic_vector (7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m: rom_array := ( “11111011”, “00010010”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“10011011”, “10010011”, “01011011”, “00111010”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“11111011”, “00010010”, “10100011”, “10011010”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“01111011”, “00010010”, “10101001”, “00110110”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“11011011”, “01010010”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 &lt;= rom(address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8CE-9773-471B-A7CF-7C1F00F1C7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iming Model for SRAM IV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RA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61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eck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S_b’delayed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W /= 0 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’event 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ddress’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ayed’st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t_WC))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–- t_RC = t_W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“address cycle is too short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ver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ARNING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184-4A85-4B9D-8C27-A304537C19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iming Model for SRAM V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RAM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m6116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eck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S_b’delayed = ‘0’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W /= 0 n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ising_edge(WE_b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address’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ayed’sta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_AW)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“address not long enough to end of write”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verit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RNING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WE_b’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ayed’sta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_WP)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“write pulse is too short”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verit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RNING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data’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ayed’sta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_DW)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“data setup time is too short”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verit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RNING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_DH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dat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last_eve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gt;= t_DH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“data hold time is too short”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verit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RNING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it on WE_b, address, CS_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eck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ram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EFA-58F9-421B-85E1-7B16B6B131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ynamic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m102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dr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**5-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dat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(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RAS, CAS, W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0F7-D145-4933-82CD-D7189DFA79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ynamic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m102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AS, CAS, WE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m_arra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**10-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std_ulogic_vector (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w_address: integ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**5-1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_address: integ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**10-1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: dram_array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2A8-F13D-4C46-91AA-C287D5BA9F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ynamic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m102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AS, CAS, WE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 &lt;=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‘Z’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ling_edge(RAS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w_address := addr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ling_edge(CAS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_address := row_address*2**5 + addr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S 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E 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(mem_address) := data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 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S 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E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 &lt;= mem(mem_address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6F5-EAAF-4A3B-BFA2-6918F028E7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atic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3468600" y="1233360"/>
            <a:ext cx="2017800" cy="2249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tic 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word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 b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240" y="1495440"/>
            <a:ext cx="1611360" cy="231840"/>
          </a:xfrm>
          <a:prstGeom prst="rightArrow">
            <a:avLst>
              <a:gd name="adj1" fmla="val 50000"/>
              <a:gd name="adj2" fmla="val 1737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49640" y="1495440"/>
            <a:ext cx="29052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680" y="1190520"/>
            <a:ext cx="157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090880"/>
            <a:ext cx="1670040" cy="260280"/>
          </a:xfrm>
          <a:prstGeom prst="leftRightArrow">
            <a:avLst>
              <a:gd name="adj1" fmla="val 50000"/>
              <a:gd name="adj2" fmla="val 1277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46640" y="2119320"/>
            <a:ext cx="29052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19720" y="1814400"/>
            <a:ext cx="23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67080" y="2119320"/>
            <a:ext cx="101520" cy="101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57240" y="2178000"/>
            <a:ext cx="15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67080" y="2635200"/>
            <a:ext cx="101520" cy="101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857240" y="2693880"/>
            <a:ext cx="15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67080" y="3157560"/>
            <a:ext cx="101520" cy="101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857240" y="3216240"/>
            <a:ext cx="15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71320" y="2009880"/>
            <a:ext cx="34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76720" y="25416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2440" y="3063960"/>
            <a:ext cx="42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7280" y="1452600"/>
            <a:ext cx="96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40840" y="2541600"/>
            <a:ext cx="2160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input/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520" y="4403880"/>
            <a:ext cx="874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’ - when asserted low, memory read and write operations are possi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4160" y="5078520"/>
            <a:ext cx="8734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E’ - when asserted low, memory output is enabled onto an external b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320" y="5826240"/>
            <a:ext cx="58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 - when asserted low, memory can be writ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A7C-30AB-4AFA-9516-920CA223A3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Cell  of Static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13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AM contains address decoders and a memory arr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ell of RAM that stores one bit of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02440" y="2755440"/>
            <a:ext cx="5521320" cy="1296000"/>
            <a:chOff x="1702440" y="2755440"/>
            <a:chExt cx="5521320" cy="1296000"/>
          </a:xfrm>
        </p:grpSpPr>
        <p:sp>
          <p:nvSpPr>
            <p:cNvPr id="70" name=""/>
            <p:cNvSpPr/>
            <p:nvPr/>
          </p:nvSpPr>
          <p:spPr>
            <a:xfrm>
              <a:off x="4064040" y="3073320"/>
              <a:ext cx="942840" cy="959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40000" y="3159000"/>
              <a:ext cx="18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68440" y="3613320"/>
              <a:ext cx="18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7600" y="315900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5559120" y="3124080"/>
              <a:ext cx="406080" cy="3618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06880" y="330660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330660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27600" y="3087720"/>
              <a:ext cx="101880" cy="10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19320" y="3611520"/>
              <a:ext cx="362160" cy="392040"/>
            </a:xfrm>
            <a:prstGeom prst="flowChartDelay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81480" y="3817800"/>
              <a:ext cx="68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47760" y="3718080"/>
              <a:ext cx="87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47760" y="3889440"/>
              <a:ext cx="87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17800" y="3666960"/>
              <a:ext cx="101520" cy="101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17800" y="3830760"/>
              <a:ext cx="101520" cy="10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511360" y="2755440"/>
              <a:ext cx="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11360" y="2755800"/>
              <a:ext cx="32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60600" y="3652920"/>
              <a:ext cx="1015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86280" y="275580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642840" y="3306600"/>
              <a:ext cx="42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72920" y="3362400"/>
              <a:ext cx="105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_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80720" y="2949480"/>
              <a:ext cx="87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_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07480" y="35244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L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2440" y="377676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R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43080" y="4651200"/>
            <a:ext cx="710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ead mo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SEL’ = ‘0’ and WR’ = ‘1’, (G=‘0’) and data_out =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6280" y="5122800"/>
            <a:ext cx="689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rite mo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SEL’ = ‘0’ and WR’ = ‘0’, (G=‘1’) and Q = data_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4200" y="5637240"/>
            <a:ext cx="668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SEL’ = ‘1’ or WR’ = ‘1’, the data is stored in the 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9280" y="6159600"/>
            <a:ext cx="3428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SEL’ = ‘1’, data_out = ‘Z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2B3-04F3-4561-81D8-F4EA21134B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ruth Table of Static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96960" y="1397160"/>
          <a:ext cx="7575480" cy="4060800"/>
        </p:xfrm>
        <a:graphic>
          <a:graphicData uri="http://schemas.openxmlformats.org/drawingml/2006/table">
            <a:tbl>
              <a:tblPr/>
              <a:tblGrid>
                <a:gridCol w="1514520"/>
                <a:gridCol w="1515960"/>
                <a:gridCol w="1514520"/>
                <a:gridCol w="1515960"/>
                <a:gridCol w="151452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S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/O p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 sel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 disab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_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r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_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237-DE89-4BE6-9229-39EA380DDA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6116 Static CMOS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0" name=""/>
          <p:cNvSpPr/>
          <p:nvPr/>
        </p:nvSpPr>
        <p:spPr>
          <a:xfrm>
            <a:off x="5673600" y="1089000"/>
            <a:ext cx="2076480" cy="1552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emor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28 x 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40160" y="1089000"/>
            <a:ext cx="1101600" cy="1552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73600" y="2989440"/>
            <a:ext cx="2076480" cy="814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umn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3600" y="3803760"/>
            <a:ext cx="2076480" cy="333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lumn De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40160" y="2989440"/>
            <a:ext cx="1101600" cy="11476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41760" y="314640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41760" y="362736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38640" y="326700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41760" y="133524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41760" y="236520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0200" y="169380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38720" y="264168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50120" y="264168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93040" y="281772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5720" y="2365200"/>
            <a:ext cx="16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5720" y="1335240"/>
            <a:ext cx="16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52800" y="172260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62080" y="1182600"/>
            <a:ext cx="331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66760" y="2212920"/>
            <a:ext cx="247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56600" y="41371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16680" y="413712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4880" y="4356000"/>
            <a:ext cx="247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40400" y="4356000"/>
            <a:ext cx="247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23080" y="4356000"/>
            <a:ext cx="247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5600" y="4356000"/>
            <a:ext cx="247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04120" y="4130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413064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5720" y="3957480"/>
            <a:ext cx="16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5720" y="3184560"/>
            <a:ext cx="16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342900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1960" y="3032280"/>
            <a:ext cx="464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/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50400" y="3805200"/>
            <a:ext cx="464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/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2084040" y="4748400"/>
            <a:ext cx="406440" cy="361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41560" y="5335560"/>
            <a:ext cx="362160" cy="39204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3880" y="4933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70320" y="4871880"/>
            <a:ext cx="101520" cy="10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63880" y="6067440"/>
            <a:ext cx="361800" cy="39204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793880" y="5529240"/>
            <a:ext cx="11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71840" y="492120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492120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541332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085840" y="5749560"/>
            <a:ext cx="406440" cy="3621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74880" y="2817720"/>
            <a:ext cx="0" cy="352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74880" y="634356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62360" y="6134040"/>
            <a:ext cx="101520" cy="101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00360" y="6191280"/>
            <a:ext cx="1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700360" y="5528880"/>
            <a:ext cx="0" cy="6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71920" y="5499000"/>
            <a:ext cx="5688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74880" y="564516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7880" y="561348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76440" y="5875200"/>
            <a:ext cx="101520" cy="10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71840" y="592452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1760" y="5892840"/>
            <a:ext cx="6336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44880" y="47768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56040" y="5348160"/>
            <a:ext cx="42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72960" y="5799240"/>
            <a:ext cx="34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06480" y="593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24240" y="6270480"/>
            <a:ext cx="70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032360" y="4122720"/>
            <a:ext cx="0" cy="21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74880" y="281772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032360" y="264132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rot="16200000">
            <a:off x="7234920" y="4999680"/>
            <a:ext cx="328680" cy="285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rot="16200000">
            <a:off x="7244640" y="5971320"/>
            <a:ext cx="328320" cy="285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50080" y="31464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02520" y="3146400"/>
            <a:ext cx="0" cy="19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542360" y="5132520"/>
            <a:ext cx="56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50080" y="362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86800" y="3627360"/>
            <a:ext cx="0" cy="247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551360" y="6103800"/>
            <a:ext cx="113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15320" y="3263760"/>
            <a:ext cx="0" cy="246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08840" y="5546880"/>
            <a:ext cx="0" cy="245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319360" y="5132520"/>
            <a:ext cx="192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319720" y="4354200"/>
            <a:ext cx="0" cy="77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244680" y="4333680"/>
            <a:ext cx="20750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244680" y="3160800"/>
            <a:ext cx="0" cy="11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25960" y="3156120"/>
            <a:ext cx="6336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541400" y="6103800"/>
            <a:ext cx="27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541760" y="4725720"/>
            <a:ext cx="0" cy="13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963520" y="4726080"/>
            <a:ext cx="15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941560" y="3957120"/>
            <a:ext cx="4680" cy="76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27520" y="3929040"/>
            <a:ext cx="6336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03720" y="5562720"/>
            <a:ext cx="408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521028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56600" y="5546880"/>
            <a:ext cx="6336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5A6-E7F4-4543-AFC5-B49BBD0616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ad Cycle Timing I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200" y="1490760"/>
            <a:ext cx="8637120" cy="2251080"/>
            <a:chOff x="16200" y="1490760"/>
            <a:chExt cx="8637120" cy="2251080"/>
          </a:xfrm>
        </p:grpSpPr>
        <p:sp>
          <p:nvSpPr>
            <p:cNvPr id="186" name=""/>
            <p:cNvSpPr/>
            <p:nvPr/>
          </p:nvSpPr>
          <p:spPr>
            <a:xfrm>
              <a:off x="3992400" y="1490760"/>
              <a:ext cx="42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6200" y="1674720"/>
              <a:ext cx="8637120" cy="2067120"/>
              <a:chOff x="16200" y="1674720"/>
              <a:chExt cx="8637120" cy="2067120"/>
            </a:xfrm>
          </p:grpSpPr>
          <p:sp>
            <p:nvSpPr>
              <p:cNvPr id="188" name=""/>
              <p:cNvSpPr/>
              <p:nvPr/>
            </p:nvSpPr>
            <p:spPr>
              <a:xfrm>
                <a:off x="2004840" y="3087720"/>
                <a:ext cx="85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1138320" y="2607840"/>
                <a:ext cx="7261200" cy="4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38320" y="3716280"/>
                <a:ext cx="726912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1138320" y="2128680"/>
                <a:ext cx="961560" cy="480960"/>
                <a:chOff x="1138320" y="2128680"/>
                <a:chExt cx="961560" cy="480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138320" y="2138040"/>
                  <a:ext cx="790200" cy="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138320" y="2604960"/>
                  <a:ext cx="809280" cy="468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1937880" y="2128680"/>
                  <a:ext cx="162000" cy="466560"/>
                  <a:chOff x="1937880" y="2128680"/>
                  <a:chExt cx="162000" cy="466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938240" y="2128680"/>
                    <a:ext cx="161640" cy="456840"/>
                  </a:xfrm>
                  <a:prstGeom prst="line">
                    <a:avLst/>
                  </a:prstGeom>
                  <a:ln w="2844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1937880" y="2128680"/>
                    <a:ext cx="152280" cy="466560"/>
                  </a:xfrm>
                  <a:prstGeom prst="line">
                    <a:avLst/>
                  </a:prstGeom>
                  <a:ln w="2844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7" name=""/>
              <p:cNvSpPr/>
              <p:nvPr/>
            </p:nvSpPr>
            <p:spPr>
              <a:xfrm flipV="1">
                <a:off x="6862680" y="2138040"/>
                <a:ext cx="1771560" cy="46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72400" y="2604960"/>
                <a:ext cx="1780920" cy="50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200" y="2104920"/>
                <a:ext cx="992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dr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760" y="3254400"/>
                <a:ext cx="74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6710400" y="2119320"/>
                <a:ext cx="162000" cy="466560"/>
                <a:chOff x="6710400" y="2119320"/>
                <a:chExt cx="162000" cy="4665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710400" y="2119320"/>
                  <a:ext cx="162000" cy="4568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6710400" y="2119320"/>
                  <a:ext cx="152640" cy="4665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2090880" y="2604960"/>
                <a:ext cx="4619520" cy="972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100240" y="2133720"/>
                <a:ext cx="4619520" cy="93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04840" y="1689120"/>
                <a:ext cx="0" cy="1541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781680" y="1674720"/>
                <a:ext cx="0" cy="157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04840" y="1892160"/>
                <a:ext cx="477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38320" y="3244680"/>
                <a:ext cx="4098960" cy="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38320" y="3711600"/>
                <a:ext cx="4118040" cy="46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5246640" y="3235320"/>
                <a:ext cx="162000" cy="466560"/>
                <a:chOff x="5246640" y="3235320"/>
                <a:chExt cx="162000" cy="4665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246640" y="3235320"/>
                  <a:ext cx="162000" cy="4568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5246640" y="3235320"/>
                  <a:ext cx="152640" cy="4665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062240" y="3240000"/>
                <a:ext cx="162000" cy="466920"/>
                <a:chOff x="4062240" y="3240000"/>
                <a:chExt cx="162000" cy="4669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062240" y="3240000"/>
                  <a:ext cx="162000" cy="45720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4062240" y="3240000"/>
                  <a:ext cx="152640" cy="46692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224240" y="3235320"/>
                <a:ext cx="162000" cy="466560"/>
                <a:chOff x="4224240" y="3235320"/>
                <a:chExt cx="162000" cy="4665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24240" y="3235320"/>
                  <a:ext cx="162000" cy="4568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224240" y="3235320"/>
                  <a:ext cx="152640" cy="4665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386240" y="3240000"/>
                <a:ext cx="162000" cy="466920"/>
                <a:chOff x="4386240" y="3240000"/>
                <a:chExt cx="162000" cy="466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386240" y="3240000"/>
                  <a:ext cx="162000" cy="45720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4386240" y="3240000"/>
                  <a:ext cx="152640" cy="46692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548240" y="3235320"/>
                <a:ext cx="162000" cy="466560"/>
                <a:chOff x="4548240" y="3235320"/>
                <a:chExt cx="162000" cy="466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548240" y="3235320"/>
                  <a:ext cx="162000" cy="4568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4548240" y="3235320"/>
                  <a:ext cx="152640" cy="4665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709880" y="3254400"/>
                <a:ext cx="162000" cy="466560"/>
                <a:chOff x="4709880" y="3254400"/>
                <a:chExt cx="162000" cy="4665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710240" y="3254400"/>
                  <a:ext cx="161640" cy="4568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4709880" y="3254400"/>
                  <a:ext cx="152280" cy="4665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871880" y="3249720"/>
                <a:ext cx="162000" cy="466560"/>
                <a:chOff x="4871880" y="3249720"/>
                <a:chExt cx="162000" cy="4665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871880" y="3249720"/>
                  <a:ext cx="162000" cy="4568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>
                  <a:off x="4871880" y="3249720"/>
                  <a:ext cx="152640" cy="4665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062320" y="3240000"/>
                <a:ext cx="162000" cy="466920"/>
                <a:chOff x="5062320" y="3240000"/>
                <a:chExt cx="162000" cy="466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062680" y="3240000"/>
                  <a:ext cx="161640" cy="45720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5062320" y="3240000"/>
                  <a:ext cx="152280" cy="46692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449360" y="3319560"/>
                <a:ext cx="203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revious data val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408640" y="3230280"/>
                <a:ext cx="3225600" cy="468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5418000" y="3697200"/>
                <a:ext cx="3235320" cy="1440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7770600" y="3254400"/>
                <a:ext cx="162000" cy="466560"/>
                <a:chOff x="7770600" y="3254400"/>
                <a:chExt cx="162000" cy="4665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770960" y="3254400"/>
                  <a:ext cx="161640" cy="4568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>
                  <a:off x="7770600" y="3254400"/>
                  <a:ext cx="152280" cy="46656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6289560" y="3333600"/>
                <a:ext cx="1041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data val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38560" y="2973240"/>
                <a:ext cx="0" cy="74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27640" y="2614680"/>
                <a:ext cx="0" cy="110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09600" y="2935440"/>
                <a:ext cx="28440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57440" y="3087720"/>
                <a:ext cx="68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25720" y="2766960"/>
                <a:ext cx="143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65520" y="2614680"/>
                <a:ext cx="25380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A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62240" y="2773440"/>
                <a:ext cx="130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61320" y="2998800"/>
                <a:ext cx="0" cy="74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97520" y="3041640"/>
                <a:ext cx="106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184880" y="2751120"/>
                <a:ext cx="28440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752400" y="1058760"/>
            <a:ext cx="70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’ = 0, OE’ = 0 WE’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720" y="4416480"/>
            <a:ext cx="7048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the address changes, the old data remains at the output for a tim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8280" y="5118120"/>
            <a:ext cx="70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 there is a transition period during which the data may change (cross-hatching s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4640" y="5819760"/>
            <a:ext cx="7898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ew data is stable at the memory after the address access tim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5720" y="3867120"/>
            <a:ext cx="704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ddress must be stable for the read cycle time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43D-EEFB-447C-AD5C-B16A9F5EA1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ad Cycle Timing II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8" name=""/>
          <p:cNvSpPr/>
          <p:nvPr/>
        </p:nvSpPr>
        <p:spPr>
          <a:xfrm>
            <a:off x="2006640" y="3781440"/>
            <a:ext cx="1050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139760" y="2750760"/>
            <a:ext cx="7261200" cy="4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39760" y="4273560"/>
            <a:ext cx="7269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39760" y="2281320"/>
            <a:ext cx="7905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40040" y="2271600"/>
            <a:ext cx="16164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864480" y="2280960"/>
            <a:ext cx="177156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840" y="224784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200" y="38116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711840" y="2262240"/>
            <a:ext cx="15264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92320" y="2747880"/>
            <a:ext cx="4619520" cy="9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440" y="4029120"/>
            <a:ext cx="19130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57480" y="4029120"/>
            <a:ext cx="84240" cy="225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57120" y="3797280"/>
            <a:ext cx="74520" cy="23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143160" y="3792600"/>
            <a:ext cx="162000" cy="466560"/>
            <a:chOff x="3143160" y="3792600"/>
            <a:chExt cx="162000" cy="466560"/>
          </a:xfrm>
        </p:grpSpPr>
        <p:sp>
          <p:nvSpPr>
            <p:cNvPr id="272" name=""/>
            <p:cNvSpPr/>
            <p:nvPr/>
          </p:nvSpPr>
          <p:spPr>
            <a:xfrm>
              <a:off x="3143160" y="379260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143160" y="379260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305160" y="3797280"/>
            <a:ext cx="162000" cy="466920"/>
            <a:chOff x="3305160" y="3797280"/>
            <a:chExt cx="162000" cy="466920"/>
          </a:xfrm>
        </p:grpSpPr>
        <p:sp>
          <p:nvSpPr>
            <p:cNvPr id="275" name=""/>
            <p:cNvSpPr/>
            <p:nvPr/>
          </p:nvSpPr>
          <p:spPr>
            <a:xfrm>
              <a:off x="3305160" y="3797280"/>
              <a:ext cx="16200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305160" y="3797280"/>
              <a:ext cx="15264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467160" y="3792600"/>
            <a:ext cx="162000" cy="466560"/>
            <a:chOff x="3467160" y="3792600"/>
            <a:chExt cx="162000" cy="466560"/>
          </a:xfrm>
        </p:grpSpPr>
        <p:sp>
          <p:nvSpPr>
            <p:cNvPr id="278" name=""/>
            <p:cNvSpPr/>
            <p:nvPr/>
          </p:nvSpPr>
          <p:spPr>
            <a:xfrm>
              <a:off x="3467160" y="379260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467160" y="379260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628800" y="3811680"/>
            <a:ext cx="162000" cy="466560"/>
            <a:chOff x="3628800" y="3811680"/>
            <a:chExt cx="162000" cy="466560"/>
          </a:xfrm>
        </p:grpSpPr>
        <p:sp>
          <p:nvSpPr>
            <p:cNvPr id="281" name=""/>
            <p:cNvSpPr/>
            <p:nvPr/>
          </p:nvSpPr>
          <p:spPr>
            <a:xfrm>
              <a:off x="3629160" y="3811680"/>
              <a:ext cx="16164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628800" y="3811680"/>
              <a:ext cx="15228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141720" y="3817800"/>
            <a:ext cx="46609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43160" y="4249800"/>
            <a:ext cx="4629240" cy="223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72400" y="3811680"/>
            <a:ext cx="77760" cy="217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72400" y="4029120"/>
            <a:ext cx="77760" cy="2491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62560" y="389556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57480" y="3559320"/>
            <a:ext cx="0" cy="742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11600" y="3227400"/>
            <a:ext cx="0" cy="1106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73840" y="3478320"/>
            <a:ext cx="313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CL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06640" y="344664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0600" y="3089160"/>
            <a:ext cx="325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A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50160" y="3556080"/>
            <a:ext cx="0" cy="7430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9320" y="3598920"/>
            <a:ext cx="106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58240" y="3308400"/>
            <a:ext cx="340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C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4200" y="1058760"/>
            <a:ext cx="70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 is stable, OE’ = 0, WE’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06640" y="222732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99320" y="2117880"/>
            <a:ext cx="0" cy="1249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50160" y="4029120"/>
            <a:ext cx="55080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61F-E6F0-46EE-BAEE-320CF9CAD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1285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WE’ Controlled Write Cycle Time (OE’ = 0).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339920" y="2436480"/>
            <a:ext cx="7261200" cy="4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39920" y="3373560"/>
            <a:ext cx="7269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339920" y="1957320"/>
            <a:ext cx="961560" cy="480960"/>
            <a:chOff x="1339920" y="1957320"/>
            <a:chExt cx="961560" cy="480960"/>
          </a:xfrm>
        </p:grpSpPr>
        <p:sp>
          <p:nvSpPr>
            <p:cNvPr id="304" name=""/>
            <p:cNvSpPr/>
            <p:nvPr/>
          </p:nvSpPr>
          <p:spPr>
            <a:xfrm>
              <a:off x="1339920" y="1966680"/>
              <a:ext cx="790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39920" y="2433600"/>
              <a:ext cx="80928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139480" y="1957320"/>
              <a:ext cx="162000" cy="466560"/>
              <a:chOff x="2139480" y="1957320"/>
              <a:chExt cx="162000" cy="466560"/>
            </a:xfrm>
          </p:grpSpPr>
          <p:sp>
            <p:nvSpPr>
              <p:cNvPr id="307" name=""/>
              <p:cNvSpPr/>
              <p:nvPr/>
            </p:nvSpPr>
            <p:spPr>
              <a:xfrm>
                <a:off x="2139840" y="1957320"/>
                <a:ext cx="16164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2139480" y="1957320"/>
                <a:ext cx="15228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"/>
          <p:cNvSpPr/>
          <p:nvPr/>
        </p:nvSpPr>
        <p:spPr>
          <a:xfrm flipV="1">
            <a:off x="7064280" y="1966680"/>
            <a:ext cx="177192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74000" y="2433600"/>
            <a:ext cx="178092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6200" y="19335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920" y="291132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912000" y="1947960"/>
            <a:ext cx="162000" cy="466560"/>
            <a:chOff x="6912000" y="1947960"/>
            <a:chExt cx="162000" cy="466560"/>
          </a:xfrm>
        </p:grpSpPr>
        <p:sp>
          <p:nvSpPr>
            <p:cNvPr id="314" name=""/>
            <p:cNvSpPr/>
            <p:nvPr/>
          </p:nvSpPr>
          <p:spPr>
            <a:xfrm>
              <a:off x="6912000" y="194796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912000" y="194796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292480" y="2433600"/>
            <a:ext cx="4619520" cy="9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01840" y="1962000"/>
            <a:ext cx="4619520" cy="9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06800" y="1517760"/>
            <a:ext cx="0" cy="31114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83280" y="1503360"/>
            <a:ext cx="0" cy="1579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206800" y="1319040"/>
            <a:ext cx="4776480" cy="405720"/>
            <a:chOff x="2206800" y="1319040"/>
            <a:chExt cx="4776480" cy="405720"/>
          </a:xfrm>
        </p:grpSpPr>
        <p:sp>
          <p:nvSpPr>
            <p:cNvPr id="321" name=""/>
            <p:cNvSpPr/>
            <p:nvPr/>
          </p:nvSpPr>
          <p:spPr>
            <a:xfrm>
              <a:off x="2206800" y="1720800"/>
              <a:ext cx="477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73120" y="1319040"/>
              <a:ext cx="47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W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339920" y="2901960"/>
            <a:ext cx="20224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39920" y="3373560"/>
            <a:ext cx="7515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62400" y="289728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9120" y="2887560"/>
            <a:ext cx="2737080" cy="144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38360" y="2630520"/>
            <a:ext cx="0" cy="7430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27840" y="2630520"/>
            <a:ext cx="9360" cy="3654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1080" y="706320"/>
            <a:ext cx="762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’ goes low before or at the same time as WE’ goe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 goes high before or at the same time as CS’ goe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33800" y="290196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76400" y="289728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35200" y="290664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06600" y="291132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49560" y="290664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25560" y="291636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96960" y="292104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39920" y="291636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946480" y="2897280"/>
            <a:ext cx="15228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200640" y="2887560"/>
            <a:ext cx="15264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438600" y="2903400"/>
            <a:ext cx="15228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673680" y="2901960"/>
            <a:ext cx="15264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941880" y="2892600"/>
            <a:ext cx="15228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196040" y="2882880"/>
            <a:ext cx="15264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34000" y="2898720"/>
            <a:ext cx="15228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669080" y="2897280"/>
            <a:ext cx="15264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941960" y="2905200"/>
            <a:ext cx="15228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196120" y="2895480"/>
            <a:ext cx="15264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434080" y="2911320"/>
            <a:ext cx="15228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669160" y="2909880"/>
            <a:ext cx="152640" cy="466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438360" y="2430360"/>
            <a:ext cx="2589480" cy="405720"/>
            <a:chOff x="3438360" y="2430360"/>
            <a:chExt cx="2589480" cy="405720"/>
          </a:xfrm>
        </p:grpSpPr>
        <p:sp>
          <p:nvSpPr>
            <p:cNvPr id="351" name=""/>
            <p:cNvSpPr/>
            <p:nvPr/>
          </p:nvSpPr>
          <p:spPr>
            <a:xfrm>
              <a:off x="3438360" y="2796840"/>
              <a:ext cx="258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44560" y="2430360"/>
              <a:ext cx="47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C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027840" y="2443320"/>
            <a:ext cx="955440" cy="405720"/>
            <a:chOff x="6027840" y="2443320"/>
            <a:chExt cx="955440" cy="405720"/>
          </a:xfrm>
        </p:grpSpPr>
        <p:sp>
          <p:nvSpPr>
            <p:cNvPr id="354" name=""/>
            <p:cNvSpPr/>
            <p:nvPr/>
          </p:nvSpPr>
          <p:spPr>
            <a:xfrm>
              <a:off x="6356880" y="2443320"/>
              <a:ext cx="46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W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27840" y="2801880"/>
              <a:ext cx="9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363680" y="4240080"/>
            <a:ext cx="7269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6800" y="377820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63680" y="3768840"/>
            <a:ext cx="20224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20960" y="4221000"/>
            <a:ext cx="5886360" cy="144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6380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08840" y="3754440"/>
            <a:ext cx="2736720" cy="144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62480" y="3672000"/>
            <a:ext cx="0" cy="1114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57560" y="376884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00520" y="3763800"/>
            <a:ext cx="16164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58960" y="3773520"/>
            <a:ext cx="162000" cy="4572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956200" y="3763800"/>
            <a:ext cx="152640" cy="466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44640" y="3672000"/>
            <a:ext cx="0" cy="742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206800" y="4341960"/>
            <a:ext cx="537840" cy="354960"/>
            <a:chOff x="2206800" y="4341960"/>
            <a:chExt cx="537840" cy="354960"/>
          </a:xfrm>
        </p:grpSpPr>
        <p:sp>
          <p:nvSpPr>
            <p:cNvPr id="369" name=""/>
            <p:cNvSpPr/>
            <p:nvPr/>
          </p:nvSpPr>
          <p:spPr>
            <a:xfrm>
              <a:off x="2206800" y="434196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58000" y="4384800"/>
              <a:ext cx="241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462480" y="3778200"/>
            <a:ext cx="2574720" cy="312120"/>
            <a:chOff x="3462480" y="3778200"/>
            <a:chExt cx="2574720" cy="312120"/>
          </a:xfrm>
        </p:grpSpPr>
        <p:sp>
          <p:nvSpPr>
            <p:cNvPr id="372" name=""/>
            <p:cNvSpPr/>
            <p:nvPr/>
          </p:nvSpPr>
          <p:spPr>
            <a:xfrm>
              <a:off x="3462480" y="3778200"/>
              <a:ext cx="257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90920" y="3778200"/>
              <a:ext cx="4460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W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214720" y="3479760"/>
            <a:ext cx="3822480" cy="312120"/>
            <a:chOff x="2214720" y="3479760"/>
            <a:chExt cx="3822480" cy="312120"/>
          </a:xfrm>
        </p:grpSpPr>
        <p:sp>
          <p:nvSpPr>
            <p:cNvPr id="375" name=""/>
            <p:cNvSpPr/>
            <p:nvPr/>
          </p:nvSpPr>
          <p:spPr>
            <a:xfrm>
              <a:off x="2214720" y="3617640"/>
              <a:ext cx="16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00320" y="3479760"/>
              <a:ext cx="291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A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94160" y="3612960"/>
              <a:ext cx="16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355760" y="5278320"/>
            <a:ext cx="7269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0000" y="481644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55760" y="4807080"/>
            <a:ext cx="2674800" cy="9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355760" y="5283000"/>
            <a:ext cx="267480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40720" y="4821120"/>
            <a:ext cx="971640" cy="144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030200" y="4802040"/>
            <a:ext cx="74880" cy="466560"/>
            <a:chOff x="4030200" y="4802040"/>
            <a:chExt cx="74880" cy="466560"/>
          </a:xfrm>
        </p:grpSpPr>
        <p:sp>
          <p:nvSpPr>
            <p:cNvPr id="384" name=""/>
            <p:cNvSpPr/>
            <p:nvPr/>
          </p:nvSpPr>
          <p:spPr>
            <a:xfrm>
              <a:off x="4030560" y="4802040"/>
              <a:ext cx="74520" cy="2221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030200" y="5024160"/>
              <a:ext cx="74520" cy="244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739680" y="4821120"/>
            <a:ext cx="74880" cy="466560"/>
            <a:chOff x="3739680" y="4821120"/>
            <a:chExt cx="74880" cy="466560"/>
          </a:xfrm>
        </p:grpSpPr>
        <p:sp>
          <p:nvSpPr>
            <p:cNvPr id="387" name=""/>
            <p:cNvSpPr/>
            <p:nvPr/>
          </p:nvSpPr>
          <p:spPr>
            <a:xfrm>
              <a:off x="3740040" y="4821120"/>
              <a:ext cx="74520" cy="2221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739680" y="5043240"/>
              <a:ext cx="74520" cy="244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444480" y="4792680"/>
            <a:ext cx="74880" cy="466560"/>
            <a:chOff x="3444480" y="4792680"/>
            <a:chExt cx="74880" cy="466560"/>
          </a:xfrm>
        </p:grpSpPr>
        <p:sp>
          <p:nvSpPr>
            <p:cNvPr id="390" name=""/>
            <p:cNvSpPr/>
            <p:nvPr/>
          </p:nvSpPr>
          <p:spPr>
            <a:xfrm>
              <a:off x="3444840" y="4792680"/>
              <a:ext cx="74520" cy="2221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444480" y="5014800"/>
              <a:ext cx="74520" cy="244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152520" y="4835520"/>
            <a:ext cx="74880" cy="466560"/>
            <a:chOff x="3152520" y="4835520"/>
            <a:chExt cx="74880" cy="466560"/>
          </a:xfrm>
        </p:grpSpPr>
        <p:sp>
          <p:nvSpPr>
            <p:cNvPr id="393" name=""/>
            <p:cNvSpPr/>
            <p:nvPr/>
          </p:nvSpPr>
          <p:spPr>
            <a:xfrm>
              <a:off x="3152880" y="4835520"/>
              <a:ext cx="74520" cy="2221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152520" y="5057640"/>
              <a:ext cx="74520" cy="244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857320" y="4807080"/>
            <a:ext cx="74880" cy="466560"/>
            <a:chOff x="2857320" y="4807080"/>
            <a:chExt cx="74880" cy="466560"/>
          </a:xfrm>
        </p:grpSpPr>
        <p:sp>
          <p:nvSpPr>
            <p:cNvPr id="396" name=""/>
            <p:cNvSpPr/>
            <p:nvPr/>
          </p:nvSpPr>
          <p:spPr>
            <a:xfrm>
              <a:off x="2857680" y="4807080"/>
              <a:ext cx="74520" cy="2221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857320" y="5029200"/>
              <a:ext cx="74520" cy="244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572920" y="4815000"/>
            <a:ext cx="74880" cy="466560"/>
            <a:chOff x="2572920" y="4815000"/>
            <a:chExt cx="74880" cy="466560"/>
          </a:xfrm>
        </p:grpSpPr>
        <p:sp>
          <p:nvSpPr>
            <p:cNvPr id="399" name=""/>
            <p:cNvSpPr/>
            <p:nvPr/>
          </p:nvSpPr>
          <p:spPr>
            <a:xfrm>
              <a:off x="2573280" y="4815000"/>
              <a:ext cx="74520" cy="2221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572920" y="5037120"/>
              <a:ext cx="74520" cy="244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7720" y="4786200"/>
            <a:ext cx="74880" cy="466560"/>
            <a:chOff x="2277720" y="4786200"/>
            <a:chExt cx="74880" cy="466560"/>
          </a:xfrm>
        </p:grpSpPr>
        <p:sp>
          <p:nvSpPr>
            <p:cNvPr id="402" name=""/>
            <p:cNvSpPr/>
            <p:nvPr/>
          </p:nvSpPr>
          <p:spPr>
            <a:xfrm>
              <a:off x="2278080" y="4786200"/>
              <a:ext cx="74520" cy="2221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2277720" y="5008320"/>
              <a:ext cx="74520" cy="244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985760" y="4829040"/>
            <a:ext cx="74880" cy="466560"/>
            <a:chOff x="1985760" y="4829040"/>
            <a:chExt cx="74880" cy="466560"/>
          </a:xfrm>
        </p:grpSpPr>
        <p:sp>
          <p:nvSpPr>
            <p:cNvPr id="405" name=""/>
            <p:cNvSpPr/>
            <p:nvPr/>
          </p:nvSpPr>
          <p:spPr>
            <a:xfrm>
              <a:off x="1986120" y="4829040"/>
              <a:ext cx="74520" cy="2221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985760" y="5051160"/>
              <a:ext cx="74520" cy="244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90200" y="4800600"/>
            <a:ext cx="74880" cy="466560"/>
            <a:chOff x="1690200" y="4800600"/>
            <a:chExt cx="74880" cy="466560"/>
          </a:xfrm>
        </p:grpSpPr>
        <p:sp>
          <p:nvSpPr>
            <p:cNvPr id="408" name=""/>
            <p:cNvSpPr/>
            <p:nvPr/>
          </p:nvSpPr>
          <p:spPr>
            <a:xfrm>
              <a:off x="1690560" y="4800600"/>
              <a:ext cx="74520" cy="2221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690200" y="5022720"/>
              <a:ext cx="74520" cy="244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 flipV="1">
            <a:off x="1365120" y="5022360"/>
            <a:ext cx="7378920" cy="97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659720" y="4808520"/>
            <a:ext cx="81000" cy="457200"/>
            <a:chOff x="7659720" y="4808520"/>
            <a:chExt cx="81000" cy="457200"/>
          </a:xfrm>
        </p:grpSpPr>
        <p:sp>
          <p:nvSpPr>
            <p:cNvPr id="412" name=""/>
            <p:cNvSpPr/>
            <p:nvPr/>
          </p:nvSpPr>
          <p:spPr>
            <a:xfrm>
              <a:off x="7659720" y="5021280"/>
              <a:ext cx="81000" cy="244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659720" y="4808520"/>
              <a:ext cx="71280" cy="212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731000" y="5264280"/>
            <a:ext cx="1013040" cy="172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14800" y="4567320"/>
            <a:ext cx="0" cy="7430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440160" y="4313160"/>
            <a:ext cx="681120" cy="312120"/>
            <a:chOff x="3440160" y="4313160"/>
            <a:chExt cx="681120" cy="312120"/>
          </a:xfrm>
        </p:grpSpPr>
        <p:sp>
          <p:nvSpPr>
            <p:cNvPr id="417" name=""/>
            <p:cNvSpPr/>
            <p:nvPr/>
          </p:nvSpPr>
          <p:spPr>
            <a:xfrm>
              <a:off x="3440160" y="4624200"/>
              <a:ext cx="6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77680" y="4313160"/>
              <a:ext cx="3805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W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799400" y="4829040"/>
            <a:ext cx="162000" cy="466920"/>
            <a:chOff x="7799400" y="4829040"/>
            <a:chExt cx="162000" cy="466920"/>
          </a:xfrm>
        </p:grpSpPr>
        <p:sp>
          <p:nvSpPr>
            <p:cNvPr id="420" name=""/>
            <p:cNvSpPr/>
            <p:nvPr/>
          </p:nvSpPr>
          <p:spPr>
            <a:xfrm>
              <a:off x="7799400" y="4829040"/>
              <a:ext cx="16200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7799400" y="4829040"/>
              <a:ext cx="15264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972200" y="4829040"/>
            <a:ext cx="162000" cy="466920"/>
            <a:chOff x="7972200" y="4829040"/>
            <a:chExt cx="162000" cy="466920"/>
          </a:xfrm>
        </p:grpSpPr>
        <p:sp>
          <p:nvSpPr>
            <p:cNvPr id="423" name=""/>
            <p:cNvSpPr/>
            <p:nvPr/>
          </p:nvSpPr>
          <p:spPr>
            <a:xfrm>
              <a:off x="7972560" y="4829040"/>
              <a:ext cx="16164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972200" y="4829040"/>
              <a:ext cx="15228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134200" y="4829040"/>
            <a:ext cx="162000" cy="466920"/>
            <a:chOff x="8134200" y="4829040"/>
            <a:chExt cx="162000" cy="466920"/>
          </a:xfrm>
        </p:grpSpPr>
        <p:sp>
          <p:nvSpPr>
            <p:cNvPr id="426" name=""/>
            <p:cNvSpPr/>
            <p:nvPr/>
          </p:nvSpPr>
          <p:spPr>
            <a:xfrm>
              <a:off x="8134200" y="4829040"/>
              <a:ext cx="16200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134200" y="4829040"/>
              <a:ext cx="15264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8343720" y="4829040"/>
            <a:ext cx="162000" cy="466920"/>
            <a:chOff x="8343720" y="4829040"/>
            <a:chExt cx="162000" cy="466920"/>
          </a:xfrm>
        </p:grpSpPr>
        <p:sp>
          <p:nvSpPr>
            <p:cNvPr id="429" name=""/>
            <p:cNvSpPr/>
            <p:nvPr/>
          </p:nvSpPr>
          <p:spPr>
            <a:xfrm>
              <a:off x="8344080" y="4829040"/>
              <a:ext cx="16164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43720" y="4829040"/>
              <a:ext cx="15228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531280" y="4843440"/>
            <a:ext cx="162000" cy="466920"/>
            <a:chOff x="8531280" y="4843440"/>
            <a:chExt cx="162000" cy="466920"/>
          </a:xfrm>
        </p:grpSpPr>
        <p:sp>
          <p:nvSpPr>
            <p:cNvPr id="432" name=""/>
            <p:cNvSpPr/>
            <p:nvPr/>
          </p:nvSpPr>
          <p:spPr>
            <a:xfrm>
              <a:off x="8531280" y="4843440"/>
              <a:ext cx="16200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531280" y="4843440"/>
              <a:ext cx="15264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7645320" y="4578480"/>
            <a:ext cx="0" cy="742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037200" y="4265640"/>
            <a:ext cx="1608120" cy="405720"/>
            <a:chOff x="6037200" y="4265640"/>
            <a:chExt cx="1608120" cy="405720"/>
          </a:xfrm>
        </p:grpSpPr>
        <p:sp>
          <p:nvSpPr>
            <p:cNvPr id="436" name=""/>
            <p:cNvSpPr/>
            <p:nvPr/>
          </p:nvSpPr>
          <p:spPr>
            <a:xfrm>
              <a:off x="6037200" y="4632480"/>
              <a:ext cx="16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46960" y="4265640"/>
              <a:ext cx="490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365120" y="6302520"/>
            <a:ext cx="7269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1400" y="584028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79840" y="5853240"/>
            <a:ext cx="42134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374840" y="6040440"/>
            <a:ext cx="303372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7094520" y="5853240"/>
            <a:ext cx="162000" cy="466560"/>
            <a:chOff x="7094520" y="5853240"/>
            <a:chExt cx="162000" cy="466560"/>
          </a:xfrm>
        </p:grpSpPr>
        <p:sp>
          <p:nvSpPr>
            <p:cNvPr id="443" name=""/>
            <p:cNvSpPr/>
            <p:nvPr/>
          </p:nvSpPr>
          <p:spPr>
            <a:xfrm>
              <a:off x="7094520" y="585324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094520" y="585324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8167680" y="5832360"/>
            <a:ext cx="162000" cy="466920"/>
            <a:chOff x="8167680" y="5832360"/>
            <a:chExt cx="162000" cy="466920"/>
          </a:xfrm>
        </p:grpSpPr>
        <p:sp>
          <p:nvSpPr>
            <p:cNvPr id="446" name=""/>
            <p:cNvSpPr/>
            <p:nvPr/>
          </p:nvSpPr>
          <p:spPr>
            <a:xfrm>
              <a:off x="8167680" y="5832360"/>
              <a:ext cx="16200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8167680" y="5832360"/>
              <a:ext cx="15264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272360" y="5838840"/>
            <a:ext cx="162000" cy="466560"/>
            <a:chOff x="7272360" y="5838840"/>
            <a:chExt cx="162000" cy="466560"/>
          </a:xfrm>
        </p:grpSpPr>
        <p:sp>
          <p:nvSpPr>
            <p:cNvPr id="449" name=""/>
            <p:cNvSpPr/>
            <p:nvPr/>
          </p:nvSpPr>
          <p:spPr>
            <a:xfrm>
              <a:off x="7272360" y="583884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272360" y="583884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8353440" y="5853240"/>
            <a:ext cx="162000" cy="466560"/>
            <a:chOff x="8353440" y="5853240"/>
            <a:chExt cx="162000" cy="466560"/>
          </a:xfrm>
        </p:grpSpPr>
        <p:sp>
          <p:nvSpPr>
            <p:cNvPr id="452" name=""/>
            <p:cNvSpPr/>
            <p:nvPr/>
          </p:nvSpPr>
          <p:spPr>
            <a:xfrm>
              <a:off x="8353440" y="585324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8353440" y="585324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8540640" y="5867280"/>
            <a:ext cx="162000" cy="466920"/>
            <a:chOff x="8540640" y="5867280"/>
            <a:chExt cx="162000" cy="466920"/>
          </a:xfrm>
        </p:grpSpPr>
        <p:sp>
          <p:nvSpPr>
            <p:cNvPr id="455" name=""/>
            <p:cNvSpPr/>
            <p:nvPr/>
          </p:nvSpPr>
          <p:spPr>
            <a:xfrm>
              <a:off x="8540640" y="5867280"/>
              <a:ext cx="16200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8540640" y="5867280"/>
              <a:ext cx="15264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7162920" y="5610240"/>
            <a:ext cx="0" cy="7430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408560" y="5827680"/>
            <a:ext cx="81000" cy="457200"/>
            <a:chOff x="4408560" y="5827680"/>
            <a:chExt cx="81000" cy="457200"/>
          </a:xfrm>
        </p:grpSpPr>
        <p:sp>
          <p:nvSpPr>
            <p:cNvPr id="459" name=""/>
            <p:cNvSpPr/>
            <p:nvPr/>
          </p:nvSpPr>
          <p:spPr>
            <a:xfrm>
              <a:off x="4408560" y="6040440"/>
              <a:ext cx="81000" cy="2444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4408560" y="5827680"/>
              <a:ext cx="71280" cy="212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489560" y="6305400"/>
            <a:ext cx="42037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7975440" y="5853240"/>
            <a:ext cx="162000" cy="466560"/>
            <a:chOff x="7975440" y="5853240"/>
            <a:chExt cx="162000" cy="466560"/>
          </a:xfrm>
        </p:grpSpPr>
        <p:sp>
          <p:nvSpPr>
            <p:cNvPr id="463" name=""/>
            <p:cNvSpPr/>
            <p:nvPr/>
          </p:nvSpPr>
          <p:spPr>
            <a:xfrm>
              <a:off x="7975440" y="585324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975440" y="585324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7807320" y="5838840"/>
            <a:ext cx="162000" cy="466560"/>
            <a:chOff x="7807320" y="5838840"/>
            <a:chExt cx="162000" cy="466560"/>
          </a:xfrm>
        </p:grpSpPr>
        <p:sp>
          <p:nvSpPr>
            <p:cNvPr id="466" name=""/>
            <p:cNvSpPr/>
            <p:nvPr/>
          </p:nvSpPr>
          <p:spPr>
            <a:xfrm>
              <a:off x="7807320" y="583884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807320" y="583884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597800" y="5853240"/>
            <a:ext cx="162000" cy="466560"/>
            <a:chOff x="7597800" y="5853240"/>
            <a:chExt cx="162000" cy="466560"/>
          </a:xfrm>
        </p:grpSpPr>
        <p:sp>
          <p:nvSpPr>
            <p:cNvPr id="469" name=""/>
            <p:cNvSpPr/>
            <p:nvPr/>
          </p:nvSpPr>
          <p:spPr>
            <a:xfrm>
              <a:off x="7597800" y="585324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7597800" y="585324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443720" y="5867280"/>
            <a:ext cx="162000" cy="466920"/>
            <a:chOff x="7443720" y="5867280"/>
            <a:chExt cx="162000" cy="466920"/>
          </a:xfrm>
        </p:grpSpPr>
        <p:sp>
          <p:nvSpPr>
            <p:cNvPr id="472" name=""/>
            <p:cNvSpPr/>
            <p:nvPr/>
          </p:nvSpPr>
          <p:spPr>
            <a:xfrm>
              <a:off x="7443720" y="5867280"/>
              <a:ext cx="16200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443720" y="5867280"/>
              <a:ext cx="15264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425840" y="5624640"/>
            <a:ext cx="0" cy="742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449600" y="5321160"/>
            <a:ext cx="1587600" cy="345960"/>
            <a:chOff x="4449600" y="5321160"/>
            <a:chExt cx="1587600" cy="345960"/>
          </a:xfrm>
        </p:grpSpPr>
        <p:sp>
          <p:nvSpPr>
            <p:cNvPr id="476" name=""/>
            <p:cNvSpPr/>
            <p:nvPr/>
          </p:nvSpPr>
          <p:spPr>
            <a:xfrm>
              <a:off x="4449600" y="5667120"/>
              <a:ext cx="15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61880" y="5321160"/>
              <a:ext cx="304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D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781520" y="59180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i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196040" y="6048360"/>
            <a:ext cx="163512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037200" y="5335560"/>
            <a:ext cx="1141560" cy="331560"/>
            <a:chOff x="6037200" y="5335560"/>
            <a:chExt cx="1141560" cy="331560"/>
          </a:xfrm>
        </p:grpSpPr>
        <p:sp>
          <p:nvSpPr>
            <p:cNvPr id="481" name=""/>
            <p:cNvSpPr/>
            <p:nvPr/>
          </p:nvSpPr>
          <p:spPr>
            <a:xfrm>
              <a:off x="6037200" y="5667120"/>
              <a:ext cx="114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60920" y="5335560"/>
              <a:ext cx="278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350-00FB-4F3D-9EF8-63109D287D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4-01-06T06:05:21Z</dcterms:modified>
  <cp:revision>6131</cp:revision>
  <dc:subject/>
  <dc:title>PowerPoint Presentation</dc:title>
</cp:coreProperties>
</file>