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754-BE61-448C-95E7-D3E93FB6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4D9-D77D-42ED-9207-14965F80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5F2-9450-4F52-847F-C6A71316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48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40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1DA-0829-4ADB-B3A8-7F8DA183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98C-A460-41E5-8950-C594B643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EFD-9637-40CA-963D-9D6C3327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F7A-8DDC-4146-8AE2-96048DD8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115-0A38-4AC3-A6C5-032E9314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818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102-B5E9-4505-BC24-8391CA20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8AB-B681-4B30-AB3A-7C232BB6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F67-8E8E-4CAC-8E7E-89FC3916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5E0A-2988-4379-92A4-98B92DF6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2321-3FDB-4EFB-8E41-F8E453E7E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ogic Design Overview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3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kay Sava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ancı Univer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C856-F7F2-4462-8ED9-3B2E3A42A4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1200" y="2830680"/>
            <a:ext cx="1698480" cy="2684160"/>
          </a:xfrm>
          <a:custGeom>
            <a:avLst/>
            <a:gdLst>
              <a:gd name="textAreaLeft" fmla="*/ 82800 w 1698480"/>
              <a:gd name="textAreaRight" fmla="*/ 1615680 w 1698480"/>
              <a:gd name="textAreaTop" fmla="*/ 82800 h 2684160"/>
              <a:gd name="textAreaBottom" fmla="*/ 2601360 h 2684160"/>
            </a:gdLst>
            <a:ahLst/>
            <a:rect l="textAreaLeft" t="textAreaTop" r="textAreaRight" b="textAreaBottom"/>
            <a:pathLst>
              <a:path w="21600" h="34132">
                <a:moveTo>
                  <a:pt x="3600" y="0"/>
                </a:moveTo>
                <a:arcTo wR="3600" hR="3600" stAng="16200000" swAng="-5400000"/>
                <a:lnTo>
                  <a:pt x="0" y="30532"/>
                </a:lnTo>
                <a:arcTo wR="3600" hR="3600" stAng="10800000" swAng="-5400000"/>
                <a:lnTo>
                  <a:pt x="18000" y="341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Karnaugh Maps (2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= A’B’C’D’ + AB’C’D’ + A’B’CD’ + AB’CD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12880" y="1689120"/>
          <a:ext cx="5183280" cy="3871800"/>
        </p:xfrm>
        <a:graphic>
          <a:graphicData uri="http://schemas.openxmlformats.org/drawingml/2006/table">
            <a:tbl>
              <a:tblPr/>
              <a:tblGrid>
                <a:gridCol w="1218960"/>
                <a:gridCol w="887400"/>
                <a:gridCol w="1044720"/>
                <a:gridCol w="1074600"/>
                <a:gridCol w="957600"/>
              </a:tblGrid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280" y="599112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= (B+D)’ = B’D’ (DeMorgan’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20840" y="3570120"/>
            <a:ext cx="3598920" cy="114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98E-DF6C-4DE5-A9FC-C76E777700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757600" y="3338640"/>
            <a:ext cx="1670040" cy="5364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87480" y="1893960"/>
            <a:ext cx="1465200" cy="1233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Karnaugh Maps (3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560" y="5181480"/>
            <a:ext cx="74250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= A’C’ + A’B’D’+ ACD + BCD    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= A’C’ + A’B’D’+ ACD + A’B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33440" y="838080"/>
          <a:ext cx="5183280" cy="3871800"/>
        </p:xfrm>
        <a:graphic>
          <a:graphicData uri="http://schemas.openxmlformats.org/drawingml/2006/table">
            <a:tbl>
              <a:tblPr/>
              <a:tblGrid>
                <a:gridCol w="1218960"/>
                <a:gridCol w="887400"/>
                <a:gridCol w="1044720"/>
                <a:gridCol w="1074600"/>
                <a:gridCol w="957600"/>
              </a:tblGrid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741320" y="3971880"/>
            <a:ext cx="684360" cy="1049400"/>
          </a:xfrm>
          <a:custGeom>
            <a:avLst/>
            <a:gdLst/>
            <a:ahLst/>
            <a:rect l="l" t="t" r="r" b="b"/>
            <a:pathLst>
              <a:path w="431" h="661">
                <a:moveTo>
                  <a:pt x="9" y="643"/>
                </a:moveTo>
                <a:cubicBezTo>
                  <a:pt x="4" y="469"/>
                  <a:pt x="0" y="296"/>
                  <a:pt x="28" y="195"/>
                </a:cubicBezTo>
                <a:cubicBezTo>
                  <a:pt x="56" y="94"/>
                  <a:pt x="113" y="55"/>
                  <a:pt x="174" y="40"/>
                </a:cubicBezTo>
                <a:cubicBezTo>
                  <a:pt x="235" y="25"/>
                  <a:pt x="355" y="0"/>
                  <a:pt x="393" y="104"/>
                </a:cubicBezTo>
                <a:cubicBezTo>
                  <a:pt x="431" y="208"/>
                  <a:pt x="416" y="434"/>
                  <a:pt x="402" y="661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747800" y="1380240"/>
            <a:ext cx="684360" cy="1049400"/>
          </a:xfrm>
          <a:custGeom>
            <a:avLst/>
            <a:gdLst/>
            <a:ahLst/>
            <a:rect l="l" t="t" r="r" b="b"/>
            <a:pathLst>
              <a:path w="431" h="661">
                <a:moveTo>
                  <a:pt x="9" y="643"/>
                </a:moveTo>
                <a:cubicBezTo>
                  <a:pt x="4" y="469"/>
                  <a:pt x="0" y="296"/>
                  <a:pt x="28" y="195"/>
                </a:cubicBezTo>
                <a:cubicBezTo>
                  <a:pt x="56" y="94"/>
                  <a:pt x="113" y="55"/>
                  <a:pt x="174" y="40"/>
                </a:cubicBezTo>
                <a:cubicBezTo>
                  <a:pt x="235" y="25"/>
                  <a:pt x="355" y="0"/>
                  <a:pt x="393" y="104"/>
                </a:cubicBezTo>
                <a:cubicBezTo>
                  <a:pt x="431" y="208"/>
                  <a:pt x="416" y="434"/>
                  <a:pt x="402" y="661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03840" y="3338640"/>
            <a:ext cx="1466640" cy="536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86040" y="2714760"/>
            <a:ext cx="639720" cy="1160280"/>
          </a:xfrm>
          <a:custGeom>
            <a:avLst/>
            <a:gdLst>
              <a:gd name="textAreaLeft" fmla="*/ 30960 w 639720"/>
              <a:gd name="textAreaRight" fmla="*/ 608760 w 639720"/>
              <a:gd name="textAreaTop" fmla="*/ 30960 h 1160280"/>
              <a:gd name="textAreaBottom" fmla="*/ 1129320 h 1160280"/>
            </a:gdLst>
            <a:ahLst/>
            <a:rect l="textAreaLeft" t="textAreaTop" r="textAreaRight" b="textAreaBottom"/>
            <a:pathLst>
              <a:path w="21600" h="39167">
                <a:moveTo>
                  <a:pt x="3600" y="0"/>
                </a:moveTo>
                <a:arcTo wR="3600" hR="3600" stAng="16200000" swAng="-5400000"/>
                <a:lnTo>
                  <a:pt x="0" y="35567"/>
                </a:lnTo>
                <a:arcTo wR="3600" hR="3600" stAng="10800000" swAng="-5400000"/>
                <a:lnTo>
                  <a:pt x="18000" y="39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5FC-6659-42C3-BD87-31E382581F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Designing with NAN D and NOR gates - 1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many technologies, implementation of NAND or NOR gates is easier than that of AND or OR g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logic function can be realized using only NAND gates or only NOR g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1539720" y="3352680"/>
            <a:ext cx="692280" cy="69084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06640" y="35496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06640" y="38466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25600" y="368928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1840" y="32670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920" y="362592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52920" y="34830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9760" y="4240080"/>
            <a:ext cx="28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ND: C = (AB)’ = A’+B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59360" y="36133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59360" y="390996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3920" y="37386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24920" y="333072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17000" y="36892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77560" y="35463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8480" y="362412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51160" y="34066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3040" y="4883040"/>
            <a:ext cx="692280" cy="69084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889600" y="5074920"/>
            <a:ext cx="366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889600" y="5371920"/>
            <a:ext cx="366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8200" y="521964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4800" y="479736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47240" y="51562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36240" y="50133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21240" y="5668920"/>
            <a:ext cx="267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R: C = (A+B)’ = A’B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35080" y="5143680"/>
            <a:ext cx="4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35080" y="5440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4680" y="5264280"/>
            <a:ext cx="366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0280" y="48610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2720" y="521964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81720" y="50767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03440" y="48355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47840" y="51991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80120" y="35449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80120" y="383544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92720" y="5024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80120" y="530064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5960" y="4946760"/>
            <a:ext cx="711360" cy="64764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9960" y="3422520"/>
            <a:ext cx="711360" cy="64800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5F4-F635-4D7B-B739-F4E17705C1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Designing with NAN D and NOR gates - 2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sion of AND-OR network to NAND g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1504800" y="1946160"/>
            <a:ext cx="692280" cy="69084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1720" y="214308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71720" y="244008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5000" y="2282760"/>
            <a:ext cx="63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6920" y="18604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9000" y="22194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9000" y="27176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96880" y="278136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9131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60560" y="2814120"/>
            <a:ext cx="42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2000" y="332748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5400" y="314964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6880" y="2349360"/>
            <a:ext cx="711000" cy="64800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25520" y="3132000"/>
            <a:ext cx="632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859120" y="283032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836800" y="230004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24200" y="2562120"/>
            <a:ext cx="4492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33720" y="2670120"/>
            <a:ext cx="47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8160" y="247500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=AB+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55920" y="3941640"/>
            <a:ext cx="691920" cy="69084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22480" y="41385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22480" y="44355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55760" y="4278240"/>
            <a:ext cx="63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7680" y="385596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0120" y="42148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9760" y="47131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47640" y="477684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17440" y="49086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11320" y="4811760"/>
            <a:ext cx="4208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2760" y="532296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6160" y="51451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76640" y="5127480"/>
            <a:ext cx="63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909880" y="48258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887560" y="429552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74960" y="4556160"/>
            <a:ext cx="463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84480" y="4665600"/>
            <a:ext cx="47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57880" y="4470480"/>
            <a:ext cx="27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=((AB)’(CD)’)’=AB+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38480" y="421956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8240" y="504684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4480" y="4334040"/>
            <a:ext cx="69192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29120" y="460368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33D-1E41-4843-8A1A-EC43F6699C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Designing with NAN D and NOR gates - 3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sion of AND-OR Network to NOR g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1071720" y="214308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71720" y="244008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47760" y="2282760"/>
            <a:ext cx="63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6920" y="18604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9000" y="22194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9000" y="27176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9760" y="230364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29131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803680" y="2814120"/>
            <a:ext cx="420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2000" y="332748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5400" y="314964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50800" y="1957320"/>
            <a:ext cx="711360" cy="64764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68640" y="3132000"/>
            <a:ext cx="63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801880" y="283032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779560" y="230004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66960" y="2562120"/>
            <a:ext cx="4492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05280" y="267012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94880" y="247500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=(A+B)(C+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50920" y="41385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50920" y="44355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55760" y="4278240"/>
            <a:ext cx="63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7680" y="385596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0120" y="42148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9760" y="47131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17440" y="49086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11320" y="4811760"/>
            <a:ext cx="4208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12760" y="532296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6160" y="51451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76640" y="5127480"/>
            <a:ext cx="63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909880" y="48258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887560" y="429552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874960" y="4556160"/>
            <a:ext cx="463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41640" y="4665600"/>
            <a:ext cx="47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1720" y="4470480"/>
            <a:ext cx="35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=((A+B)’+(C+D)’)’=(A+B)(C+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38480" y="421956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08240" y="504684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86280" y="460368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2880" y="2792520"/>
            <a:ext cx="711360" cy="64764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09840" y="3960720"/>
            <a:ext cx="711000" cy="64764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94000" y="4802040"/>
            <a:ext cx="711000" cy="64800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65560" y="4336920"/>
            <a:ext cx="711000" cy="64800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3AD-5A53-4789-B855-1FDE1CCDE5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Designing with NAN D and NOR gates - 4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sion of AND-OR network to NAND g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923760" y="204804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0680" y="22446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0680" y="25416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23960" y="2384280"/>
            <a:ext cx="183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5880" y="19620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320" y="232092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43480" y="25858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56000" y="225900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2781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138560" y="2595600"/>
            <a:ext cx="71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00640" y="293544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15800" y="2995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92480" y="28447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64080" y="2768760"/>
            <a:ext cx="198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91200" y="316080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87480" y="4672080"/>
            <a:ext cx="69192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4040" y="486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040" y="5165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73360" y="500868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9240" y="460044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1680" y="49449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75200" y="535464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85880" y="4943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2116440" y="4831560"/>
            <a:ext cx="450720" cy="347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9280" y="493704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51320" y="4797360"/>
            <a:ext cx="69192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52840" y="4987800"/>
            <a:ext cx="77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79840" y="51166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17880" y="53118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37120" y="507528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78240" y="5132520"/>
            <a:ext cx="47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08560" y="548640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24560" y="53020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68400" y="358632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69000" y="280188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590320" y="53118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41920" y="506412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41920" y="542592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5901480" y="5115600"/>
            <a:ext cx="450720" cy="3477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03960" y="522144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91440" y="521496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05840" y="557676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32480" y="5281560"/>
            <a:ext cx="85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1840" y="5483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3560" y="564840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64360" y="2970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88480" y="54720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68920" y="2449440"/>
            <a:ext cx="711000" cy="64764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51560" y="2652840"/>
            <a:ext cx="711360" cy="64764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67760" y="5149800"/>
            <a:ext cx="711000" cy="64764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1760" y="4975200"/>
            <a:ext cx="711000" cy="64764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12A-C0F3-4811-A4D8-45B042FAB7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Hazards in Combinational Networks -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wanted switching transi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cur when different paths from input to output have different propagation del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-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hazar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etwork output may momentarily go to 0 when it should remain a constant 1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-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hazar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etwork output may momentarily go to 1 when it should remain a constant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hazar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hen the output is supposed to change (1-0 or 0-1), the output may change three times (e.g. 1-0-1-0)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2D1D-0011-40BC-AB6D-17461D9066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Hazards in Combinational Networks -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18" name=""/>
          <p:cNvSpPr/>
          <p:nvPr/>
        </p:nvSpPr>
        <p:spPr>
          <a:xfrm>
            <a:off x="2395440" y="108756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78200" y="27608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8440" y="1577880"/>
            <a:ext cx="59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33640" y="123192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13160" y="99864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280" y="14032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53520" y="941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= AB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3040" y="1514520"/>
            <a:ext cx="13176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5400000">
            <a:off x="1056600" y="1402560"/>
            <a:ext cx="450720" cy="3477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59080" y="150804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90760" y="223992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20720" y="155880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90840" y="25732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60720" y="2565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95240" y="2443320"/>
            <a:ext cx="159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40120" y="1611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1200" y="1430280"/>
            <a:ext cx="9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66800" y="22287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=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98840" y="1755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497400" y="173808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98480" y="1579680"/>
            <a:ext cx="0" cy="86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41520" y="14079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= AB’ + 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692600" y="2023920"/>
          <a:ext cx="3151080" cy="2787840"/>
        </p:xfrm>
        <a:graphic>
          <a:graphicData uri="http://schemas.openxmlformats.org/drawingml/2006/table">
            <a:tbl>
              <a:tblPr/>
              <a:tblGrid>
                <a:gridCol w="1219320"/>
                <a:gridCol w="887400"/>
                <a:gridCol w="1044360"/>
              </a:tblGrid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6129360" y="3832200"/>
            <a:ext cx="1422360" cy="335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6895080" y="3123000"/>
            <a:ext cx="857160" cy="334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943760" y="3513240"/>
            <a:ext cx="204840" cy="463320"/>
          </a:xfrm>
          <a:custGeom>
            <a:avLst/>
            <a:gdLst/>
            <a:ahLst/>
            <a:rect l="l" t="t" r="r" b="b"/>
            <a:pathLst>
              <a:path w="129" h="292">
                <a:moveTo>
                  <a:pt x="0" y="0"/>
                </a:moveTo>
                <a:cubicBezTo>
                  <a:pt x="63" y="53"/>
                  <a:pt x="127" y="106"/>
                  <a:pt x="128" y="155"/>
                </a:cubicBezTo>
                <a:cubicBezTo>
                  <a:pt x="129" y="204"/>
                  <a:pt x="27" y="271"/>
                  <a:pt x="9" y="29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98680" y="396864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-ha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3600" y="6211800"/>
            <a:ext cx="5835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87520" y="3629160"/>
            <a:ext cx="0" cy="2830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92400" y="6138720"/>
            <a:ext cx="0" cy="174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2880" y="6145200"/>
            <a:ext cx="0" cy="174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93880" y="6130800"/>
            <a:ext cx="0" cy="174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33680" y="6130800"/>
            <a:ext cx="0" cy="174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30640" y="6130800"/>
            <a:ext cx="0" cy="174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27600" y="6132600"/>
            <a:ext cx="0" cy="174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83000" y="62802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73920" y="63165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29560" y="6300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2200" y="63165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66400" y="63025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34560" y="6300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440" y="4767120"/>
            <a:ext cx="501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3600" y="5238720"/>
            <a:ext cx="501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3600" y="5732640"/>
            <a:ext cx="501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5080" y="439884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0320" y="489420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3000" y="53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1000" y="585144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989000" y="4179960"/>
            <a:ext cx="0" cy="2192400"/>
          </a:xfrm>
          <a:prstGeom prst="line">
            <a:avLst/>
          </a:prstGeom>
          <a:ln w="2844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678040" y="4157640"/>
            <a:ext cx="0" cy="2192400"/>
          </a:xfrm>
          <a:prstGeom prst="line">
            <a:avLst/>
          </a:prstGeom>
          <a:ln w="2844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419640" y="4129200"/>
            <a:ext cx="0" cy="2192400"/>
          </a:xfrm>
          <a:prstGeom prst="line">
            <a:avLst/>
          </a:prstGeom>
          <a:ln w="2844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114800" y="4145040"/>
            <a:ext cx="0" cy="2192400"/>
          </a:xfrm>
          <a:prstGeom prst="line">
            <a:avLst/>
          </a:prstGeom>
          <a:ln w="2844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1040" y="4484520"/>
            <a:ext cx="14079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9000" y="4498920"/>
            <a:ext cx="0" cy="262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89000" y="4761000"/>
            <a:ext cx="2845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040" y="5240160"/>
            <a:ext cx="28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19640" y="4986360"/>
            <a:ext cx="0" cy="262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32240" y="4998960"/>
            <a:ext cx="14079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3120" y="5464080"/>
            <a:ext cx="2133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78040" y="5464080"/>
            <a:ext cx="0" cy="262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08280" y="5738760"/>
            <a:ext cx="2235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19640" y="5943600"/>
            <a:ext cx="0" cy="262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24160" y="5950080"/>
            <a:ext cx="0" cy="261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54560" y="6195960"/>
            <a:ext cx="6681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0520" y="5943600"/>
            <a:ext cx="28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49720" y="5950080"/>
            <a:ext cx="8128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" y="314316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gate has 10 ns propagation del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61320" y="361800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= C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29120" y="1289160"/>
            <a:ext cx="711000" cy="64764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00360" y="557388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E33-D7E4-4D38-BF96-FD32053FA6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Hazards in Combinational Networks -3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2766960" y="185904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49360" y="3532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39960" y="2349360"/>
            <a:ext cx="59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05160" y="200340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84680" y="177012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5800" y="21747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35360" y="17701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14560" y="2286000"/>
            <a:ext cx="13176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5400000">
            <a:off x="1428120" y="2174040"/>
            <a:ext cx="450720" cy="3477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30240" y="227952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233028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62360" y="33447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32240" y="33368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66760" y="3214800"/>
            <a:ext cx="159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26040" y="2411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92360" y="220176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5356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84760" y="23828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868560" y="2377800"/>
            <a:ext cx="0" cy="9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170000" y="2351160"/>
            <a:ext cx="0" cy="86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532840" y="2208240"/>
            <a:ext cx="21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= AB’ + BC +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52560" y="300996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66960" y="411336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13080" y="462456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92600" y="439092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3160" y="35478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1360" y="426708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57360" y="3468600"/>
            <a:ext cx="13176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165200" y="261288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40160" y="44704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79960" y="2612880"/>
            <a:ext cx="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678200" y="3551400"/>
          <a:ext cx="3151440" cy="2761920"/>
        </p:xfrm>
        <a:graphic>
          <a:graphicData uri="http://schemas.openxmlformats.org/drawingml/2006/table">
            <a:tbl>
              <a:tblPr/>
              <a:tblGrid>
                <a:gridCol w="1219320"/>
                <a:gridCol w="887400"/>
                <a:gridCol w="1044720"/>
              </a:tblGrid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>
            <a:off x="6114960" y="5359320"/>
            <a:ext cx="1422360" cy="335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6200000">
            <a:off x="6881040" y="4650120"/>
            <a:ext cx="857160" cy="335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16200000">
            <a:off x="6917400" y="5109480"/>
            <a:ext cx="857520" cy="334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390920" y="2087640"/>
            <a:ext cx="711360" cy="64764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843-A97C-4CB1-9A92-4727577060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lip-Flop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2287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 Flip-Fl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900000" y="1612800"/>
            <a:ext cx="943200" cy="870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5400000">
            <a:off x="872280" y="2191680"/>
            <a:ext cx="246240" cy="2030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8280" y="229392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31800" y="185112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49320" y="185112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836720" y="227340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55680" y="1695600"/>
            <a:ext cx="35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78000" y="2109960"/>
            <a:ext cx="544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6120" y="1687680"/>
            <a:ext cx="35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200" y="2109960"/>
            <a:ext cx="528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222720" y="961920"/>
          <a:ext cx="1784160" cy="1825560"/>
        </p:xfrm>
        <a:graphic>
          <a:graphicData uri="http://schemas.openxmlformats.org/drawingml/2006/table">
            <a:tbl>
              <a:tblPr/>
              <a:tblGrid>
                <a:gridCol w="536400"/>
                <a:gridCol w="638280"/>
                <a:gridCol w="60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>
            <a:off x="196920" y="3538440"/>
            <a:ext cx="3838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cked JK Flip-F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6920" y="4189320"/>
            <a:ext cx="942840" cy="1087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5400000">
            <a:off x="1082880" y="4667760"/>
            <a:ext cx="246240" cy="2034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5200" y="477036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28720" y="442764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46240" y="442764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33640" y="509256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52600" y="4272120"/>
            <a:ext cx="35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46480" y="4900680"/>
            <a:ext cx="5443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3040" y="4264200"/>
            <a:ext cx="35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5680" y="4599000"/>
            <a:ext cx="528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24040" y="513720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8360" y="4973760"/>
            <a:ext cx="35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4370400" y="2979720"/>
          <a:ext cx="2886120" cy="3286080"/>
        </p:xfrm>
        <a:graphic>
          <a:graphicData uri="http://schemas.openxmlformats.org/drawingml/2006/table">
            <a:tbl>
              <a:tblPr/>
              <a:tblGrid>
                <a:gridCol w="638280"/>
                <a:gridCol w="798480"/>
                <a:gridCol w="753840"/>
                <a:gridCol w="69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"/>
          <p:cNvSpPr/>
          <p:nvPr/>
        </p:nvSpPr>
        <p:spPr>
          <a:xfrm>
            <a:off x="503280" y="5948280"/>
            <a:ext cx="3490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 = JQ’ + K’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CA2-8FDF-4A84-B236-12D2FC5E21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mbinational Logic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ic G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77960" y="1881360"/>
            <a:ext cx="1576080" cy="690120"/>
            <a:chOff x="777960" y="1881360"/>
            <a:chExt cx="1576080" cy="690120"/>
          </a:xfrm>
        </p:grpSpPr>
        <p:sp>
          <p:nvSpPr>
            <p:cNvPr id="46" name=""/>
            <p:cNvSpPr/>
            <p:nvPr/>
          </p:nvSpPr>
          <p:spPr>
            <a:xfrm>
              <a:off x="1210680" y="1881360"/>
              <a:ext cx="692280" cy="690120"/>
            </a:xfrm>
            <a:prstGeom prst="flowChartDelay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7960" y="2078280"/>
              <a:ext cx="43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77960" y="2374200"/>
              <a:ext cx="43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20960" y="2218320"/>
              <a:ext cx="4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43160" y="179532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600" y="215424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4240" y="20113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960" y="27687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: C = 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8920" y="47275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8920" y="51102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31000" y="49244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64480" y="45306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56560" y="488952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17200" y="4746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1840" y="2789280"/>
            <a:ext cx="15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: C = A+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37080" y="21049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37080" y="24019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35800" y="22305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2640" y="182232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94720" y="218124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69600" y="20383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52200" y="5494320"/>
            <a:ext cx="19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OR: C =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1276920" y="4729680"/>
            <a:ext cx="725400" cy="58104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33560" y="4957920"/>
            <a:ext cx="114480" cy="10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7640" y="5030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2840" y="48196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60640" y="50115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64280" y="48196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0880" y="553248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: C = 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784840" y="4573440"/>
            <a:ext cx="1058400" cy="690480"/>
            <a:chOff x="5784840" y="4573440"/>
            <a:chExt cx="1058400" cy="690480"/>
          </a:xfrm>
        </p:grpSpPr>
        <p:sp>
          <p:nvSpPr>
            <p:cNvPr id="76" name=""/>
            <p:cNvSpPr/>
            <p:nvPr/>
          </p:nvSpPr>
          <p:spPr>
            <a:xfrm>
              <a:off x="5784840" y="4732200"/>
              <a:ext cx="1058400" cy="369720"/>
            </a:xfrm>
            <a:custGeom>
              <a:avLst/>
              <a:gdLst/>
              <a:ahLst/>
              <a:rect l="l" t="t" r="r" b="b"/>
              <a:pathLst>
                <a:path w="493" h="130">
                  <a:moveTo>
                    <a:pt x="0" y="0"/>
                  </a:moveTo>
                  <a:lnTo>
                    <a:pt x="246" y="0"/>
                  </a:lnTo>
                  <a:moveTo>
                    <a:pt x="0" y="130"/>
                  </a:moveTo>
                  <a:lnTo>
                    <a:pt x="246" y="130"/>
                  </a:lnTo>
                  <a:moveTo>
                    <a:pt x="493" y="65"/>
                  </a:moveTo>
                  <a:lnTo>
                    <a:pt x="246" y="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60880" y="4573440"/>
              <a:ext cx="703800" cy="69048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40" y="15"/>
                  </a:moveTo>
                  <a:cubicBezTo>
                    <a:pt x="35" y="23"/>
                    <a:pt x="25" y="28"/>
                    <a:pt x="12" y="30"/>
                  </a:cubicBezTo>
                  <a:lnTo>
                    <a:pt x="12" y="30"/>
                  </a:lnTo>
                  <a:lnTo>
                    <a:pt x="0" y="30"/>
                  </a:lnTo>
                  <a:cubicBezTo>
                    <a:pt x="8" y="21"/>
                    <a:pt x="8" y="10"/>
                    <a:pt x="0" y="0"/>
                  </a:cubicBezTo>
                  <a:lnTo>
                    <a:pt x="0" y="0"/>
                  </a:lnTo>
                  <a:lnTo>
                    <a:pt x="12" y="0"/>
                  </a:lnTo>
                  <a:cubicBezTo>
                    <a:pt x="25" y="2"/>
                    <a:pt x="35" y="8"/>
                    <a:pt x="40" y="15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89960" y="4573440"/>
              <a:ext cx="775080" cy="69048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5"/>
                  </a:moveTo>
                  <a:cubicBezTo>
                    <a:pt x="39" y="23"/>
                    <a:pt x="29" y="28"/>
                    <a:pt x="16" y="30"/>
                  </a:cubicBezTo>
                  <a:lnTo>
                    <a:pt x="16" y="30"/>
                  </a:lnTo>
                  <a:lnTo>
                    <a:pt x="4" y="30"/>
                  </a:lnTo>
                  <a:cubicBezTo>
                    <a:pt x="12" y="21"/>
                    <a:pt x="12" y="10"/>
                    <a:pt x="4" y="0"/>
                  </a:cubicBezTo>
                  <a:lnTo>
                    <a:pt x="4" y="0"/>
                  </a:lnTo>
                  <a:lnTo>
                    <a:pt x="16" y="0"/>
                  </a:lnTo>
                  <a:cubicBezTo>
                    <a:pt x="29" y="2"/>
                    <a:pt x="39" y="8"/>
                    <a:pt x="44" y="15"/>
                  </a:cubicBezTo>
                  <a:moveTo>
                    <a:pt x="0" y="30"/>
                  </a:moveTo>
                  <a:cubicBezTo>
                    <a:pt x="8" y="21"/>
                    <a:pt x="8" y="10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813280" y="1927080"/>
            <a:ext cx="711360" cy="64800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E92-0820-4E91-8974-5DA35B051B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atches -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20400" y="988920"/>
            <a:ext cx="2097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-R La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1555920" y="237636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57360" y="3819600"/>
            <a:ext cx="73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84560" y="2540160"/>
            <a:ext cx="7160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80440" y="213660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37600" y="359892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23640" y="2352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87720" y="247500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08160" y="360036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49640" y="3664080"/>
            <a:ext cx="7160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1857240" y="2762280"/>
            <a:ext cx="162576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497400" y="25448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43200" y="327024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43200" y="3489480"/>
            <a:ext cx="45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3503520" y="346500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879560" y="2943000"/>
            <a:ext cx="162576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65160" y="269568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93960" y="2670120"/>
            <a:ext cx="45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44840" y="2495520"/>
            <a:ext cx="13176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38360" y="3605040"/>
            <a:ext cx="13176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23280" y="3419640"/>
            <a:ext cx="4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4979880" y="1387440"/>
          <a:ext cx="2886120" cy="3286080"/>
        </p:xfrm>
        <a:graphic>
          <a:graphicData uri="http://schemas.openxmlformats.org/drawingml/2006/table">
            <a:tbl>
              <a:tblPr/>
              <a:tblGrid>
                <a:gridCol w="638280"/>
                <a:gridCol w="798480"/>
                <a:gridCol w="754200"/>
                <a:gridCol w="695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7" name=""/>
          <p:cNvSpPr/>
          <p:nvPr/>
        </p:nvSpPr>
        <p:spPr>
          <a:xfrm>
            <a:off x="2259000" y="2187720"/>
            <a:ext cx="812880" cy="70632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08240" y="3297240"/>
            <a:ext cx="812880" cy="70632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E8F-A88D-47EC-85D1-213214B505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181240" y="279576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atches -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ted D La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5280120" y="1687680"/>
          <a:ext cx="2886120" cy="3286080"/>
        </p:xfrm>
        <a:graphic>
          <a:graphicData uri="http://schemas.openxmlformats.org/drawingml/2006/table">
            <a:tbl>
              <a:tblPr/>
              <a:tblGrid>
                <a:gridCol w="638280"/>
                <a:gridCol w="798480"/>
                <a:gridCol w="754200"/>
                <a:gridCol w="695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"/>
          <p:cNvSpPr/>
          <p:nvPr/>
        </p:nvSpPr>
        <p:spPr>
          <a:xfrm>
            <a:off x="2181240" y="181620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08400" y="31258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92280" y="2335320"/>
            <a:ext cx="149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7240" y="1960560"/>
            <a:ext cx="148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840" y="17413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8400" y="213048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114560" y="2286000"/>
            <a:ext cx="13176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5400000">
            <a:off x="1428480" y="2895480"/>
            <a:ext cx="290520" cy="274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16120" y="297504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678200" y="2924280"/>
            <a:ext cx="38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1865160" y="3027240"/>
            <a:ext cx="32544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78080" y="294480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84320" y="3125880"/>
            <a:ext cx="61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170000" y="2351160"/>
            <a:ext cx="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81240" y="379260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9800" y="5091120"/>
            <a:ext cx="249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408560" y="3112560"/>
            <a:ext cx="0" cy="19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19160" y="3384720"/>
            <a:ext cx="2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165120" y="334656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176120" y="304812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96960" y="4351320"/>
            <a:ext cx="14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2200" y="41227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171960" y="2162160"/>
            <a:ext cx="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866680" y="2162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162240" y="3333600"/>
            <a:ext cx="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885760" y="411480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4840" y="3060720"/>
            <a:ext cx="13176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905120" y="338148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9800" y="398448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30240" y="3917880"/>
            <a:ext cx="13176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5280" y="5484960"/>
            <a:ext cx="56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DG + G’Q + 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76440" y="2782800"/>
            <a:ext cx="812880" cy="70668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10A-E5AB-485B-B742-0E587981B2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ealy Sequential Network Desig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 Model of Mealy Sequential Desig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2184480" y="2306520"/>
            <a:ext cx="1915920" cy="222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bi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929200" y="3483000"/>
            <a:ext cx="928800" cy="106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93760" y="2655720"/>
            <a:ext cx="976320" cy="282600"/>
          </a:xfrm>
          <a:prstGeom prst="rightArrow">
            <a:avLst>
              <a:gd name="adj1" fmla="val 50000"/>
              <a:gd name="adj2" fmla="val 863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2920" y="2276640"/>
            <a:ext cx="14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puts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03640" y="3854520"/>
            <a:ext cx="1817640" cy="398520"/>
          </a:xfrm>
          <a:prstGeom prst="rightArrow">
            <a:avLst>
              <a:gd name="adj1" fmla="val 40111"/>
              <a:gd name="adj2" fmla="val 629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97160" y="2584440"/>
            <a:ext cx="1818000" cy="398520"/>
          </a:xfrm>
          <a:prstGeom prst="rightArrow">
            <a:avLst>
              <a:gd name="adj1" fmla="val 40111"/>
              <a:gd name="adj2" fmla="val 62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19320" y="4049640"/>
            <a:ext cx="12996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19320" y="5195880"/>
            <a:ext cx="627048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7520" y="3983040"/>
            <a:ext cx="976320" cy="282600"/>
          </a:xfrm>
          <a:prstGeom prst="rightArrow">
            <a:avLst>
              <a:gd name="adj1" fmla="val 50000"/>
              <a:gd name="adj2" fmla="val 863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65960" y="4043520"/>
            <a:ext cx="130320" cy="12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3320" y="4033800"/>
            <a:ext cx="64116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08760" y="2573280"/>
            <a:ext cx="21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puts 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79960" y="3287880"/>
            <a:ext cx="14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788160" y="359568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5400000">
            <a:off x="5907600" y="4294800"/>
            <a:ext cx="245880" cy="2034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659560" y="439740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81480" y="4213080"/>
            <a:ext cx="5288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8520" y="57006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s depend on both present state and presen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66D-2817-405A-A02B-35F8813DCA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560" y="1569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ealy Machine – Example (1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560" y="775800"/>
            <a:ext cx="83818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code conver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a BCD digit to another code by adding 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, (1001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(0011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(1100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ial input/output, one bit at a time starting LS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3801960" y="2889360"/>
            <a:ext cx="507960" cy="46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76440" y="3753000"/>
            <a:ext cx="507960" cy="46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89040" y="4795920"/>
            <a:ext cx="508320" cy="46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03440" y="5780160"/>
            <a:ext cx="507960" cy="46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126040" y="3803760"/>
            <a:ext cx="507960" cy="46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24600" y="4832280"/>
            <a:ext cx="507960" cy="46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138640" y="5830920"/>
            <a:ext cx="507960" cy="46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2931840" y="3294000"/>
            <a:ext cx="942840" cy="53820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743200" y="4224240"/>
            <a:ext cx="0" cy="55080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51120" y="5248440"/>
            <a:ext cx="0" cy="55080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8400" y="4260960"/>
            <a:ext cx="0" cy="55080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92800" y="5291280"/>
            <a:ext cx="0" cy="55080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3265560"/>
            <a:ext cx="973080" cy="5810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292400" y="6008760"/>
            <a:ext cx="120456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1278000" y="3092040"/>
            <a:ext cx="14400" cy="2916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306440" y="3105000"/>
            <a:ext cx="249552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652720" y="6087960"/>
            <a:ext cx="12049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858000" y="3069720"/>
            <a:ext cx="14400" cy="30322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319640" y="3111480"/>
            <a:ext cx="2538360" cy="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30760" y="32497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75040" y="4064040"/>
            <a:ext cx="2163600" cy="97308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005280" y="5195880"/>
            <a:ext cx="2162160" cy="7556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138400" y="42703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734840" y="530208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/0, 1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91000" y="52434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19800" y="40100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58040" y="3203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59040" y="42782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/0, 1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84960" y="53229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7200" y="419112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/0, 1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950160" y="40608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212720" y="25812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89800" y="377496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67480" y="48276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075400" y="606888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601240" y="37018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01320" y="48499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713920" y="614196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389-F2E5-4393-8499-7CDA959098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ealy Machine – Example (2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e 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798480" y="1562040"/>
          <a:ext cx="6095880" cy="35719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8960"/>
                <a:gridCol w="121932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xt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put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put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put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put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"/>
          <p:cNvSpPr/>
          <p:nvPr/>
        </p:nvSpPr>
        <p:spPr>
          <a:xfrm>
            <a:off x="398520" y="5278320"/>
            <a:ext cx="84405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 stat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ree flip-f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hallen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tate assignment to FF so that logic is the simpl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740-B437-4562-BD93-02E9C495BA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ealy Machine – Example (3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Assign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240" y="1693800"/>
          <a:ext cx="3151080" cy="2671920"/>
        </p:xfrm>
        <a:graphic>
          <a:graphicData uri="http://schemas.openxmlformats.org/drawingml/2006/table">
            <a:tbl>
              <a:tblPr/>
              <a:tblGrid>
                <a:gridCol w="1218960"/>
                <a:gridCol w="887400"/>
                <a:gridCol w="104472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3338640" y="2473200"/>
          <a:ext cx="5616360" cy="3695760"/>
        </p:xfrm>
        <a:graphic>
          <a:graphicData uri="http://schemas.openxmlformats.org/drawingml/2006/table">
            <a:tbl>
              <a:tblPr/>
              <a:tblGrid>
                <a:gridCol w="1204920"/>
                <a:gridCol w="1087200"/>
                <a:gridCol w="1117800"/>
                <a:gridCol w="1176120"/>
                <a:gridCol w="103032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1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Q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3" name=""/>
          <p:cNvSpPr/>
          <p:nvPr/>
        </p:nvSpPr>
        <p:spPr>
          <a:xfrm>
            <a:off x="974880" y="4440240"/>
            <a:ext cx="2604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ignment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25720" y="6159600"/>
            <a:ext cx="2605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ition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EF8-7D8D-445A-961B-CC20620DCB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ealy Machine – Example (4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zation of Code Conver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1803240" y="3360600"/>
            <a:ext cx="692280" cy="69084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03240" y="238140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4000" y="4940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77920" y="2325600"/>
            <a:ext cx="406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5400000">
            <a:off x="863280" y="3824280"/>
            <a:ext cx="290520" cy="2746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165320" y="388764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612880" y="3713040"/>
            <a:ext cx="19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811600" y="4446720"/>
            <a:ext cx="453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03240" y="435780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014640" y="2734920"/>
            <a:ext cx="0" cy="14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79440" y="3949560"/>
            <a:ext cx="5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003120" y="421488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-31320" y="43718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822400" y="371124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631960" y="2727360"/>
            <a:ext cx="37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608040" y="3957480"/>
            <a:ext cx="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609640" y="4708440"/>
            <a:ext cx="671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557600" y="3665520"/>
            <a:ext cx="13176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5360" y="4506840"/>
            <a:ext cx="15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8200" y="4454640"/>
            <a:ext cx="13176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79800" y="4227480"/>
            <a:ext cx="709920" cy="870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4852080" y="4820400"/>
            <a:ext cx="245880" cy="2030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614840" y="493704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32440" y="4465800"/>
            <a:ext cx="74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586480" y="4494240"/>
            <a:ext cx="62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602320" y="4916520"/>
            <a:ext cx="58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95720" y="4156200"/>
            <a:ext cx="4269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533600" y="251460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533600" y="272880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542960" y="295272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5240" y="266220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38280" y="371952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538280" y="350532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8040" y="396072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41520" y="472284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36840" y="491796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07520" y="3987720"/>
            <a:ext cx="4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 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87640" y="2535120"/>
            <a:ext cx="406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187640" y="2749680"/>
            <a:ext cx="406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158840" y="3306600"/>
            <a:ext cx="406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66040" y="3544920"/>
            <a:ext cx="441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82800" y="4497480"/>
            <a:ext cx="504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018440" y="4749840"/>
            <a:ext cx="441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98760" y="365760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98760" y="464508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89320" y="411804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984480" y="440532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75120" y="3022560"/>
            <a:ext cx="709560" cy="870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5400000">
            <a:off x="4861440" y="3615480"/>
            <a:ext cx="245880" cy="2034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610160" y="373212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10240" y="328932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597640" y="371160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86280" y="1839960"/>
            <a:ext cx="709560" cy="869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5400000">
            <a:off x="4872240" y="2432520"/>
            <a:ext cx="246240" cy="2034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21320" y="254952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607000" y="210672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08800" y="252900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433760" y="3193920"/>
            <a:ext cx="4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618080" y="2554200"/>
            <a:ext cx="0" cy="23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40240" y="2025720"/>
            <a:ext cx="45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51480" y="4883040"/>
            <a:ext cx="13176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11800" y="478008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907320" y="506736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67560" y="5342040"/>
            <a:ext cx="45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16480" y="52052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 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07120" y="4017960"/>
            <a:ext cx="69228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902280" y="430524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759280" y="4130640"/>
            <a:ext cx="4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68400" y="3965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477200" y="4602240"/>
            <a:ext cx="691920" cy="69048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172360" y="4889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47000" y="512748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299360" y="4756320"/>
            <a:ext cx="16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7300800" y="438588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039080" y="436572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00880" y="494676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05080" y="478620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62880" y="496080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030200" y="1839960"/>
            <a:ext cx="441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16520" y="3016080"/>
            <a:ext cx="406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88160" y="1913040"/>
            <a:ext cx="406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95360" y="3516480"/>
            <a:ext cx="441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79520" y="2340000"/>
            <a:ext cx="441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40360" y="3110040"/>
            <a:ext cx="406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619240" y="4576680"/>
            <a:ext cx="441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651640" y="4199040"/>
            <a:ext cx="406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019-BBFE-4782-A8D0-4DD4CAD0D5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ore Machin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utput is only function of the present state, independent of the inpu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put determines the next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2184480" y="2978280"/>
            <a:ext cx="1915920" cy="2220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bi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929200" y="4154400"/>
            <a:ext cx="928800" cy="106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93760" y="3327480"/>
            <a:ext cx="976320" cy="282600"/>
          </a:xfrm>
          <a:prstGeom prst="rightArrow">
            <a:avLst>
              <a:gd name="adj1" fmla="val 50000"/>
              <a:gd name="adj2" fmla="val 863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2920" y="2948040"/>
            <a:ext cx="14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puts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103640" y="4525920"/>
            <a:ext cx="1817640" cy="398520"/>
          </a:xfrm>
          <a:prstGeom prst="rightArrow">
            <a:avLst>
              <a:gd name="adj1" fmla="val 40111"/>
              <a:gd name="adj2" fmla="val 629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097160" y="3255840"/>
            <a:ext cx="1818000" cy="398520"/>
          </a:xfrm>
          <a:prstGeom prst="rightArrow">
            <a:avLst>
              <a:gd name="adj1" fmla="val 40111"/>
              <a:gd name="adj2" fmla="val 62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219320" y="4721400"/>
            <a:ext cx="129960" cy="12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219320" y="5867280"/>
            <a:ext cx="627048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217520" y="4654440"/>
            <a:ext cx="976320" cy="282600"/>
          </a:xfrm>
          <a:prstGeom prst="rightArrow">
            <a:avLst>
              <a:gd name="adj1" fmla="val 50000"/>
              <a:gd name="adj2" fmla="val 863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365960" y="4714920"/>
            <a:ext cx="13032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3320" y="4705200"/>
            <a:ext cx="64116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08760" y="3244680"/>
            <a:ext cx="21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puts 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79960" y="3959280"/>
            <a:ext cx="14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788160" y="426708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5400000">
            <a:off x="5907240" y="4966200"/>
            <a:ext cx="246240" cy="2034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659560" y="506880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181480" y="4884840"/>
            <a:ext cx="528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3D4-8B11-4C3F-9023-E4DD4220B0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quential Network Timing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ing diagram for Code Conver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858960" y="1806480"/>
            <a:ext cx="0" cy="4167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-4320" y="2084400"/>
            <a:ext cx="7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6720" y="29574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346040" y="2517840"/>
            <a:ext cx="0" cy="34416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1000" y="2549520"/>
            <a:ext cx="8404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866880" y="2073240"/>
            <a:ext cx="968400" cy="496080"/>
            <a:chOff x="866880" y="2073240"/>
            <a:chExt cx="968400" cy="496080"/>
          </a:xfrm>
        </p:grpSpPr>
        <p:sp>
          <p:nvSpPr>
            <p:cNvPr id="700" name=""/>
            <p:cNvSpPr/>
            <p:nvPr/>
          </p:nvSpPr>
          <p:spPr>
            <a:xfrm>
              <a:off x="866880" y="2556000"/>
              <a:ext cx="487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47840" y="2079720"/>
              <a:ext cx="4874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49280" y="2073240"/>
              <a:ext cx="0" cy="487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25560" y="2082240"/>
              <a:ext cx="0" cy="487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828800" y="2073240"/>
            <a:ext cx="968400" cy="496080"/>
            <a:chOff x="1828800" y="2073240"/>
            <a:chExt cx="968400" cy="496080"/>
          </a:xfrm>
        </p:grpSpPr>
        <p:sp>
          <p:nvSpPr>
            <p:cNvPr id="705" name=""/>
            <p:cNvSpPr/>
            <p:nvPr/>
          </p:nvSpPr>
          <p:spPr>
            <a:xfrm>
              <a:off x="1828800" y="2556000"/>
              <a:ext cx="487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309760" y="2079720"/>
              <a:ext cx="4874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11200" y="2073240"/>
              <a:ext cx="0" cy="487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87480" y="2082240"/>
              <a:ext cx="0" cy="487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2786040" y="2068560"/>
            <a:ext cx="968400" cy="496080"/>
            <a:chOff x="2786040" y="2068560"/>
            <a:chExt cx="968400" cy="496080"/>
          </a:xfrm>
        </p:grpSpPr>
        <p:sp>
          <p:nvSpPr>
            <p:cNvPr id="710" name=""/>
            <p:cNvSpPr/>
            <p:nvPr/>
          </p:nvSpPr>
          <p:spPr>
            <a:xfrm>
              <a:off x="2786040" y="2551320"/>
              <a:ext cx="487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267000" y="2075040"/>
              <a:ext cx="4874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68440" y="2068560"/>
              <a:ext cx="0" cy="487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44720" y="2077560"/>
              <a:ext cx="0" cy="487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743280" y="2063880"/>
            <a:ext cx="968400" cy="496080"/>
            <a:chOff x="3743280" y="2063880"/>
            <a:chExt cx="968400" cy="496080"/>
          </a:xfrm>
        </p:grpSpPr>
        <p:sp>
          <p:nvSpPr>
            <p:cNvPr id="715" name=""/>
            <p:cNvSpPr/>
            <p:nvPr/>
          </p:nvSpPr>
          <p:spPr>
            <a:xfrm>
              <a:off x="3743280" y="2546640"/>
              <a:ext cx="487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24240" y="2070360"/>
              <a:ext cx="4874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25680" y="2063880"/>
              <a:ext cx="0" cy="487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01960" y="2072880"/>
              <a:ext cx="0" cy="487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691160" y="2063880"/>
            <a:ext cx="968400" cy="496080"/>
            <a:chOff x="4691160" y="2063880"/>
            <a:chExt cx="968400" cy="496080"/>
          </a:xfrm>
        </p:grpSpPr>
        <p:sp>
          <p:nvSpPr>
            <p:cNvPr id="720" name=""/>
            <p:cNvSpPr/>
            <p:nvPr/>
          </p:nvSpPr>
          <p:spPr>
            <a:xfrm>
              <a:off x="4691160" y="2546640"/>
              <a:ext cx="487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172120" y="2070360"/>
              <a:ext cx="4874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73560" y="2063880"/>
              <a:ext cx="0" cy="487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49840" y="2072880"/>
              <a:ext cx="0" cy="487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648400" y="2058840"/>
            <a:ext cx="968400" cy="496080"/>
            <a:chOff x="5648400" y="2058840"/>
            <a:chExt cx="968400" cy="496080"/>
          </a:xfrm>
        </p:grpSpPr>
        <p:sp>
          <p:nvSpPr>
            <p:cNvPr id="725" name=""/>
            <p:cNvSpPr/>
            <p:nvPr/>
          </p:nvSpPr>
          <p:spPr>
            <a:xfrm>
              <a:off x="5648400" y="2541600"/>
              <a:ext cx="487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129360" y="2065320"/>
              <a:ext cx="4874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30800" y="2058840"/>
              <a:ext cx="0" cy="487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607080" y="2067840"/>
              <a:ext cx="0" cy="487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6600960" y="2063880"/>
            <a:ext cx="968400" cy="496080"/>
            <a:chOff x="6600960" y="2063880"/>
            <a:chExt cx="968400" cy="496080"/>
          </a:xfrm>
        </p:grpSpPr>
        <p:sp>
          <p:nvSpPr>
            <p:cNvPr id="730" name=""/>
            <p:cNvSpPr/>
            <p:nvPr/>
          </p:nvSpPr>
          <p:spPr>
            <a:xfrm>
              <a:off x="6600960" y="2546640"/>
              <a:ext cx="487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81920" y="2070360"/>
              <a:ext cx="4874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83360" y="2063880"/>
              <a:ext cx="0" cy="487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559640" y="2072880"/>
              <a:ext cx="0" cy="487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7558200" y="2070000"/>
            <a:ext cx="968400" cy="496080"/>
            <a:chOff x="7558200" y="2070000"/>
            <a:chExt cx="968400" cy="496080"/>
          </a:xfrm>
        </p:grpSpPr>
        <p:sp>
          <p:nvSpPr>
            <p:cNvPr id="735" name=""/>
            <p:cNvSpPr/>
            <p:nvPr/>
          </p:nvSpPr>
          <p:spPr>
            <a:xfrm>
              <a:off x="7558200" y="2552760"/>
              <a:ext cx="487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39160" y="2076480"/>
              <a:ext cx="4874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40600" y="2070000"/>
              <a:ext cx="0" cy="487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516880" y="2079000"/>
              <a:ext cx="0" cy="487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299880" y="3355920"/>
            <a:ext cx="8404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5200" y="4280040"/>
            <a:ext cx="8404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03120" y="5159520"/>
            <a:ext cx="8404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311560" y="2495520"/>
            <a:ext cx="0" cy="34416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268800" y="2511360"/>
            <a:ext cx="0" cy="34416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227480" y="2523600"/>
            <a:ext cx="0" cy="34419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170320" y="2525760"/>
            <a:ext cx="0" cy="34416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12840" y="5969160"/>
            <a:ext cx="8404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135840" y="2475000"/>
            <a:ext cx="0" cy="34416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080120" y="2488680"/>
            <a:ext cx="0" cy="34419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037360" y="2488680"/>
            <a:ext cx="0" cy="34419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847800" y="3346560"/>
            <a:ext cx="170640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33680" y="2846520"/>
            <a:ext cx="102060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556000" y="2849400"/>
            <a:ext cx="0" cy="5018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538440" y="2858400"/>
            <a:ext cx="0" cy="5014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48160" y="2855880"/>
            <a:ext cx="102060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70480" y="2858400"/>
            <a:ext cx="0" cy="5014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452920" y="2868480"/>
            <a:ext cx="0" cy="5018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343640" y="2865600"/>
            <a:ext cx="1430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960" y="2868480"/>
            <a:ext cx="0" cy="5018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67320" y="3351240"/>
            <a:ext cx="1901880" cy="4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533760" y="3365640"/>
            <a:ext cx="944640" cy="4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002960" y="2944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82520" y="2952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84400" y="293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814720" y="2936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57560" y="295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24640" y="2952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62880" y="2930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715520" y="2949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66880" y="3809880"/>
            <a:ext cx="4190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66880" y="4276800"/>
            <a:ext cx="4190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276200" y="3809880"/>
            <a:ext cx="162000" cy="466920"/>
            <a:chOff x="1276200" y="3809880"/>
            <a:chExt cx="162000" cy="466920"/>
          </a:xfrm>
        </p:grpSpPr>
        <p:sp>
          <p:nvSpPr>
            <p:cNvPr id="772" name=""/>
            <p:cNvSpPr/>
            <p:nvPr/>
          </p:nvSpPr>
          <p:spPr>
            <a:xfrm>
              <a:off x="1276200" y="3809880"/>
              <a:ext cx="16200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276200" y="3809880"/>
              <a:ext cx="152640" cy="466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1438200" y="3800520"/>
            <a:ext cx="962280" cy="480960"/>
            <a:chOff x="1438200" y="3800520"/>
            <a:chExt cx="962280" cy="480960"/>
          </a:xfrm>
        </p:grpSpPr>
        <p:sp>
          <p:nvSpPr>
            <p:cNvPr id="775" name=""/>
            <p:cNvSpPr/>
            <p:nvPr/>
          </p:nvSpPr>
          <p:spPr>
            <a:xfrm>
              <a:off x="1438200" y="3809880"/>
              <a:ext cx="7905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38200" y="4276800"/>
              <a:ext cx="809640" cy="4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2238480" y="3800520"/>
              <a:ext cx="162000" cy="466560"/>
              <a:chOff x="2238480" y="3800520"/>
              <a:chExt cx="162000" cy="466560"/>
            </a:xfrm>
          </p:grpSpPr>
          <p:sp>
            <p:nvSpPr>
              <p:cNvPr id="778" name=""/>
              <p:cNvSpPr/>
              <p:nvPr/>
            </p:nvSpPr>
            <p:spPr>
              <a:xfrm>
                <a:off x="2238480" y="3800520"/>
                <a:ext cx="162000" cy="4568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2238480" y="3800520"/>
                <a:ext cx="152640" cy="466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390760" y="3800520"/>
            <a:ext cx="961560" cy="480960"/>
            <a:chOff x="2390760" y="3800520"/>
            <a:chExt cx="961560" cy="480960"/>
          </a:xfrm>
        </p:grpSpPr>
        <p:sp>
          <p:nvSpPr>
            <p:cNvPr id="781" name=""/>
            <p:cNvSpPr/>
            <p:nvPr/>
          </p:nvSpPr>
          <p:spPr>
            <a:xfrm>
              <a:off x="2390760" y="3809880"/>
              <a:ext cx="790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390760" y="4276800"/>
              <a:ext cx="809280" cy="4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3190320" y="3800520"/>
              <a:ext cx="162000" cy="466560"/>
              <a:chOff x="3190320" y="3800520"/>
              <a:chExt cx="162000" cy="466560"/>
            </a:xfrm>
          </p:grpSpPr>
          <p:sp>
            <p:nvSpPr>
              <p:cNvPr id="784" name=""/>
              <p:cNvSpPr/>
              <p:nvPr/>
            </p:nvSpPr>
            <p:spPr>
              <a:xfrm>
                <a:off x="3190680" y="3800520"/>
                <a:ext cx="161640" cy="4568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3190320" y="3800520"/>
                <a:ext cx="152280" cy="466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6" name=""/>
          <p:cNvGrpSpPr/>
          <p:nvPr/>
        </p:nvGrpSpPr>
        <p:grpSpPr>
          <a:xfrm>
            <a:off x="3352680" y="3800520"/>
            <a:ext cx="962280" cy="480960"/>
            <a:chOff x="3352680" y="3800520"/>
            <a:chExt cx="962280" cy="480960"/>
          </a:xfrm>
        </p:grpSpPr>
        <p:sp>
          <p:nvSpPr>
            <p:cNvPr id="787" name=""/>
            <p:cNvSpPr/>
            <p:nvPr/>
          </p:nvSpPr>
          <p:spPr>
            <a:xfrm>
              <a:off x="3352680" y="3809880"/>
              <a:ext cx="7905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352680" y="4276800"/>
              <a:ext cx="809640" cy="4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4152960" y="3800520"/>
              <a:ext cx="162000" cy="466560"/>
              <a:chOff x="4152960" y="3800520"/>
              <a:chExt cx="162000" cy="466560"/>
            </a:xfrm>
          </p:grpSpPr>
          <p:sp>
            <p:nvSpPr>
              <p:cNvPr id="790" name=""/>
              <p:cNvSpPr/>
              <p:nvPr/>
            </p:nvSpPr>
            <p:spPr>
              <a:xfrm>
                <a:off x="4152960" y="3800520"/>
                <a:ext cx="162000" cy="4568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4152960" y="3800520"/>
                <a:ext cx="152640" cy="466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"/>
          <p:cNvGrpSpPr/>
          <p:nvPr/>
        </p:nvGrpSpPr>
        <p:grpSpPr>
          <a:xfrm>
            <a:off x="4295880" y="3800520"/>
            <a:ext cx="961560" cy="480960"/>
            <a:chOff x="4295880" y="3800520"/>
            <a:chExt cx="961560" cy="480960"/>
          </a:xfrm>
        </p:grpSpPr>
        <p:sp>
          <p:nvSpPr>
            <p:cNvPr id="793" name=""/>
            <p:cNvSpPr/>
            <p:nvPr/>
          </p:nvSpPr>
          <p:spPr>
            <a:xfrm>
              <a:off x="4295880" y="3809880"/>
              <a:ext cx="790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95880" y="4276800"/>
              <a:ext cx="809280" cy="4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5095440" y="3800520"/>
              <a:ext cx="162000" cy="466560"/>
              <a:chOff x="5095440" y="3800520"/>
              <a:chExt cx="162000" cy="466560"/>
            </a:xfrm>
          </p:grpSpPr>
          <p:sp>
            <p:nvSpPr>
              <p:cNvPr id="796" name=""/>
              <p:cNvSpPr/>
              <p:nvPr/>
            </p:nvSpPr>
            <p:spPr>
              <a:xfrm>
                <a:off x="5095800" y="3800520"/>
                <a:ext cx="161640" cy="4568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5095440" y="3800520"/>
                <a:ext cx="152280" cy="466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8" name=""/>
          <p:cNvGrpSpPr/>
          <p:nvPr/>
        </p:nvGrpSpPr>
        <p:grpSpPr>
          <a:xfrm>
            <a:off x="5257800" y="3800520"/>
            <a:ext cx="961560" cy="480960"/>
            <a:chOff x="5257800" y="3800520"/>
            <a:chExt cx="961560" cy="480960"/>
          </a:xfrm>
        </p:grpSpPr>
        <p:sp>
          <p:nvSpPr>
            <p:cNvPr id="799" name=""/>
            <p:cNvSpPr/>
            <p:nvPr/>
          </p:nvSpPr>
          <p:spPr>
            <a:xfrm>
              <a:off x="5257800" y="3809880"/>
              <a:ext cx="790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257800" y="4276800"/>
              <a:ext cx="809280" cy="4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6057360" y="3800520"/>
              <a:ext cx="162000" cy="466560"/>
              <a:chOff x="6057360" y="3800520"/>
              <a:chExt cx="162000" cy="466560"/>
            </a:xfrm>
          </p:grpSpPr>
          <p:sp>
            <p:nvSpPr>
              <p:cNvPr id="802" name=""/>
              <p:cNvSpPr/>
              <p:nvPr/>
            </p:nvSpPr>
            <p:spPr>
              <a:xfrm>
                <a:off x="6057720" y="3800520"/>
                <a:ext cx="161640" cy="4568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6057360" y="3800520"/>
                <a:ext cx="152280" cy="466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4" name=""/>
          <p:cNvGrpSpPr/>
          <p:nvPr/>
        </p:nvGrpSpPr>
        <p:grpSpPr>
          <a:xfrm>
            <a:off x="6210360" y="3800520"/>
            <a:ext cx="961560" cy="480960"/>
            <a:chOff x="6210360" y="3800520"/>
            <a:chExt cx="961560" cy="480960"/>
          </a:xfrm>
        </p:grpSpPr>
        <p:sp>
          <p:nvSpPr>
            <p:cNvPr id="805" name=""/>
            <p:cNvSpPr/>
            <p:nvPr/>
          </p:nvSpPr>
          <p:spPr>
            <a:xfrm>
              <a:off x="6210360" y="3809880"/>
              <a:ext cx="790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10360" y="4276800"/>
              <a:ext cx="809280" cy="4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7009920" y="3800520"/>
              <a:ext cx="162000" cy="466560"/>
              <a:chOff x="7009920" y="3800520"/>
              <a:chExt cx="162000" cy="466560"/>
            </a:xfrm>
          </p:grpSpPr>
          <p:sp>
            <p:nvSpPr>
              <p:cNvPr id="808" name=""/>
              <p:cNvSpPr/>
              <p:nvPr/>
            </p:nvSpPr>
            <p:spPr>
              <a:xfrm>
                <a:off x="7010280" y="3800520"/>
                <a:ext cx="161640" cy="4568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7009920" y="3800520"/>
                <a:ext cx="152280" cy="466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0" name=""/>
          <p:cNvGrpSpPr/>
          <p:nvPr/>
        </p:nvGrpSpPr>
        <p:grpSpPr>
          <a:xfrm>
            <a:off x="7172280" y="3800520"/>
            <a:ext cx="961560" cy="480960"/>
            <a:chOff x="7172280" y="3800520"/>
            <a:chExt cx="961560" cy="480960"/>
          </a:xfrm>
        </p:grpSpPr>
        <p:sp>
          <p:nvSpPr>
            <p:cNvPr id="811" name=""/>
            <p:cNvSpPr/>
            <p:nvPr/>
          </p:nvSpPr>
          <p:spPr>
            <a:xfrm>
              <a:off x="7172280" y="3809880"/>
              <a:ext cx="790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172280" y="4276800"/>
              <a:ext cx="809280" cy="4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7971840" y="3800520"/>
              <a:ext cx="162000" cy="466560"/>
              <a:chOff x="7971840" y="3800520"/>
              <a:chExt cx="162000" cy="466560"/>
            </a:xfrm>
          </p:grpSpPr>
          <p:sp>
            <p:nvSpPr>
              <p:cNvPr id="814" name=""/>
              <p:cNvSpPr/>
              <p:nvPr/>
            </p:nvSpPr>
            <p:spPr>
              <a:xfrm>
                <a:off x="7972200" y="3800520"/>
                <a:ext cx="161640" cy="4568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7971840" y="3800520"/>
                <a:ext cx="152280" cy="466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6" name=""/>
          <p:cNvSpPr/>
          <p:nvPr/>
        </p:nvSpPr>
        <p:spPr>
          <a:xfrm>
            <a:off x="8143920" y="3809880"/>
            <a:ext cx="79056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8143920" y="4276800"/>
            <a:ext cx="80964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874800" y="383688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636920" y="38876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65720" y="38876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24400" y="385920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96040" y="39164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67680" y="39038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440760" y="39164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326720" y="391788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271000" y="39020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560" y="37767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873000" y="4676760"/>
            <a:ext cx="551160" cy="144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873000" y="5143680"/>
            <a:ext cx="55116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1414440" y="4676760"/>
            <a:ext cx="162000" cy="466920"/>
            <a:chOff x="1414440" y="4676760"/>
            <a:chExt cx="162000" cy="466920"/>
          </a:xfrm>
        </p:grpSpPr>
        <p:sp>
          <p:nvSpPr>
            <p:cNvPr id="831" name=""/>
            <p:cNvSpPr/>
            <p:nvPr/>
          </p:nvSpPr>
          <p:spPr>
            <a:xfrm>
              <a:off x="1414440" y="4676760"/>
              <a:ext cx="16200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1414440" y="4676760"/>
              <a:ext cx="152640" cy="466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1576440" y="4667400"/>
            <a:ext cx="961560" cy="480960"/>
            <a:chOff x="1576440" y="4667400"/>
            <a:chExt cx="961560" cy="480960"/>
          </a:xfrm>
        </p:grpSpPr>
        <p:sp>
          <p:nvSpPr>
            <p:cNvPr id="834" name=""/>
            <p:cNvSpPr/>
            <p:nvPr/>
          </p:nvSpPr>
          <p:spPr>
            <a:xfrm>
              <a:off x="1576440" y="4676760"/>
              <a:ext cx="790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576440" y="5143680"/>
              <a:ext cx="809280" cy="4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"/>
            <p:cNvGrpSpPr/>
            <p:nvPr/>
          </p:nvGrpSpPr>
          <p:grpSpPr>
            <a:xfrm>
              <a:off x="2376000" y="4667400"/>
              <a:ext cx="162000" cy="466560"/>
              <a:chOff x="2376000" y="4667400"/>
              <a:chExt cx="162000" cy="466560"/>
            </a:xfrm>
          </p:grpSpPr>
          <p:sp>
            <p:nvSpPr>
              <p:cNvPr id="837" name=""/>
              <p:cNvSpPr/>
              <p:nvPr/>
            </p:nvSpPr>
            <p:spPr>
              <a:xfrm>
                <a:off x="2376360" y="4667400"/>
                <a:ext cx="161640" cy="4568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2376000" y="4667400"/>
                <a:ext cx="152280" cy="466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9" name=""/>
          <p:cNvGrpSpPr/>
          <p:nvPr/>
        </p:nvGrpSpPr>
        <p:grpSpPr>
          <a:xfrm>
            <a:off x="2529000" y="4667400"/>
            <a:ext cx="961560" cy="480960"/>
            <a:chOff x="2529000" y="4667400"/>
            <a:chExt cx="961560" cy="480960"/>
          </a:xfrm>
        </p:grpSpPr>
        <p:sp>
          <p:nvSpPr>
            <p:cNvPr id="840" name=""/>
            <p:cNvSpPr/>
            <p:nvPr/>
          </p:nvSpPr>
          <p:spPr>
            <a:xfrm>
              <a:off x="2529000" y="4676760"/>
              <a:ext cx="790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529000" y="5143680"/>
              <a:ext cx="809280" cy="4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3328560" y="4667400"/>
              <a:ext cx="162000" cy="466560"/>
              <a:chOff x="3328560" y="4667400"/>
              <a:chExt cx="162000" cy="466560"/>
            </a:xfrm>
          </p:grpSpPr>
          <p:sp>
            <p:nvSpPr>
              <p:cNvPr id="843" name=""/>
              <p:cNvSpPr/>
              <p:nvPr/>
            </p:nvSpPr>
            <p:spPr>
              <a:xfrm>
                <a:off x="3328920" y="4667400"/>
                <a:ext cx="161640" cy="4568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3328560" y="4667400"/>
                <a:ext cx="152280" cy="466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5" name=""/>
          <p:cNvGrpSpPr/>
          <p:nvPr/>
        </p:nvGrpSpPr>
        <p:grpSpPr>
          <a:xfrm>
            <a:off x="3490920" y="4667400"/>
            <a:ext cx="961560" cy="480960"/>
            <a:chOff x="3490920" y="4667400"/>
            <a:chExt cx="961560" cy="480960"/>
          </a:xfrm>
        </p:grpSpPr>
        <p:sp>
          <p:nvSpPr>
            <p:cNvPr id="846" name=""/>
            <p:cNvSpPr/>
            <p:nvPr/>
          </p:nvSpPr>
          <p:spPr>
            <a:xfrm>
              <a:off x="3490920" y="4676760"/>
              <a:ext cx="790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90920" y="5143680"/>
              <a:ext cx="809280" cy="4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4290480" y="4667400"/>
              <a:ext cx="162000" cy="466560"/>
              <a:chOff x="4290480" y="4667400"/>
              <a:chExt cx="162000" cy="466560"/>
            </a:xfrm>
          </p:grpSpPr>
          <p:sp>
            <p:nvSpPr>
              <p:cNvPr id="849" name=""/>
              <p:cNvSpPr/>
              <p:nvPr/>
            </p:nvSpPr>
            <p:spPr>
              <a:xfrm>
                <a:off x="4290840" y="4667400"/>
                <a:ext cx="161640" cy="4568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4290480" y="4667400"/>
                <a:ext cx="152280" cy="466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1" name=""/>
          <p:cNvSpPr/>
          <p:nvPr/>
        </p:nvSpPr>
        <p:spPr>
          <a:xfrm>
            <a:off x="4795920" y="4676760"/>
            <a:ext cx="4428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781520" y="5145120"/>
            <a:ext cx="476280" cy="32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5248080" y="4667400"/>
            <a:ext cx="162000" cy="466560"/>
            <a:chOff x="5248080" y="4667400"/>
            <a:chExt cx="162000" cy="466560"/>
          </a:xfrm>
        </p:grpSpPr>
        <p:sp>
          <p:nvSpPr>
            <p:cNvPr id="854" name=""/>
            <p:cNvSpPr/>
            <p:nvPr/>
          </p:nvSpPr>
          <p:spPr>
            <a:xfrm>
              <a:off x="5248440" y="4667400"/>
              <a:ext cx="16164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248080" y="4667400"/>
              <a:ext cx="15228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410080" y="4667400"/>
            <a:ext cx="962280" cy="480960"/>
            <a:chOff x="5410080" y="4667400"/>
            <a:chExt cx="962280" cy="480960"/>
          </a:xfrm>
        </p:grpSpPr>
        <p:sp>
          <p:nvSpPr>
            <p:cNvPr id="857" name=""/>
            <p:cNvSpPr/>
            <p:nvPr/>
          </p:nvSpPr>
          <p:spPr>
            <a:xfrm>
              <a:off x="5410080" y="4676760"/>
              <a:ext cx="7905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410080" y="5143680"/>
              <a:ext cx="809640" cy="4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6210360" y="4667400"/>
              <a:ext cx="162000" cy="466560"/>
              <a:chOff x="6210360" y="4667400"/>
              <a:chExt cx="162000" cy="466560"/>
            </a:xfrm>
          </p:grpSpPr>
          <p:sp>
            <p:nvSpPr>
              <p:cNvPr id="860" name=""/>
              <p:cNvSpPr/>
              <p:nvPr/>
            </p:nvSpPr>
            <p:spPr>
              <a:xfrm>
                <a:off x="6210360" y="4667400"/>
                <a:ext cx="162000" cy="4568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210360" y="4667400"/>
                <a:ext cx="152640" cy="466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2" name=""/>
          <p:cNvGrpSpPr/>
          <p:nvPr/>
        </p:nvGrpSpPr>
        <p:grpSpPr>
          <a:xfrm>
            <a:off x="6362640" y="4667400"/>
            <a:ext cx="961560" cy="480960"/>
            <a:chOff x="6362640" y="4667400"/>
            <a:chExt cx="961560" cy="480960"/>
          </a:xfrm>
        </p:grpSpPr>
        <p:sp>
          <p:nvSpPr>
            <p:cNvPr id="863" name=""/>
            <p:cNvSpPr/>
            <p:nvPr/>
          </p:nvSpPr>
          <p:spPr>
            <a:xfrm>
              <a:off x="6362640" y="4676760"/>
              <a:ext cx="790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62640" y="5143680"/>
              <a:ext cx="809280" cy="4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5" name=""/>
            <p:cNvGrpSpPr/>
            <p:nvPr/>
          </p:nvGrpSpPr>
          <p:grpSpPr>
            <a:xfrm>
              <a:off x="7162200" y="4667400"/>
              <a:ext cx="162000" cy="466560"/>
              <a:chOff x="7162200" y="4667400"/>
              <a:chExt cx="162000" cy="466560"/>
            </a:xfrm>
          </p:grpSpPr>
          <p:sp>
            <p:nvSpPr>
              <p:cNvPr id="866" name=""/>
              <p:cNvSpPr/>
              <p:nvPr/>
            </p:nvSpPr>
            <p:spPr>
              <a:xfrm>
                <a:off x="7162560" y="4667400"/>
                <a:ext cx="161640" cy="4568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7162200" y="4667400"/>
                <a:ext cx="152280" cy="466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7324560" y="4667400"/>
            <a:ext cx="962280" cy="480960"/>
            <a:chOff x="7324560" y="4667400"/>
            <a:chExt cx="962280" cy="480960"/>
          </a:xfrm>
        </p:grpSpPr>
        <p:sp>
          <p:nvSpPr>
            <p:cNvPr id="869" name=""/>
            <p:cNvSpPr/>
            <p:nvPr/>
          </p:nvSpPr>
          <p:spPr>
            <a:xfrm>
              <a:off x="7324560" y="4676760"/>
              <a:ext cx="7905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24560" y="5143680"/>
              <a:ext cx="809640" cy="4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8124840" y="4667400"/>
              <a:ext cx="162000" cy="466560"/>
              <a:chOff x="8124840" y="4667400"/>
              <a:chExt cx="162000" cy="466560"/>
            </a:xfrm>
          </p:grpSpPr>
          <p:sp>
            <p:nvSpPr>
              <p:cNvPr id="872" name=""/>
              <p:cNvSpPr/>
              <p:nvPr/>
            </p:nvSpPr>
            <p:spPr>
              <a:xfrm>
                <a:off x="8124840" y="4667400"/>
                <a:ext cx="162000" cy="45684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8124840" y="4667400"/>
                <a:ext cx="152640" cy="46656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4" name=""/>
          <p:cNvSpPr/>
          <p:nvPr/>
        </p:nvSpPr>
        <p:spPr>
          <a:xfrm>
            <a:off x="8296200" y="4676760"/>
            <a:ext cx="79056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296200" y="5143680"/>
            <a:ext cx="80964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17560" y="475452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46360" y="475452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705400" y="472608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677040" y="47829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777200" y="47703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635800" y="47829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521760" y="47847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66400" y="476892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4616280" y="4675320"/>
            <a:ext cx="162000" cy="466560"/>
            <a:chOff x="4616280" y="4675320"/>
            <a:chExt cx="162000" cy="466560"/>
          </a:xfrm>
        </p:grpSpPr>
        <p:sp>
          <p:nvSpPr>
            <p:cNvPr id="885" name=""/>
            <p:cNvSpPr/>
            <p:nvPr/>
          </p:nvSpPr>
          <p:spPr>
            <a:xfrm>
              <a:off x="4616280" y="4675320"/>
              <a:ext cx="162000" cy="4568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4616280" y="4675320"/>
              <a:ext cx="152640" cy="466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4448160" y="5153040"/>
            <a:ext cx="17136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448160" y="4667400"/>
            <a:ext cx="17136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355280" y="4772160"/>
            <a:ext cx="33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1960" y="446868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28720" y="5465880"/>
            <a:ext cx="1644480" cy="9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471760" y="5465160"/>
            <a:ext cx="0" cy="501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782800" y="5457240"/>
            <a:ext cx="0" cy="501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62040" y="5951520"/>
            <a:ext cx="309600" cy="9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2795760" y="5468760"/>
            <a:ext cx="874440" cy="5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675240" y="5465160"/>
            <a:ext cx="0" cy="501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386240" y="5450760"/>
            <a:ext cx="0" cy="501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734000" y="5465160"/>
            <a:ext cx="0" cy="501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3673440" y="5954400"/>
            <a:ext cx="714240" cy="4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400640" y="5451480"/>
            <a:ext cx="322200" cy="9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65800" y="545940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713560" y="5473080"/>
            <a:ext cx="0" cy="501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380200" y="5459400"/>
            <a:ext cx="322200" cy="9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4711680" y="5947920"/>
            <a:ext cx="657360" cy="19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5726160" y="5962320"/>
            <a:ext cx="568440" cy="4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315120" y="547992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316560" y="5476680"/>
            <a:ext cx="903240" cy="4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36000" y="547200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7251840" y="5962320"/>
            <a:ext cx="234720" cy="4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473960" y="5449320"/>
            <a:ext cx="0" cy="501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7470720" y="5439960"/>
            <a:ext cx="744480" cy="19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221680" y="5457240"/>
            <a:ext cx="0" cy="501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8226360" y="5962320"/>
            <a:ext cx="685800" cy="4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27600" y="5477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059480" y="5557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002320" y="5529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353400" y="5586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77720" y="5557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720560" y="5557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904920" y="5616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847760" y="5573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06800" y="5573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109-10A6-461C-BDCF-7377F69D71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tup and Hold Times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an ideal D flip-fl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D input changes at exactly the same time as the active edge of the clock, flip-flop operate correc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rea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 input must be stable for a certain amount of time before the active edge of the clock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tup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rthermore, D must be stable for a certain amount of time after the active edge of the clock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old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050-75B3-4382-80EE-45C7F7EEAE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ruth Tables and Algebraic Express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ll Ad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459080" y="2001960"/>
            <a:ext cx="1698480" cy="1263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9240" y="23223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3120" y="3027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5080" y="2655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74840" y="2448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3440" y="21207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" y="24764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7160" y="2824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180040" y="1339920"/>
          <a:ext cx="3035160" cy="3286080"/>
        </p:xfrm>
        <a:graphic>
          <a:graphicData uri="http://schemas.openxmlformats.org/drawingml/2006/table">
            <a:tbl>
              <a:tblPr/>
              <a:tblGrid>
                <a:gridCol w="509400"/>
                <a:gridCol w="536760"/>
                <a:gridCol w="581040"/>
                <a:gridCol w="711000"/>
                <a:gridCol w="696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3761640" y="225252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84560" y="2857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42560" y="2662200"/>
            <a:ext cx="71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3560" y="5730840"/>
            <a:ext cx="67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t = X ’ Y Cin + X Y ’ Cin + X Y Cin ’ + X Y C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280" y="512136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 = X ’ Y ’ Cin + X ’ Y Cin ’ + X Y ’ Cin ’ + X Y C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B61-9A4B-4C8B-9144-DE31A37DA2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tup and Hold Times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04560" y="4343400"/>
            <a:ext cx="838188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shaded interval above D may be chang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wise, it cannot be determined whether the flip-flop will change 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worse, the flip-flop may malfunction and output a short pulse and even go into oscil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"/>
          <p:cNvSpPr/>
          <p:nvPr/>
        </p:nvSpPr>
        <p:spPr>
          <a:xfrm flipH="1" flipV="1">
            <a:off x="828720" y="996840"/>
            <a:ext cx="1440" cy="2919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66760" y="2222640"/>
            <a:ext cx="8404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680" y="3102120"/>
            <a:ext cx="8404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1353960" y="988920"/>
            <a:ext cx="0" cy="28908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2941560" y="1031400"/>
            <a:ext cx="14400" cy="28767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84040" y="3911760"/>
            <a:ext cx="8404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4707000" y="1026720"/>
            <a:ext cx="0" cy="283212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 flipV="1">
            <a:off x="7994520" y="1085760"/>
            <a:ext cx="14400" cy="27878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12880" y="3097080"/>
            <a:ext cx="5508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341360" y="2597040"/>
            <a:ext cx="12600" cy="501840"/>
            <a:chOff x="1341360" y="2597040"/>
            <a:chExt cx="12600" cy="501840"/>
          </a:xfrm>
        </p:grpSpPr>
        <p:sp>
          <p:nvSpPr>
            <p:cNvPr id="937" name=""/>
            <p:cNvSpPr/>
            <p:nvPr/>
          </p:nvSpPr>
          <p:spPr>
            <a:xfrm>
              <a:off x="1353960" y="2597040"/>
              <a:ext cx="0" cy="501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41360" y="2835360"/>
              <a:ext cx="0" cy="255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 flipV="1">
            <a:off x="1338120" y="2571840"/>
            <a:ext cx="162576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57400" y="2590200"/>
            <a:ext cx="0" cy="501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946240" y="3098880"/>
            <a:ext cx="175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4697280" y="2619360"/>
            <a:ext cx="3240" cy="501840"/>
            <a:chOff x="4697280" y="2619360"/>
            <a:chExt cx="3240" cy="501840"/>
          </a:xfrm>
        </p:grpSpPr>
        <p:sp>
          <p:nvSpPr>
            <p:cNvPr id="943" name=""/>
            <p:cNvSpPr/>
            <p:nvPr/>
          </p:nvSpPr>
          <p:spPr>
            <a:xfrm>
              <a:off x="4700520" y="2619360"/>
              <a:ext cx="0" cy="501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697280" y="2857680"/>
              <a:ext cx="0" cy="255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 flipV="1">
            <a:off x="4703760" y="2628720"/>
            <a:ext cx="1650960" cy="4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345360" y="2598120"/>
            <a:ext cx="0" cy="501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337440" y="3076560"/>
            <a:ext cx="1668240" cy="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160" y="2635200"/>
            <a:ext cx="7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8080" y="17413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16720" y="33955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6346800" y="1044720"/>
            <a:ext cx="0" cy="28620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8013600" y="2582280"/>
            <a:ext cx="3240" cy="501480"/>
            <a:chOff x="8013600" y="2582280"/>
            <a:chExt cx="3240" cy="501480"/>
          </a:xfrm>
        </p:grpSpPr>
        <p:sp>
          <p:nvSpPr>
            <p:cNvPr id="953" name=""/>
            <p:cNvSpPr/>
            <p:nvPr/>
          </p:nvSpPr>
          <p:spPr>
            <a:xfrm>
              <a:off x="8016840" y="2582280"/>
              <a:ext cx="0" cy="501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013600" y="2820240"/>
              <a:ext cx="0" cy="255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8020080" y="2592000"/>
            <a:ext cx="649080" cy="4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752480" y="1695600"/>
            <a:ext cx="2619360" cy="504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040360" y="1689120"/>
            <a:ext cx="261936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4365720" y="1310760"/>
            <a:ext cx="0" cy="8874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5040360" y="1288800"/>
            <a:ext cx="0" cy="8874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368960" y="1587600"/>
            <a:ext cx="333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710240" y="1581120"/>
            <a:ext cx="333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801960" y="1079640"/>
            <a:ext cx="777960" cy="434880"/>
          </a:xfrm>
          <a:custGeom>
            <a:avLst/>
            <a:gdLst/>
            <a:ahLst/>
            <a:rect l="l" t="t" r="r" b="b"/>
            <a:pathLst>
              <a:path w="490" h="274">
                <a:moveTo>
                  <a:pt x="467" y="274"/>
                </a:moveTo>
                <a:cubicBezTo>
                  <a:pt x="478" y="192"/>
                  <a:pt x="490" y="110"/>
                  <a:pt x="412" y="64"/>
                </a:cubicBezTo>
                <a:cubicBezTo>
                  <a:pt x="334" y="18"/>
                  <a:pt x="167" y="9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4896720" y="1073160"/>
            <a:ext cx="777960" cy="434880"/>
          </a:xfrm>
          <a:custGeom>
            <a:avLst/>
            <a:gdLst/>
            <a:ahLst/>
            <a:rect l="l" t="t" r="r" b="b"/>
            <a:pathLst>
              <a:path w="490" h="274">
                <a:moveTo>
                  <a:pt x="467" y="274"/>
                </a:moveTo>
                <a:cubicBezTo>
                  <a:pt x="478" y="192"/>
                  <a:pt x="490" y="110"/>
                  <a:pt x="412" y="64"/>
                </a:cubicBezTo>
                <a:cubicBezTo>
                  <a:pt x="334" y="18"/>
                  <a:pt x="167" y="9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305880" y="68580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06720" y="64944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056200" y="3404520"/>
            <a:ext cx="0" cy="501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370720" y="1697040"/>
            <a:ext cx="3398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32440" y="3379680"/>
            <a:ext cx="3352680" cy="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386920" y="3393360"/>
            <a:ext cx="0" cy="501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30160" y="3894120"/>
            <a:ext cx="422460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377200" y="3906720"/>
            <a:ext cx="335160" cy="1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27640" y="3672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729560" y="3692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5036760" y="367200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8410320" y="369252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814920" y="3363840"/>
            <a:ext cx="55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p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175520" y="3414600"/>
            <a:ext cx="55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p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7895-2ECA-4AA7-B57E-D11E2BB27CC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aximum Clock Frequenc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560" y="4368600"/>
            <a:ext cx="838188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lock period;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pmax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max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pl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ph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cma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maximum propagation delay throug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combinational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pma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cma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2184480" y="949320"/>
            <a:ext cx="1915920" cy="2220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bi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929200" y="2125800"/>
            <a:ext cx="928800" cy="1060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193760" y="1298520"/>
            <a:ext cx="976320" cy="282600"/>
          </a:xfrm>
          <a:prstGeom prst="rightArrow">
            <a:avLst>
              <a:gd name="adj1" fmla="val 50000"/>
              <a:gd name="adj2" fmla="val 863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12920" y="919080"/>
            <a:ext cx="14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puts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103640" y="2496960"/>
            <a:ext cx="1817640" cy="398520"/>
          </a:xfrm>
          <a:prstGeom prst="rightArrow">
            <a:avLst>
              <a:gd name="adj1" fmla="val 40111"/>
              <a:gd name="adj2" fmla="val 629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097160" y="1227240"/>
            <a:ext cx="1818000" cy="398520"/>
          </a:xfrm>
          <a:prstGeom prst="rightArrow">
            <a:avLst>
              <a:gd name="adj1" fmla="val 40111"/>
              <a:gd name="adj2" fmla="val 62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19320" y="2692440"/>
            <a:ext cx="12996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219320" y="3838680"/>
            <a:ext cx="627048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217520" y="2625840"/>
            <a:ext cx="976320" cy="282600"/>
          </a:xfrm>
          <a:prstGeom prst="rightArrow">
            <a:avLst>
              <a:gd name="adj1" fmla="val 50000"/>
              <a:gd name="adj2" fmla="val 863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380360" y="2685960"/>
            <a:ext cx="12996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867360" y="2676600"/>
            <a:ext cx="64152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651640" y="1216080"/>
            <a:ext cx="21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puts 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179960" y="1930320"/>
            <a:ext cx="14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788160" y="223848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rot="5400000">
            <a:off x="5907600" y="2937600"/>
            <a:ext cx="245880" cy="2034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659560" y="304020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181480" y="2855880"/>
            <a:ext cx="5288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3A5-051E-4582-A810-157A192CFC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tup and Hold-time Violations (1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247680" y="990360"/>
            <a:ext cx="8540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ld-time viol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change in Q fed back through the combinational network and caused D to change too soon after the clock ed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pm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cmin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pm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&gt;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normal flip-flop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lly, setup or hold-time violation occurs if the input X to the network changes too close to the active edge of the clo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must make sure that an input change propagates to the flip-flop inputs such that setup time is satisfied before the active edge of the clock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30D-F1B1-4355-B46B-65FD9D335E5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tup and Hold-time Violations (2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04920" y="4111560"/>
            <a:ext cx="857088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or setup ti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cxmax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or hold-ti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h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cxmin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t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cxm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h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"/>
          <p:cNvSpPr/>
          <p:nvPr/>
        </p:nvSpPr>
        <p:spPr>
          <a:xfrm flipH="1" flipV="1">
            <a:off x="828720" y="911160"/>
            <a:ext cx="1440" cy="2919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66760" y="2136600"/>
            <a:ext cx="8404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74680" y="3016080"/>
            <a:ext cx="8404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1353960" y="903240"/>
            <a:ext cx="0" cy="28908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84040" y="3825720"/>
            <a:ext cx="8404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4707000" y="941040"/>
            <a:ext cx="0" cy="283212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7994520" y="1000080"/>
            <a:ext cx="14400" cy="27878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26920" y="2139840"/>
            <a:ext cx="5511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1355760" y="1639800"/>
            <a:ext cx="12600" cy="501840"/>
            <a:chOff x="1355760" y="1639800"/>
            <a:chExt cx="12600" cy="501840"/>
          </a:xfrm>
        </p:grpSpPr>
        <p:sp>
          <p:nvSpPr>
            <p:cNvPr id="1010" name=""/>
            <p:cNvSpPr/>
            <p:nvPr/>
          </p:nvSpPr>
          <p:spPr>
            <a:xfrm>
              <a:off x="1368360" y="1639800"/>
              <a:ext cx="0" cy="501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355760" y="1878120"/>
              <a:ext cx="0" cy="255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 flipV="1">
            <a:off x="1352520" y="1614600"/>
            <a:ext cx="162576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971800" y="1632960"/>
            <a:ext cx="0" cy="501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960640" y="2141640"/>
            <a:ext cx="1755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4711680" y="1661400"/>
            <a:ext cx="3240" cy="501480"/>
            <a:chOff x="4711680" y="1661400"/>
            <a:chExt cx="3240" cy="501480"/>
          </a:xfrm>
        </p:grpSpPr>
        <p:sp>
          <p:nvSpPr>
            <p:cNvPr id="1016" name=""/>
            <p:cNvSpPr/>
            <p:nvPr/>
          </p:nvSpPr>
          <p:spPr>
            <a:xfrm>
              <a:off x="4714920" y="1661400"/>
              <a:ext cx="0" cy="501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11680" y="1899360"/>
              <a:ext cx="0" cy="255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 flipV="1">
            <a:off x="4718160" y="1671480"/>
            <a:ext cx="1650960" cy="5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359400" y="1640880"/>
            <a:ext cx="0" cy="501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351480" y="2119320"/>
            <a:ext cx="1668600" cy="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6120" y="334008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1200" y="24829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8028000" y="1625040"/>
            <a:ext cx="3240" cy="501480"/>
            <a:chOff x="8028000" y="1625040"/>
            <a:chExt cx="3240" cy="501480"/>
          </a:xfrm>
        </p:grpSpPr>
        <p:sp>
          <p:nvSpPr>
            <p:cNvPr id="1024" name=""/>
            <p:cNvSpPr/>
            <p:nvPr/>
          </p:nvSpPr>
          <p:spPr>
            <a:xfrm>
              <a:off x="8031240" y="1625040"/>
              <a:ext cx="0" cy="501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028000" y="1863000"/>
              <a:ext cx="0" cy="255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 flipV="1">
            <a:off x="8034480" y="1634760"/>
            <a:ext cx="649080" cy="4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738440" y="3009600"/>
            <a:ext cx="0" cy="78588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3836880" y="3003120"/>
            <a:ext cx="0" cy="78588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754280" y="250812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773360" y="2496960"/>
            <a:ext cx="330984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084640" y="249696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778040" y="357336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513240" y="2795760"/>
            <a:ext cx="120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1734840" y="2774880"/>
            <a:ext cx="105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4703400" y="279576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956320" y="2532240"/>
            <a:ext cx="38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84680" y="163512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680000" y="2436840"/>
            <a:ext cx="37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813120" y="3346560"/>
            <a:ext cx="177156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836880" y="3341520"/>
            <a:ext cx="0" cy="501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572080" y="334908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338640" y="358128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334240" y="3294000"/>
            <a:ext cx="82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cx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868560" y="3197160"/>
            <a:ext cx="81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06080" y="327168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5557680" y="2676600"/>
            <a:ext cx="0" cy="11491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718160" y="3205080"/>
            <a:ext cx="81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925880" y="329400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10200" y="279864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51600" y="2314440"/>
            <a:ext cx="126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cx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8E2-486B-498C-A36E-B1A250A3E5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ynchronous Desig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04560" y="1047600"/>
            <a:ext cx="8381880" cy="29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lock is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synchronize the operation of all flip-flops, registers, and counters in the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 state changes occur following the active edge of the cloc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clock period must be long enough so that all flip-flop and register inputs will have time to stabilize before the next active edge of the cloc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2513160" y="4538520"/>
            <a:ext cx="1306440" cy="12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916600" y="4487760"/>
            <a:ext cx="1306440" cy="12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654960" y="4060800"/>
            <a:ext cx="0" cy="42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748560" y="5694480"/>
            <a:ext cx="0" cy="420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669720" y="397512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878880" y="575316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860480" y="4089240"/>
            <a:ext cx="42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141960" y="4089240"/>
            <a:ext cx="0" cy="39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043080" y="411012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08160" y="40449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362600" y="4105440"/>
            <a:ext cx="7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947960" y="5148360"/>
            <a:ext cx="565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103760" y="4786200"/>
            <a:ext cx="106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55960" y="4894200"/>
            <a:ext cx="20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836880" y="5361120"/>
            <a:ext cx="2089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859920" y="451332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ol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745800" y="543564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ition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209-7900-4393-8D84-C0F8C2D0C7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ristate Logic and Bus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istate buff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"/>
          <p:cNvSpPr/>
          <p:nvPr/>
        </p:nvSpPr>
        <p:spPr>
          <a:xfrm>
            <a:off x="538200" y="2235240"/>
            <a:ext cx="127800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899280" y="2002680"/>
            <a:ext cx="581040" cy="493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160640" y="1654200"/>
            <a:ext cx="0" cy="4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67840" y="1635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35600" y="2279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490760" y="2257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8" name=""/>
          <p:cNvGraphicFramePr/>
          <p:nvPr/>
        </p:nvGraphicFramePr>
        <p:xfrm>
          <a:off x="493560" y="2924280"/>
          <a:ext cx="7998120" cy="197640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768600"/>
                <a:gridCol w="609480"/>
                <a:gridCol w="465120"/>
                <a:gridCol w="377640"/>
                <a:gridCol w="768600"/>
                <a:gridCol w="450720"/>
                <a:gridCol w="392040"/>
                <a:gridCol w="449280"/>
                <a:gridCol w="841320"/>
                <a:gridCol w="349560"/>
                <a:gridCol w="434880"/>
                <a:gridCol w="420480"/>
                <a:gridCol w="857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-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-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-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-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-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-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-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-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9" name=""/>
          <p:cNvSpPr/>
          <p:nvPr/>
        </p:nvSpPr>
        <p:spPr>
          <a:xfrm>
            <a:off x="2660760" y="2271600"/>
            <a:ext cx="127800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rot="5400000">
            <a:off x="3021840" y="2039040"/>
            <a:ext cx="581040" cy="493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282840" y="1690560"/>
            <a:ext cx="0" cy="4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290040" y="1671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558160" y="23162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613320" y="2293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37000" y="220356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727520" y="2266920"/>
            <a:ext cx="127800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5088240" y="2034360"/>
            <a:ext cx="581040" cy="493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349960" y="1685880"/>
            <a:ext cx="0" cy="4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57160" y="1666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625280" y="23115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680080" y="2289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84800" y="198108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751800" y="2262240"/>
            <a:ext cx="12776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rot="5400000">
            <a:off x="7112160" y="2029680"/>
            <a:ext cx="581040" cy="493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373880" y="1681200"/>
            <a:ext cx="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381080" y="1662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649200" y="230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704360" y="2284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308720" y="1976400"/>
            <a:ext cx="1317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632720" y="22003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42920" y="5207040"/>
            <a:ext cx="88837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-Z : high-impedance which is equivalent to an open circu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use tristate buffers to connect the outputs of more than one gates or flip-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A61-93F4-4C12-94E3-FBCE452CFB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ristate Bu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304560" y="4313160"/>
            <a:ext cx="838188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Enb = Ldc  = 1 (all others 0), then the data in register B will be copied into register C when the active edge of the clock occu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Eni = Lda = Ldc = 1 then the input data will be loaded in registers A and C when the registers are clock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 rot="16200000">
            <a:off x="2307240" y="2599200"/>
            <a:ext cx="709560" cy="869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306520" y="3181320"/>
            <a:ext cx="246240" cy="2034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441520" y="3389400"/>
            <a:ext cx="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rot="5400000">
            <a:off x="1244880" y="1362960"/>
            <a:ext cx="434880" cy="363240"/>
          </a:xfrm>
          <a:prstGeom prst="flowChartExtra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92000" y="1544760"/>
            <a:ext cx="49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rot="16200000">
            <a:off x="4579200" y="2592720"/>
            <a:ext cx="709560" cy="870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578480" y="3189240"/>
            <a:ext cx="245880" cy="2034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rot="16200000">
            <a:off x="6909480" y="2599200"/>
            <a:ext cx="709560" cy="869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908760" y="3181320"/>
            <a:ext cx="246240" cy="2034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043760" y="338940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44760" y="2149560"/>
            <a:ext cx="434880" cy="363600"/>
          </a:xfrm>
          <a:prstGeom prst="flowChartExtra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665440" y="2513160"/>
            <a:ext cx="0" cy="17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700520" y="2128680"/>
            <a:ext cx="434880" cy="363600"/>
          </a:xfrm>
          <a:prstGeom prst="flowChartExtra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21200" y="2506680"/>
            <a:ext cx="0" cy="17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051680" y="2157480"/>
            <a:ext cx="434880" cy="363600"/>
          </a:xfrm>
          <a:prstGeom prst="flowChartExtra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72360" y="2521080"/>
            <a:ext cx="0" cy="17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85880" y="153828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2665440" y="1544400"/>
            <a:ext cx="0" cy="57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4921200" y="1536480"/>
            <a:ext cx="0" cy="57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7259760" y="1566720"/>
            <a:ext cx="0" cy="57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206960" y="11206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istate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405240" y="1544760"/>
            <a:ext cx="0" cy="221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2838600" y="3387240"/>
            <a:ext cx="0" cy="37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840040" y="3763800"/>
            <a:ext cx="56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3288960" y="1920960"/>
            <a:ext cx="24588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095280" y="1701720"/>
            <a:ext cx="311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676840" y="1550880"/>
            <a:ext cx="0" cy="221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5110200" y="3393720"/>
            <a:ext cx="0" cy="37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111640" y="3770280"/>
            <a:ext cx="56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8028000" y="1550880"/>
            <a:ext cx="0" cy="221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7461360" y="3393720"/>
            <a:ext cx="0" cy="37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462800" y="3770280"/>
            <a:ext cx="56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2010960" y="1442880"/>
            <a:ext cx="17460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855440" y="1214280"/>
            <a:ext cx="311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301840" y="23274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676160" y="2128680"/>
            <a:ext cx="6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559400" y="23050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927600" y="2106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924600" y="233352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309720" y="213516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193120" y="28321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.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76240" y="28116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.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814440" y="28098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.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344600" y="3909960"/>
            <a:ext cx="570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3120" y="3397320"/>
            <a:ext cx="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72080" y="3860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408400" y="3862440"/>
            <a:ext cx="8856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959400" y="354960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003400" y="307512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381680" y="287640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45120" y="30384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631320" y="284004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583320" y="30672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986440" y="286848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720" y="1198440"/>
            <a:ext cx="8953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449360" y="1204920"/>
            <a:ext cx="14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228320" y="84132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312-283F-4F6A-BF0A-5700F65406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interm and Maxterm Expans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term expan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584640" y="2055960"/>
            <a:ext cx="71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t = X’ Y Cin + X Y’ Cin +X Y Cin’ + X Y Cin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m(3, 5, 6, 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1800" y="1579680"/>
            <a:ext cx="783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 = X’ Y’ Cin + X’ Y Cin’ + X Y’ Cin’ + X Y Ci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m(1, 2, 4, 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600" y="2838600"/>
            <a:ext cx="8381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term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5520" y="3487680"/>
            <a:ext cx="77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 = (X+Y+Cin)(X+Y’+Cin’)(X’+Y+Cin’)(X’+Y’+Cin)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M(0,3, 5, 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4840" y="4249800"/>
            <a:ext cx="76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t = (X+Y+Cin)(X+Y+Cin’)(X+Y’+Cin)(X’+Y+Cin)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M(0,1, 2,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6880" y="5289480"/>
            <a:ext cx="8382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term expans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xterm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E58-36E0-4BA1-857A-FEC26BD0F4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lgebraic Simplification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840" y="990720"/>
            <a:ext cx="887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erms (XY + XY’=X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61880" indent="-1173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C’D’ + ABCD’ = ABD’ (C + C’) = ABD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61880" indent="-1173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t = X ’ Y Cin + X Y’ Cin + X Y Cin’ + X Y C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X’ Y Cin + X Y’ Cin + X Y Cin’ + XY C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+ X Y C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+ X Y C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’ Y Cin +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X Y C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X Y’ Cin +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X Y C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X Y Cin’ + XY C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Y Cin + X Cin + X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iminating Term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61880" indent="-1173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’B + A’BC = A’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61880" indent="-1173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nsus theorem: XY + X’Z + YZ = XY + X’Z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BD + C’A’B + DA’B = CBD + C’A’B + BDA’B = CBD + CA’B’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6BF-007C-41F4-B90C-2C2F6617FD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lgebraic Simplification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iminating Liter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+ X’Y = X + 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’B + A’B’C’D’ + ABCD’ = A’(B +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’D’) + ABCD’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A’(B + C’D’) + ABCD’ = A’B + A’C’D’ + ABCD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B (A’ +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D’) + A’C’D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B (A’ + CD’) + A’C’D’ = A’B + BCD’ + A’C’D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Redundant Ter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XX’, multiplying by (X+X’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YZ to XY + X’Z or adding XY to 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 + AD + A’C’ + DB’C’ = AB + DC’B’ + AD + A’C ’ +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C 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AB +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’C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C 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AB + AD + A’C’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AEE-10AC-4611-87C1-AB1F29582A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uality Princi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919080"/>
            <a:ext cx="83818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ortant property of Boolean algeb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x + 0 = x then x · 1 = 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07880" y="2181240"/>
          <a:ext cx="8344080" cy="3189240"/>
        </p:xfrm>
        <a:graphic>
          <a:graphicData uri="http://schemas.openxmlformats.org/drawingml/2006/table">
            <a:tbl>
              <a:tblPr/>
              <a:tblGrid>
                <a:gridCol w="3859200"/>
                <a:gridCol w="448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+ x =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·x =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+ x’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· x’ 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+ 1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· 0 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x + y + …)’ = x’ · y’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x · y · …)’ = x’ + y’ +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+ x · y =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·(x+y) =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y + x’ z + y z = xy + x’ 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x+y)(x’+z)(y+z) = (x+y)(x’+z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x+y)(x’+z) = x z + x’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y + x’ z = (x+z) (x’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F72-D0FB-474C-BFB9-B87688266E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clusive OR ( XOR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 = 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 = X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 =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’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tative, associative, and distributive laws hol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= X’Y + XY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)’ =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’ = X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= XY + X’Y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 =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X’ Y’ C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X’ Y Cin’ +X Y’ Cin’ +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X Y C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= (X’ Y’ + X Y) Cin + (X’ Y + X Y’) Cin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= 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)’ Cin + 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) Cin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=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i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C9A-EB90-410E-91D6-66B2EEBAD6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Karnaugh Maps (1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= A’B’C’D’ + AB’C’D’ + A’B’CD’ + AB’CD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12880" y="1689120"/>
          <a:ext cx="5183280" cy="3871800"/>
        </p:xfrm>
        <a:graphic>
          <a:graphicData uri="http://schemas.openxmlformats.org/drawingml/2006/table">
            <a:tbl>
              <a:tblPr/>
              <a:tblGrid>
                <a:gridCol w="1218960"/>
                <a:gridCol w="887400"/>
                <a:gridCol w="1044720"/>
                <a:gridCol w="1074600"/>
                <a:gridCol w="957600"/>
              </a:tblGrid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582560" y="2322360"/>
            <a:ext cx="1392480" cy="1190880"/>
          </a:xfrm>
          <a:custGeom>
            <a:avLst/>
            <a:gdLst/>
            <a:ahLst/>
            <a:rect l="l" t="t" r="r" b="b"/>
            <a:pathLst>
              <a:path w="877" h="750">
                <a:moveTo>
                  <a:pt x="822" y="0"/>
                </a:moveTo>
                <a:cubicBezTo>
                  <a:pt x="849" y="193"/>
                  <a:pt x="877" y="387"/>
                  <a:pt x="740" y="512"/>
                </a:cubicBezTo>
                <a:cubicBezTo>
                  <a:pt x="603" y="637"/>
                  <a:pt x="301" y="693"/>
                  <a:pt x="0" y="75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01560" y="2343240"/>
            <a:ext cx="1392120" cy="1190520"/>
          </a:xfrm>
          <a:custGeom>
            <a:avLst/>
            <a:gdLst/>
            <a:ahLst/>
            <a:rect l="l" t="t" r="r" b="b"/>
            <a:pathLst>
              <a:path w="877" h="750">
                <a:moveTo>
                  <a:pt x="822" y="0"/>
                </a:moveTo>
                <a:cubicBezTo>
                  <a:pt x="849" y="193"/>
                  <a:pt x="877" y="387"/>
                  <a:pt x="740" y="512"/>
                </a:cubicBezTo>
                <a:cubicBezTo>
                  <a:pt x="603" y="637"/>
                  <a:pt x="301" y="693"/>
                  <a:pt x="0" y="75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634400" y="4796280"/>
            <a:ext cx="1392120" cy="1190520"/>
          </a:xfrm>
          <a:custGeom>
            <a:avLst/>
            <a:gdLst/>
            <a:ahLst/>
            <a:rect l="l" t="t" r="r" b="b"/>
            <a:pathLst>
              <a:path w="877" h="750">
                <a:moveTo>
                  <a:pt x="822" y="0"/>
                </a:moveTo>
                <a:cubicBezTo>
                  <a:pt x="849" y="193"/>
                  <a:pt x="877" y="387"/>
                  <a:pt x="740" y="512"/>
                </a:cubicBezTo>
                <a:cubicBezTo>
                  <a:pt x="603" y="637"/>
                  <a:pt x="301" y="693"/>
                  <a:pt x="0" y="75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rot="5400000">
            <a:off x="5124600" y="4644000"/>
            <a:ext cx="1392120" cy="1190520"/>
          </a:xfrm>
          <a:custGeom>
            <a:avLst/>
            <a:gdLst/>
            <a:ahLst/>
            <a:rect l="l" t="t" r="r" b="b"/>
            <a:pathLst>
              <a:path w="877" h="750">
                <a:moveTo>
                  <a:pt x="822" y="0"/>
                </a:moveTo>
                <a:cubicBezTo>
                  <a:pt x="849" y="193"/>
                  <a:pt x="877" y="387"/>
                  <a:pt x="740" y="512"/>
                </a:cubicBezTo>
                <a:cubicBezTo>
                  <a:pt x="603" y="637"/>
                  <a:pt x="301" y="693"/>
                  <a:pt x="0" y="75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1280" y="599112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= A’B’C’D’ + AB’C’D’ + A’B’CD’ + AB’CD’ = B’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A9F-9E32-47EA-819F-2F5D89ECF5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BANCI UNIV</cp:lastModifiedBy>
  <dcterms:modified xsi:type="dcterms:W3CDTF">2003-10-07T05:28:03Z</dcterms:modified>
  <cp:revision>546</cp:revision>
  <dc:subject/>
  <dc:title>PowerPoint Presentation</dc:title>
</cp:coreProperties>
</file>