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BED2-A501-49EB-A066-981902228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36572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94A3-76B7-4F6A-9D6F-73CFDA243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36572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9720" y="36572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86B3-DCE0-4090-9435-CFDB81418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38480" y="9903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400" y="9903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36572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38480" y="36572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400" y="36572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3A32-9BF5-4D56-9269-EF323868C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458E-FC78-4859-ADAF-34B27645D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AD04-3952-4624-BC7F-BE823A48B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6DA6-FC58-4723-BC0B-0FA9CC489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C270-B7C3-4214-BD3E-6E361A021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228600"/>
            <a:ext cx="83818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5884-D210-42D5-A013-F12AFE0F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36572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A4DB-EE58-4524-9637-A7D45D3D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9720" y="36572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3CDF-0703-4844-9F7F-E0441D6E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36572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572E-3A9E-4167-9B24-AADFCAC0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7492F-A37E-4E61-94EC-98062F3AC0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VHDL</a:t>
            </a:r>
            <a:br>
              <a:rPr sz="4400"/>
            </a:b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Design with Algorithmic State Machine (ASM) Chart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620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 31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kay Sava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bancı Univers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17A3-7667-45A6-AD78-25F13BD7623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State Box vs. Conditional Output Box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762120"/>
            <a:ext cx="12960" cy="53942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880" y="1303200"/>
            <a:ext cx="53499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 flipV="1">
            <a:off x="1887120" y="1022040"/>
            <a:ext cx="17640" cy="513396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368360" y="1301760"/>
            <a:ext cx="519120" cy="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72920" y="2965320"/>
            <a:ext cx="39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18480" y="927000"/>
            <a:ext cx="72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28640" y="1830240"/>
            <a:ext cx="5353200" cy="32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28640" y="2360520"/>
            <a:ext cx="5353200" cy="18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1886040" y="1023840"/>
            <a:ext cx="1440" cy="2793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876320" y="1023840"/>
            <a:ext cx="519120" cy="1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2395440" y="1036800"/>
            <a:ext cx="1800" cy="2793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95440" y="1301760"/>
            <a:ext cx="519120" cy="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2913120" y="1023840"/>
            <a:ext cx="1440" cy="2793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903400" y="1023840"/>
            <a:ext cx="519120" cy="1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422520" y="1036800"/>
            <a:ext cx="1800" cy="2793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429000" y="1301760"/>
            <a:ext cx="519120" cy="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946680" y="1023840"/>
            <a:ext cx="1440" cy="2793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36960" y="1023840"/>
            <a:ext cx="519120" cy="1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4456080" y="1036800"/>
            <a:ext cx="1800" cy="2793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57880" y="1300320"/>
            <a:ext cx="518760" cy="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4975200" y="1022400"/>
            <a:ext cx="1440" cy="2793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2922480" y="1022040"/>
            <a:ext cx="0" cy="514980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flipV="1">
            <a:off x="3927600" y="1031400"/>
            <a:ext cx="7920" cy="514044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4952880" y="1022040"/>
            <a:ext cx="6480" cy="514980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57200" y="1832040"/>
            <a:ext cx="519120" cy="14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889280" y="1549440"/>
            <a:ext cx="10252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1889280" y="1549440"/>
            <a:ext cx="1440" cy="2793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2922480" y="1549440"/>
            <a:ext cx="1800" cy="2793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11320" y="1833480"/>
            <a:ext cx="20480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351080" y="2360520"/>
            <a:ext cx="519120" cy="180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882800" y="2076480"/>
            <a:ext cx="102564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1882800" y="2076480"/>
            <a:ext cx="1440" cy="27936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2916360" y="2076480"/>
            <a:ext cx="1440" cy="27936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905200" y="2360520"/>
            <a:ext cx="204768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31880" y="2847960"/>
            <a:ext cx="53499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357200" y="2847960"/>
            <a:ext cx="3598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1880" y="3305160"/>
            <a:ext cx="53499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57200" y="3305160"/>
            <a:ext cx="1551240" cy="0"/>
          </a:xfrm>
          <a:prstGeom prst="line">
            <a:avLst/>
          </a:prstGeom>
          <a:ln w="28440">
            <a:solidFill>
              <a:srgbClr val="1e1e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909880" y="3025800"/>
            <a:ext cx="1025640" cy="0"/>
          </a:xfrm>
          <a:prstGeom prst="line">
            <a:avLst/>
          </a:prstGeom>
          <a:ln w="28440">
            <a:solidFill>
              <a:srgbClr val="1e1e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2909880" y="3025800"/>
            <a:ext cx="1440" cy="279360"/>
          </a:xfrm>
          <a:prstGeom prst="line">
            <a:avLst/>
          </a:prstGeom>
          <a:ln w="28440">
            <a:solidFill>
              <a:srgbClr val="1e1e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3943440" y="3025800"/>
            <a:ext cx="1440" cy="279360"/>
          </a:xfrm>
          <a:prstGeom prst="line">
            <a:avLst/>
          </a:prstGeom>
          <a:ln w="28440">
            <a:solidFill>
              <a:srgbClr val="1e1e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27600" y="3305160"/>
            <a:ext cx="1031760" cy="0"/>
          </a:xfrm>
          <a:prstGeom prst="line">
            <a:avLst/>
          </a:prstGeom>
          <a:ln w="28440">
            <a:solidFill>
              <a:srgbClr val="1e1e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01360" y="14540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78720" y="20034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, C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12920" y="245736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, C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43040" y="4121280"/>
            <a:ext cx="5338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743040" y="4646160"/>
            <a:ext cx="5338800" cy="46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371600" y="4122720"/>
            <a:ext cx="519120" cy="14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903320" y="3840120"/>
            <a:ext cx="10256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1903320" y="3840120"/>
            <a:ext cx="1800" cy="2793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2936880" y="3840120"/>
            <a:ext cx="1440" cy="2793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925720" y="4124160"/>
            <a:ext cx="20480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1365120" y="4646160"/>
            <a:ext cx="1552680" cy="468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914560" y="4367160"/>
            <a:ext cx="102564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2914560" y="4367160"/>
            <a:ext cx="1800" cy="27936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3948120" y="4367160"/>
            <a:ext cx="1440" cy="27936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959280" y="4646520"/>
            <a:ext cx="1008000" cy="468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280" y="5138640"/>
            <a:ext cx="53355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46280" y="5595840"/>
            <a:ext cx="53355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386000" y="5138640"/>
            <a:ext cx="2549520" cy="0"/>
          </a:xfrm>
          <a:prstGeom prst="line">
            <a:avLst/>
          </a:prstGeom>
          <a:ln w="28440">
            <a:solidFill>
              <a:srgbClr val="1e1e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927600" y="4859280"/>
            <a:ext cx="1025280" cy="0"/>
          </a:xfrm>
          <a:prstGeom prst="line">
            <a:avLst/>
          </a:prstGeom>
          <a:ln w="28440">
            <a:solidFill>
              <a:srgbClr val="1e1e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3927600" y="4859280"/>
            <a:ext cx="1440" cy="279360"/>
          </a:xfrm>
          <a:prstGeom prst="line">
            <a:avLst/>
          </a:prstGeom>
          <a:ln w="28440">
            <a:solidFill>
              <a:srgbClr val="1e1e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4960800" y="4859280"/>
            <a:ext cx="1800" cy="279360"/>
          </a:xfrm>
          <a:prstGeom prst="line">
            <a:avLst/>
          </a:prstGeom>
          <a:ln w="28440">
            <a:solidFill>
              <a:srgbClr val="1e1e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15760" y="3745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3120" y="429408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, C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7000" y="4748040"/>
            <a:ext cx="92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, C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58880" y="6173640"/>
            <a:ext cx="53229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46400" y="526716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, C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94200" y="5721480"/>
            <a:ext cx="92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, C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386000" y="5595840"/>
            <a:ext cx="3598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386000" y="6172200"/>
            <a:ext cx="1517400" cy="0"/>
          </a:xfrm>
          <a:prstGeom prst="line">
            <a:avLst/>
          </a:prstGeom>
          <a:ln w="28440">
            <a:solidFill>
              <a:srgbClr val="1e1e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895480" y="5877000"/>
            <a:ext cx="1025640" cy="0"/>
          </a:xfrm>
          <a:prstGeom prst="line">
            <a:avLst/>
          </a:prstGeom>
          <a:ln w="28440">
            <a:solidFill>
              <a:srgbClr val="1e1e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2895480" y="5877000"/>
            <a:ext cx="1800" cy="279360"/>
          </a:xfrm>
          <a:prstGeom prst="line">
            <a:avLst/>
          </a:prstGeom>
          <a:ln w="28440">
            <a:solidFill>
              <a:srgbClr val="1e1e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3929040" y="5894280"/>
            <a:ext cx="1440" cy="279360"/>
          </a:xfrm>
          <a:prstGeom prst="line">
            <a:avLst/>
          </a:prstGeom>
          <a:ln w="28440">
            <a:solidFill>
              <a:srgbClr val="1e1e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324480" y="1036800"/>
            <a:ext cx="381240" cy="2468520"/>
          </a:xfrm>
          <a:custGeom>
            <a:avLst/>
            <a:gdLst>
              <a:gd name="textAreaLeft" fmla="*/ 0 w 381240"/>
              <a:gd name="textAreaRight" fmla="*/ 137520 w 381240"/>
              <a:gd name="textAreaTop" fmla="*/ 64080 h 2468520"/>
              <a:gd name="textAreaBottom" fmla="*/ 2404440 h 2468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324480" y="3903840"/>
            <a:ext cx="381240" cy="2468520"/>
          </a:xfrm>
          <a:custGeom>
            <a:avLst/>
            <a:gdLst>
              <a:gd name="textAreaLeft" fmla="*/ 0 w 381240"/>
              <a:gd name="textAreaRight" fmla="*/ 137520 w 381240"/>
              <a:gd name="textAreaTop" fmla="*/ 64080 h 2468520"/>
              <a:gd name="textAreaBottom" fmla="*/ 2404440 h 2468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719400" y="2076480"/>
            <a:ext cx="53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710760" y="4910040"/>
            <a:ext cx="55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1903320" y="6156360"/>
            <a:ext cx="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13480" y="624060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 is tested 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935520" y="6172200"/>
            <a:ext cx="1017360" cy="1440"/>
          </a:xfrm>
          <a:prstGeom prst="line">
            <a:avLst/>
          </a:prstGeom>
          <a:ln w="28440">
            <a:solidFill>
              <a:srgbClr val="1e1e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0664-DBD9-4189-A401-43C5FA179A1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Synthesis from ASM Chart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1523880" y="1397160"/>
          <a:ext cx="6096240" cy="146052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sent 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r, Tim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G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G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R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R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R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G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G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R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5" name=""/>
          <p:cNvSpPr/>
          <p:nvPr/>
        </p:nvSpPr>
        <p:spPr>
          <a:xfrm>
            <a:off x="362880" y="952560"/>
            <a:ext cx="33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 and output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1828800" y="4635360"/>
          <a:ext cx="6095880" cy="146052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8960"/>
                <a:gridCol w="1219320"/>
                <a:gridCol w="121932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r, Tim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7" name=""/>
          <p:cNvSpPr/>
          <p:nvPr/>
        </p:nvSpPr>
        <p:spPr>
          <a:xfrm>
            <a:off x="316800" y="397836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ition and output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149280" y="2857680"/>
            <a:ext cx="286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Next State, start_ti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174560" y="6095880"/>
            <a:ext cx="193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800" spc="-1" strike="noStrike" baseline="30000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, start_ti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5BE6-E7FF-437D-BD70-949EECEA770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2666880" y="2514600"/>
            <a:ext cx="32076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326280" y="2514600"/>
            <a:ext cx="32076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181480" y="2092320"/>
            <a:ext cx="1684440" cy="4222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181480" y="4734000"/>
            <a:ext cx="1905120" cy="422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K-Maps for Traffic Signal Controller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990720" y="1397160"/>
          <a:ext cx="6095880" cy="149832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8960"/>
                <a:gridCol w="1219320"/>
                <a:gridCol w="121932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r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im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6" name=""/>
          <p:cNvSpPr/>
          <p:nvPr/>
        </p:nvSpPr>
        <p:spPr>
          <a:xfrm>
            <a:off x="2874960" y="3171960"/>
            <a:ext cx="273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800" spc="-1" strike="noStrike" baseline="30000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= Q’ car + Q timed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143000" y="4038480"/>
          <a:ext cx="6095880" cy="149832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8960"/>
                <a:gridCol w="1219320"/>
                <a:gridCol w="121932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r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im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8" name=""/>
          <p:cNvSpPr/>
          <p:nvPr/>
        </p:nvSpPr>
        <p:spPr>
          <a:xfrm>
            <a:off x="3173040" y="5813280"/>
            <a:ext cx="244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tart_timer = Q’ 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92CE-1B7E-409E-96A8-12F674D4C1E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Monotype Corsiva"/>
              </a:rPr>
              <a:t>Hardware Implementation</a:t>
            </a:r>
            <a:endParaRPr b="0" lang="en-US" sz="40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320" name=""/>
          <p:cNvSpPr/>
          <p:nvPr/>
        </p:nvSpPr>
        <p:spPr>
          <a:xfrm>
            <a:off x="4216320" y="2803680"/>
            <a:ext cx="520920" cy="385560"/>
          </a:xfrm>
          <a:custGeom>
            <a:avLst/>
            <a:gdLst/>
            <a:ahLst/>
            <a:rect l="l" t="t" r="r" b="b"/>
            <a:pathLst>
              <a:path w="40" h="30">
                <a:moveTo>
                  <a:pt x="40" y="15"/>
                </a:moveTo>
                <a:cubicBezTo>
                  <a:pt x="35" y="23"/>
                  <a:pt x="25" y="28"/>
                  <a:pt x="12" y="30"/>
                </a:cubicBezTo>
                <a:lnTo>
                  <a:pt x="12" y="30"/>
                </a:lnTo>
                <a:lnTo>
                  <a:pt x="0" y="30"/>
                </a:lnTo>
                <a:cubicBezTo>
                  <a:pt x="8" y="21"/>
                  <a:pt x="8" y="10"/>
                  <a:pt x="0" y="0"/>
                </a:cubicBezTo>
                <a:lnTo>
                  <a:pt x="0" y="0"/>
                </a:lnTo>
                <a:lnTo>
                  <a:pt x="12" y="0"/>
                </a:lnTo>
                <a:cubicBezTo>
                  <a:pt x="25" y="2"/>
                  <a:pt x="35" y="8"/>
                  <a:pt x="40" y="15"/>
                </a:cubicBezTo>
                <a:close/>
              </a:path>
            </a:pathLst>
          </a:custGeom>
          <a:solidFill>
            <a:srgbClr val="3333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925720" y="2460600"/>
            <a:ext cx="509760" cy="385920"/>
          </a:xfrm>
          <a:custGeom>
            <a:avLst/>
            <a:gdLst/>
            <a:ahLst/>
            <a:rect l="l" t="t" r="r" b="b"/>
            <a:pathLst>
              <a:path w="39" h="30">
                <a:moveTo>
                  <a:pt x="24" y="30"/>
                </a:moveTo>
                <a:lnTo>
                  <a:pt x="0" y="30"/>
                </a:lnTo>
                <a:lnTo>
                  <a:pt x="0" y="0"/>
                </a:lnTo>
                <a:lnTo>
                  <a:pt x="24" y="0"/>
                </a:lnTo>
                <a:cubicBezTo>
                  <a:pt x="32" y="0"/>
                  <a:pt x="39" y="6"/>
                  <a:pt x="39" y="15"/>
                </a:cubicBezTo>
                <a:cubicBezTo>
                  <a:pt x="39" y="23"/>
                  <a:pt x="32" y="30"/>
                  <a:pt x="24" y="30"/>
                </a:cubicBezTo>
                <a:cubicBezTo>
                  <a:pt x="24" y="30"/>
                  <a:pt x="24" y="30"/>
                  <a:pt x="24" y="30"/>
                </a:cubicBezTo>
                <a:close/>
              </a:path>
            </a:pathLst>
          </a:custGeom>
          <a:solidFill>
            <a:srgbClr val="00cc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185840" y="243684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925720" y="3146400"/>
            <a:ext cx="509760" cy="385920"/>
          </a:xfrm>
          <a:custGeom>
            <a:avLst/>
            <a:gdLst/>
            <a:ahLst/>
            <a:rect l="l" t="t" r="r" b="b"/>
            <a:pathLst>
              <a:path w="39" h="30">
                <a:moveTo>
                  <a:pt x="24" y="30"/>
                </a:moveTo>
                <a:lnTo>
                  <a:pt x="0" y="30"/>
                </a:lnTo>
                <a:lnTo>
                  <a:pt x="0" y="0"/>
                </a:lnTo>
                <a:lnTo>
                  <a:pt x="24" y="0"/>
                </a:lnTo>
                <a:cubicBezTo>
                  <a:pt x="32" y="0"/>
                  <a:pt x="39" y="6"/>
                  <a:pt x="39" y="15"/>
                </a:cubicBezTo>
                <a:cubicBezTo>
                  <a:pt x="39" y="23"/>
                  <a:pt x="32" y="30"/>
                  <a:pt x="24" y="30"/>
                </a:cubicBezTo>
                <a:cubicBezTo>
                  <a:pt x="24" y="30"/>
                  <a:pt x="24" y="30"/>
                  <a:pt x="24" y="30"/>
                </a:cubicBezTo>
                <a:close/>
              </a:path>
            </a:pathLst>
          </a:custGeom>
          <a:solidFill>
            <a:srgbClr val="00cc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435480" y="2641680"/>
            <a:ext cx="19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441600" y="3346560"/>
            <a:ext cx="2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641760" y="2641680"/>
            <a:ext cx="0" cy="26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643200" y="3084480"/>
            <a:ext cx="0" cy="262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641760" y="3084480"/>
            <a:ext cx="63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641760" y="2903400"/>
            <a:ext cx="63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1717560" y="2739960"/>
            <a:ext cx="120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1716120" y="3435480"/>
            <a:ext cx="120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325520" y="31352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349960" y="2708280"/>
            <a:ext cx="655560" cy="7524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rot="5400000">
            <a:off x="5302800" y="3236040"/>
            <a:ext cx="227160" cy="13320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737240" y="3008160"/>
            <a:ext cx="6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005520" y="294480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005520" y="329580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935600" y="2703600"/>
            <a:ext cx="40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1600" spc="-1" strike="noStrike" baseline="30000">
                <a:solidFill>
                  <a:srgbClr val="3333cc"/>
                </a:solidFill>
                <a:latin typeface="Comic Sans MS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807240" y="280512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814440" y="3170160"/>
            <a:ext cx="37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Q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643200" y="334656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643200" y="3822840"/>
            <a:ext cx="317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818400" y="3583080"/>
            <a:ext cx="166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rt_ti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5041800" y="3295800"/>
            <a:ext cx="30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19680" y="325764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6184800" y="2246400"/>
            <a:ext cx="0" cy="69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2540160" y="2246400"/>
            <a:ext cx="3644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540160" y="2246400"/>
            <a:ext cx="0" cy="331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540160" y="2577960"/>
            <a:ext cx="385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6375240" y="2031480"/>
            <a:ext cx="0" cy="126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2157480" y="2031840"/>
            <a:ext cx="421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57480" y="203184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57480" y="3257640"/>
            <a:ext cx="768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597120" y="3311640"/>
            <a:ext cx="8748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140520" y="2909880"/>
            <a:ext cx="8712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330960" y="3257640"/>
            <a:ext cx="8748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66840" y="4471920"/>
            <a:ext cx="781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flip-flop outputs can be used directly to control the traffic sig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=0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he signal for the major road is gre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ignal for the minor road is 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6696-35E8-47B0-A1AF-0D7834FC804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Monotype Corsiva"/>
              </a:rPr>
              <a:t>VHDL Model  for Traffic Control Signals</a:t>
            </a:r>
            <a:endParaRPr b="0" lang="en-US" sz="40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560" y="933480"/>
            <a:ext cx="8607240" cy="529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brar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IEEE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s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EEE.std_logic_1164.all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tity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affic_signal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clock, timed, car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d_ulog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start_timer, major_green, minor_green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u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d_ulogic)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entit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traffic_signals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chitectur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sm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traffic_signal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proce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clock, timed, car)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typ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e_typ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(G, R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ariabl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ate: state_type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rt_timer &lt;= ‘0’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rising_edge(clock)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the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cas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whe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 =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major_green &lt;= ‘1’; minor_green &lt;= ‘0’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 car = ‘1’)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e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rt_timer = ‘1’; state := R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end i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e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 =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major_green &lt;= ‘0’; minor_green &lt;= ‘1’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 timed = ‘1’)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e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e := G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end i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case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end if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process;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architectur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asm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5BF4-9899-479A-90C2-FA791274E1F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4560" y="14292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Alternative VHDL Code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4560" y="730080"/>
            <a:ext cx="8381880" cy="555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chitectur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sm2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traffic_signal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typ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e_typ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(G, R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ariabl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ate, next_state: state_type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q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clock)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 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-- for sequential par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begi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if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rising_edge(clock)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the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e &lt;= next_state;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if;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end proces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q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com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timed, car, state)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 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-- for combinational par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begi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rt_timer &lt;= ‘0’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whe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 =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major_green &lt;= ‘1’; minor_green &lt;= ‘0’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car = ‘1’)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en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rt_timer = ‘1’; next_state &lt;= R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next_state &lt;= G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end i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e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 =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major_green &lt;= ‘0’; minor_green &lt;= ‘1’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 timed = ‘1’)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e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ext_state &lt;= G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ext_state &lt;= R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end i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case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proces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architectur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asm2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B425-2B19-4DD8-A137-901B0EFABE5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Monotype Corsiva"/>
              </a:rPr>
              <a:t>Binary Multiplier Design with  ASM Charts</a:t>
            </a:r>
            <a:endParaRPr b="0" lang="en-US" sz="40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363" name=""/>
          <p:cNvSpPr/>
          <p:nvPr/>
        </p:nvSpPr>
        <p:spPr>
          <a:xfrm>
            <a:off x="1447920" y="1397160"/>
            <a:ext cx="1234800" cy="341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517760" y="1916280"/>
            <a:ext cx="1103040" cy="522000"/>
          </a:xfrm>
          <a:prstGeom prst="flowChartDecisi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060640" y="1735200"/>
            <a:ext cx="4680" cy="1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083040" y="2427120"/>
            <a:ext cx="904680" cy="376560"/>
          </a:xfrm>
          <a:prstGeom prst="flowChartAlternateProcess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200400" y="243036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506760" y="2166840"/>
            <a:ext cx="0" cy="26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583000" y="2166840"/>
            <a:ext cx="92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428200" y="35892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125240" y="35258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058840" y="1117440"/>
            <a:ext cx="1800" cy="27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505320" y="280368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889360" y="3071880"/>
            <a:ext cx="1234800" cy="341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954160" y="3594240"/>
            <a:ext cx="1103400" cy="522000"/>
          </a:xfrm>
          <a:prstGeom prst="flowChartDecisi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497400" y="3413160"/>
            <a:ext cx="4680" cy="1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778040" y="4392720"/>
            <a:ext cx="904680" cy="376200"/>
          </a:xfrm>
          <a:prstGeom prst="flowChartAlternateProcess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916640" y="4408560"/>
            <a:ext cx="6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hi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2222640" y="3874680"/>
            <a:ext cx="0" cy="520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22640" y="3875040"/>
            <a:ext cx="73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032360" y="3862440"/>
            <a:ext cx="73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11720" y="4395960"/>
            <a:ext cx="904680" cy="376200"/>
          </a:xfrm>
          <a:prstGeom prst="flowChartAlternateProcess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4764240" y="3855600"/>
            <a:ext cx="0" cy="520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461120" y="4411800"/>
            <a:ext cx="60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670040" y="5116680"/>
            <a:ext cx="1103400" cy="522000"/>
          </a:xfrm>
          <a:prstGeom prst="flowChartDecisi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_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146480" y="5218200"/>
            <a:ext cx="1235160" cy="341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hi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24800" y="1103400"/>
            <a:ext cx="4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813040" y="2759040"/>
            <a:ext cx="4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093200" y="4906800"/>
            <a:ext cx="4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764240" y="4775040"/>
            <a:ext cx="0" cy="44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222640" y="4768920"/>
            <a:ext cx="0" cy="34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211640" y="5791320"/>
            <a:ext cx="1103400" cy="522000"/>
          </a:xfrm>
          <a:prstGeom prst="flowChartDecisi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_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764240" y="5559480"/>
            <a:ext cx="0" cy="231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315040" y="6058080"/>
            <a:ext cx="78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6095880" y="3240000"/>
            <a:ext cx="0" cy="281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4146120" y="3240000"/>
            <a:ext cx="194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336280" y="57913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641600" y="5896080"/>
            <a:ext cx="1234800" cy="341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537200" y="5613480"/>
            <a:ext cx="4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835640" y="5886360"/>
            <a:ext cx="7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D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2889000" y="6058080"/>
            <a:ext cx="132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22640" y="5638680"/>
            <a:ext cx="0" cy="2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469440" y="6058080"/>
            <a:ext cx="11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469800" y="1558800"/>
            <a:ext cx="0" cy="449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9800" y="155880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84040" y="57722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196720" y="55976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1079640" y="5362560"/>
            <a:ext cx="59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1079640" y="3240000"/>
            <a:ext cx="0" cy="212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079640" y="3240000"/>
            <a:ext cx="180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339200" y="50767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888480" y="2166840"/>
            <a:ext cx="62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888840" y="1558440"/>
            <a:ext cx="0" cy="608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672640" y="18302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185120" y="18302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095880" y="1654200"/>
            <a:ext cx="31100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multiplie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rts when Start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counter counts the number of shifts and outputs co_out = 1 just before the last shift occu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the LSB of the multipl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6C45-89DE-4D34-910E-FD44128E716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560" y="114120"/>
            <a:ext cx="8381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VHDL Code for Binary Multiplier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4560" y="761760"/>
            <a:ext cx="8381880" cy="55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tity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ultiplie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clock, Start, co_out, M0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d_ulog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Load, Shift, Done, Add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u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d_ulogic)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entit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multiplier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chitectur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sm_be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multiplie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signal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e, next_state: intege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ang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to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3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proce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Start, co_out, M0, state)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oad &lt;= ‘0’; Shift &lt;= ‘0’; Add &lt;= ‘0’; 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-- </a:t>
            </a:r>
            <a:r>
              <a:rPr b="0" i="1" lang="en-US" sz="1600" spc="-1" strike="noStrike">
                <a:solidFill>
                  <a:srgbClr val="3333cc"/>
                </a:solidFill>
                <a:latin typeface="Courier New"/>
              </a:rPr>
              <a:t>conditional outputs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                                           -- </a:t>
            </a:r>
            <a:r>
              <a:rPr b="0" i="1" lang="en-US" sz="1600" spc="-1" strike="noStrike">
                <a:solidFill>
                  <a:srgbClr val="3333cc"/>
                </a:solidFill>
                <a:latin typeface="Courier New"/>
              </a:rPr>
              <a:t>get default value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whe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 =&gt;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rt = ‘1’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Load &lt;= ‘1’; next_state &lt;= 1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ext_state &lt;= 0;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if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whe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1 =&gt;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0 = ‘1’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Add &lt;= ‘1’; next_state &lt;= 2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hift &lt;=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‘1’;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_out = ‘1’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e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ext_state &lt;= 3;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ext_state &lt;= 1;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if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if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architectur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asm_beh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B529-105B-4BA1-9EE3-408E7E15C5A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VHDL Code for Binary Multiplier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chitectur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sm_be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multiplie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signal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e, next_state: intege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ang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to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3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proce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Start, co_out, M0, state)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oad &lt;= ‘0’; Shift &lt;= ‘0’; Add &lt;= ‘0’; 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-- </a:t>
            </a:r>
            <a:r>
              <a:rPr b="0" i="1" lang="en-US" sz="1600" spc="-1" strike="noStrike">
                <a:solidFill>
                  <a:srgbClr val="3333cc"/>
                </a:solidFill>
                <a:latin typeface="Courier New"/>
              </a:rPr>
              <a:t>conditional outputs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                                           -- </a:t>
            </a:r>
            <a:r>
              <a:rPr b="0" i="1" lang="en-US" sz="1600" spc="-1" strike="noStrike">
                <a:solidFill>
                  <a:srgbClr val="3333cc"/>
                </a:solidFill>
                <a:latin typeface="Courier New"/>
              </a:rPr>
              <a:t>get default value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..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whe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2 =&gt;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Shift &lt;= ‘1’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_out = ‘1’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e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ext_state &lt;= 3;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ext_state &lt;= 1;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if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whe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3 =&gt; done &lt;= ‘1’; next_state &lt;= 0;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case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end process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s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clock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begi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if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rising_edge(clock)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the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e &lt;= next_state;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if;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end process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architectur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asm_beh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78EC-745B-4A21-9B76-9249A4674D9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ASM Chart for Sequence Detector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422" name=""/>
          <p:cNvSpPr/>
          <p:nvPr/>
        </p:nvSpPr>
        <p:spPr>
          <a:xfrm>
            <a:off x="3494160" y="1397160"/>
            <a:ext cx="1235160" cy="341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4106880" y="762120"/>
            <a:ext cx="7920" cy="63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5040" y="11034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772800" y="1417680"/>
            <a:ext cx="6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z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666960" y="1916280"/>
            <a:ext cx="871560" cy="333360"/>
          </a:xfrm>
          <a:prstGeom prst="flowChartDecisi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106880" y="173844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735280" y="2301840"/>
            <a:ext cx="871560" cy="333360"/>
          </a:xfrm>
          <a:prstGeom prst="flowChartDecisi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614840" y="2316240"/>
            <a:ext cx="871560" cy="333360"/>
          </a:xfrm>
          <a:prstGeom prst="flowChartDecisi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3149280" y="2058840"/>
            <a:ext cx="51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149640" y="2058840"/>
            <a:ext cx="0" cy="2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4524120" y="2077920"/>
            <a:ext cx="51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041800" y="2095560"/>
            <a:ext cx="0" cy="2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106880" y="2249640"/>
            <a:ext cx="0" cy="23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592440" y="2467080"/>
            <a:ext cx="49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102200" y="2481120"/>
            <a:ext cx="498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566600" y="17524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264840" y="17524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502080" y="3081240"/>
            <a:ext cx="1235160" cy="341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00400" y="2481120"/>
            <a:ext cx="6480" cy="60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431520" y="278748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81440" y="3102120"/>
            <a:ext cx="6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z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675240" y="3600360"/>
            <a:ext cx="871200" cy="333360"/>
          </a:xfrm>
          <a:prstGeom prst="flowChartDecisi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114800" y="342252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743200" y="3986280"/>
            <a:ext cx="871560" cy="333360"/>
          </a:xfrm>
          <a:prstGeom prst="flowChartDecisi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622760" y="4000680"/>
            <a:ext cx="871560" cy="333360"/>
          </a:xfrm>
          <a:prstGeom prst="flowChartDecisi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157560" y="3743280"/>
            <a:ext cx="51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57560" y="3743280"/>
            <a:ext cx="0" cy="2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4532040" y="3762360"/>
            <a:ext cx="51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049720" y="3780000"/>
            <a:ext cx="0" cy="24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114800" y="3933720"/>
            <a:ext cx="0" cy="23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00360" y="4151160"/>
            <a:ext cx="49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110120" y="4165560"/>
            <a:ext cx="498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574520" y="34369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272760" y="34369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500280" y="4827600"/>
            <a:ext cx="1235160" cy="341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129200" y="4165560"/>
            <a:ext cx="0" cy="66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432240" y="45338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779640" y="4848120"/>
            <a:ext cx="6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z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673440" y="5346720"/>
            <a:ext cx="871560" cy="333360"/>
          </a:xfrm>
          <a:prstGeom prst="flowChartDecisi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113360" y="516888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741760" y="5732640"/>
            <a:ext cx="871560" cy="333360"/>
          </a:xfrm>
          <a:prstGeom prst="flowChartDecisi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621320" y="5746680"/>
            <a:ext cx="871560" cy="333360"/>
          </a:xfrm>
          <a:prstGeom prst="flowChartDecisi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3155760" y="5489640"/>
            <a:ext cx="51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156120" y="5489640"/>
            <a:ext cx="0" cy="2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4530600" y="5508720"/>
            <a:ext cx="51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048280" y="5526000"/>
            <a:ext cx="0" cy="2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113360" y="5680080"/>
            <a:ext cx="0" cy="23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598920" y="5897520"/>
            <a:ext cx="498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108320" y="5911920"/>
            <a:ext cx="498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573080" y="51832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270960" y="51832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2365200" y="2467080"/>
            <a:ext cx="37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2365200" y="1103400"/>
            <a:ext cx="0" cy="13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365200" y="1103400"/>
            <a:ext cx="1725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370960" y="21337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320360" y="21877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628440" y="21906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486400" y="2481120"/>
            <a:ext cx="3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819760" y="2481120"/>
            <a:ext cx="0" cy="20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4129200" y="4533840"/>
            <a:ext cx="169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106880" y="5911920"/>
            <a:ext cx="0" cy="47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106880" y="6386400"/>
            <a:ext cx="232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6429240" y="1103040"/>
            <a:ext cx="0" cy="528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4106520" y="1103400"/>
            <a:ext cx="232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494320" y="416556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476320" y="38545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482800" y="21906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312440" y="38894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594960" y="38894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2365200" y="4151160"/>
            <a:ext cx="37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2365200" y="2787480"/>
            <a:ext cx="0" cy="13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365200" y="2787480"/>
            <a:ext cx="1725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410560" y="38466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-41400" y="1386000"/>
            <a:ext cx="21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: sum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0 mod 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-43920" y="3154320"/>
            <a:ext cx="21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: sum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1 mod 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-34200" y="484812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: sum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2 mod 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2365200" y="5897520"/>
            <a:ext cx="37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2365200" y="4533840"/>
            <a:ext cx="0" cy="13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365200" y="4533840"/>
            <a:ext cx="1725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440800" y="55609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600000" y="56325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291920" y="56214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486400" y="5911920"/>
            <a:ext cx="15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7039080" y="2792160"/>
            <a:ext cx="0" cy="310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4106520" y="2792520"/>
            <a:ext cx="2932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533560" y="55641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D70B-12B0-4971-B527-297573BB84F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Motivation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quential systems are complex and require a formal notation to describe their functional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om this formal notation, a state table and hence Boolean expressions can be derive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gorithmic State Machine (ASM) charts provide a less ambiguous description of a sequential system than state diagram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 diagrams do not provide explicit timing informati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example, when an output signal is assigned a new value is sometimes not clea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A724-B50D-4186-9E7D-744FA1258A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VHDL Code for Sequence Detector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tity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q_detect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clock, x, y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d_ulog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z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u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d_ulogic)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entit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eq_detector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chitectur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sm_be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eq_detect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typ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e_typ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state_A, state_B, state_C)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signal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e, next_state: state_type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proce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x, y, state)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cas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whe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e_A =&gt; z &lt;= ‘1’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 = ‘0’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 = ‘0’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e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ext_state &lt;= state_A;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ext_state &lt;= state_B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if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els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if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 = ‘0’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e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ext_state &lt;= state_B;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ext_state &lt;= state_C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if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end if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..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process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architectur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asm_beh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5AC4-2BE9-4EB6-B4DF-4F52E81EE8E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VHDL Code for Sequence Detector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chitectur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sm_be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eq_detect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..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proce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x, y, state)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..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whe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e_B =&gt; z &lt;= ‘0’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 = ‘0’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 = ‘0’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e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ext_state &lt;= state_B;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ext_state &lt;= state_C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if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els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if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 = ‘0’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e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ext_state &lt;= state_C;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ext_state &lt;= state_A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if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end if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..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process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architectur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asm_beh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354A-BEE5-418E-B31A-0E7B841CDF3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VHDL Code for Sequence Detector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04560" y="1047600"/>
            <a:ext cx="8381880" cy="523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chitectur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sm_be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eq_detect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..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proce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x, y, state)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..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whe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e_C =&gt; z &lt;= ‘0’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 = ‘0’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 = ‘0’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e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ext_state &lt;= state_C;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ext_state &lt;= state_A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if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els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if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 = ‘0’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e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ext_state &lt;= state_A;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ext_state &lt;= state_B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if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end if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end case;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process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s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clock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begi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if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rising_edge(clock)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the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e &lt;= next_state;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if;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end process;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architectur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asm_beh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3999-970C-4377-A375-050A620D38A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Monotype Corsiva"/>
              </a:rPr>
              <a:t>State Diagram for a Traffic Signal Controller</a:t>
            </a:r>
            <a:endParaRPr b="0" lang="en-US" sz="40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46" name=""/>
          <p:cNvSpPr/>
          <p:nvPr/>
        </p:nvSpPr>
        <p:spPr>
          <a:xfrm>
            <a:off x="3606840" y="1117440"/>
            <a:ext cx="0" cy="712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781280" y="1117440"/>
            <a:ext cx="0" cy="712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06840" y="2768760"/>
            <a:ext cx="0" cy="712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81280" y="2768760"/>
            <a:ext cx="0" cy="712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06840" y="1830240"/>
            <a:ext cx="979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06840" y="2776680"/>
            <a:ext cx="979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1720" y="1822320"/>
            <a:ext cx="979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01720" y="2768760"/>
            <a:ext cx="979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670200" y="1482840"/>
            <a:ext cx="604800" cy="287280"/>
            <a:chOff x="3670200" y="1482840"/>
            <a:chExt cx="604800" cy="287280"/>
          </a:xfrm>
        </p:grpSpPr>
        <p:sp>
          <p:nvSpPr>
            <p:cNvPr id="55" name=""/>
            <p:cNvSpPr/>
            <p:nvPr/>
          </p:nvSpPr>
          <p:spPr>
            <a:xfrm>
              <a:off x="3670200" y="1482840"/>
              <a:ext cx="604800" cy="287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697560" y="1523160"/>
              <a:ext cx="239400" cy="219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993840" y="1519560"/>
              <a:ext cx="239400" cy="219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1138320" y="2827440"/>
            <a:ext cx="604800" cy="287280"/>
            <a:chOff x="1138320" y="2827440"/>
            <a:chExt cx="604800" cy="287280"/>
          </a:xfrm>
        </p:grpSpPr>
        <p:sp>
          <p:nvSpPr>
            <p:cNvPr id="59" name=""/>
            <p:cNvSpPr/>
            <p:nvPr/>
          </p:nvSpPr>
          <p:spPr>
            <a:xfrm>
              <a:off x="1138320" y="2827440"/>
              <a:ext cx="604800" cy="287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165680" y="2867760"/>
              <a:ext cx="239400" cy="219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461960" y="2864160"/>
              <a:ext cx="239400" cy="219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1417680" y="1168560"/>
            <a:ext cx="287280" cy="604800"/>
            <a:chOff x="1417680" y="1168560"/>
            <a:chExt cx="287280" cy="604800"/>
          </a:xfrm>
        </p:grpSpPr>
        <p:sp>
          <p:nvSpPr>
            <p:cNvPr id="63" name=""/>
            <p:cNvSpPr/>
            <p:nvPr/>
          </p:nvSpPr>
          <p:spPr>
            <a:xfrm rot="16200000">
              <a:off x="1258920" y="1327320"/>
              <a:ext cx="604800" cy="287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rot="16200000">
              <a:off x="1447920" y="1516320"/>
              <a:ext cx="239400" cy="219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6200000">
              <a:off x="1444320" y="1220040"/>
              <a:ext cx="239400" cy="219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3668760" y="2830680"/>
            <a:ext cx="287280" cy="604800"/>
            <a:chOff x="3668760" y="2830680"/>
            <a:chExt cx="287280" cy="604800"/>
          </a:xfrm>
        </p:grpSpPr>
        <p:sp>
          <p:nvSpPr>
            <p:cNvPr id="67" name=""/>
            <p:cNvSpPr/>
            <p:nvPr/>
          </p:nvSpPr>
          <p:spPr>
            <a:xfrm rot="16200000">
              <a:off x="3510000" y="2989440"/>
              <a:ext cx="604800" cy="287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rot="16200000">
              <a:off x="3699000" y="3178440"/>
              <a:ext cx="239400" cy="219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3695400" y="2882160"/>
              <a:ext cx="239400" cy="219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2076480" y="1298520"/>
            <a:ext cx="13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jor r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31440" y="2162160"/>
            <a:ext cx="138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inor r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993840" y="2060640"/>
            <a:ext cx="79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701640" y="2567160"/>
            <a:ext cx="703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73240" y="1208160"/>
            <a:ext cx="0" cy="61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9600" y="2859120"/>
            <a:ext cx="0" cy="614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49360" y="2311560"/>
            <a:ext cx="108000" cy="39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28960" y="1863720"/>
            <a:ext cx="108000" cy="3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12000" y="2376360"/>
            <a:ext cx="7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s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41840" y="4730760"/>
            <a:ext cx="1074600" cy="998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major=G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minor=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20120" y="4522680"/>
            <a:ext cx="591840" cy="1227240"/>
          </a:xfrm>
          <a:custGeom>
            <a:avLst/>
            <a:gdLst/>
            <a:ahLst/>
            <a:rect l="l" t="t" r="r" b="b"/>
            <a:pathLst>
              <a:path w="373" h="773">
                <a:moveTo>
                  <a:pt x="0" y="249"/>
                </a:moveTo>
                <a:cubicBezTo>
                  <a:pt x="133" y="124"/>
                  <a:pt x="267" y="0"/>
                  <a:pt x="320" y="75"/>
                </a:cubicBezTo>
                <a:cubicBezTo>
                  <a:pt x="373" y="150"/>
                  <a:pt x="373" y="621"/>
                  <a:pt x="320" y="697"/>
                </a:cubicBezTo>
                <a:cubicBezTo>
                  <a:pt x="267" y="773"/>
                  <a:pt x="133" y="652"/>
                  <a:pt x="0" y="5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3218760" y="4584600"/>
            <a:ext cx="592200" cy="1227240"/>
          </a:xfrm>
          <a:custGeom>
            <a:avLst/>
            <a:gdLst/>
            <a:ahLst/>
            <a:rect l="l" t="t" r="r" b="b"/>
            <a:pathLst>
              <a:path w="373" h="773">
                <a:moveTo>
                  <a:pt x="0" y="249"/>
                </a:moveTo>
                <a:cubicBezTo>
                  <a:pt x="133" y="124"/>
                  <a:pt x="267" y="0"/>
                  <a:pt x="320" y="75"/>
                </a:cubicBezTo>
                <a:cubicBezTo>
                  <a:pt x="373" y="150"/>
                  <a:pt x="373" y="621"/>
                  <a:pt x="320" y="697"/>
                </a:cubicBezTo>
                <a:cubicBezTo>
                  <a:pt x="267" y="773"/>
                  <a:pt x="133" y="652"/>
                  <a:pt x="0" y="5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11680" y="4506840"/>
            <a:ext cx="1973160" cy="408240"/>
          </a:xfrm>
          <a:custGeom>
            <a:avLst/>
            <a:gdLst/>
            <a:ahLst/>
            <a:rect l="l" t="t" r="r" b="b"/>
            <a:pathLst>
              <a:path w="1243" h="257">
                <a:moveTo>
                  <a:pt x="0" y="257"/>
                </a:moveTo>
                <a:cubicBezTo>
                  <a:pt x="157" y="129"/>
                  <a:pt x="314" y="2"/>
                  <a:pt x="521" y="1"/>
                </a:cubicBezTo>
                <a:cubicBezTo>
                  <a:pt x="728" y="0"/>
                  <a:pt x="985" y="124"/>
                  <a:pt x="1243" y="2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718160" y="5473080"/>
            <a:ext cx="1973160" cy="407880"/>
          </a:xfrm>
          <a:custGeom>
            <a:avLst/>
            <a:gdLst/>
            <a:ahLst/>
            <a:rect l="l" t="t" r="r" b="b"/>
            <a:pathLst>
              <a:path w="1243" h="257">
                <a:moveTo>
                  <a:pt x="0" y="257"/>
                </a:moveTo>
                <a:cubicBezTo>
                  <a:pt x="157" y="129"/>
                  <a:pt x="314" y="2"/>
                  <a:pt x="521" y="1"/>
                </a:cubicBezTo>
                <a:cubicBezTo>
                  <a:pt x="728" y="0"/>
                  <a:pt x="985" y="124"/>
                  <a:pt x="1243" y="2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43800" y="4106880"/>
            <a:ext cx="202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r/start_tim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28640" y="5880240"/>
            <a:ext cx="94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32760" y="4915080"/>
            <a:ext cx="91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med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00480" y="507672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r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95920" y="4667400"/>
            <a:ext cx="1074960" cy="998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major=R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minor=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0BD0-D5AA-4F1F-A5A6-1F597399C6E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ASM Chart for Traffic Controller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224320" y="990360"/>
            <a:ext cx="3462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M charts resemble flow charts, but contain implicit timing inform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M charts represent real hardwar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ardware cannot suddenly start or sto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refore, all transitions within ASM charts must form closed paths (except a reset signal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"/>
          <p:cNvSpPr/>
          <p:nvPr/>
        </p:nvSpPr>
        <p:spPr>
          <a:xfrm>
            <a:off x="1131840" y="1577880"/>
            <a:ext cx="1785960" cy="8128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major=Green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minor=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54200" y="1249200"/>
            <a:ext cx="377640" cy="3668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31840" y="4603680"/>
            <a:ext cx="1785960" cy="8128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major=Red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minor=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54200" y="4260960"/>
            <a:ext cx="377640" cy="3664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79600" y="2652840"/>
            <a:ext cx="1103400" cy="593640"/>
          </a:xfrm>
          <a:prstGeom prst="flowChartDecisi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31840" y="2390760"/>
            <a:ext cx="0" cy="26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08240" y="3567240"/>
            <a:ext cx="1438200" cy="477720"/>
          </a:xfrm>
          <a:prstGeom prst="flowChartAlternateProcess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375560" y="363528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tart_ti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031840" y="3246480"/>
            <a:ext cx="0" cy="32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31840" y="4044960"/>
            <a:ext cx="0" cy="55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79600" y="5802480"/>
            <a:ext cx="1103400" cy="593640"/>
          </a:xfrm>
          <a:prstGeom prst="flowChartDecisi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04560" y="6095880"/>
            <a:ext cx="117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304920" y="990360"/>
            <a:ext cx="0" cy="510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990720"/>
            <a:ext cx="172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31840" y="990720"/>
            <a:ext cx="0" cy="62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83000" y="6095880"/>
            <a:ext cx="9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3556080" y="4260600"/>
            <a:ext cx="0" cy="18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031840" y="426096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83000" y="2946240"/>
            <a:ext cx="9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3556080" y="990720"/>
            <a:ext cx="0" cy="195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031840" y="9907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96920" y="2573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01520" y="5722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45160" y="3193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75240" y="5722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52720" y="5416560"/>
            <a:ext cx="0" cy="38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C1C9-7EE9-4628-8F7D-029DCEF3A9C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Components of ASM Chart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18" name=""/>
          <p:cNvSpPr/>
          <p:nvPr/>
        </p:nvSpPr>
        <p:spPr>
          <a:xfrm>
            <a:off x="3289320" y="1792440"/>
            <a:ext cx="1785960" cy="9190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X=1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11320" y="1463760"/>
            <a:ext cx="378000" cy="3664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3600" y="878040"/>
            <a:ext cx="169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 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49520" y="1797120"/>
            <a:ext cx="434880" cy="681120"/>
          </a:xfrm>
          <a:custGeom>
            <a:avLst/>
            <a:gdLst/>
            <a:ahLst/>
            <a:rect l="l" t="t" r="r" b="b"/>
            <a:pathLst>
              <a:path w="274" h="429">
                <a:moveTo>
                  <a:pt x="274" y="0"/>
                </a:moveTo>
                <a:cubicBezTo>
                  <a:pt x="210" y="138"/>
                  <a:pt x="146" y="276"/>
                  <a:pt x="100" y="347"/>
                </a:cubicBezTo>
                <a:cubicBezTo>
                  <a:pt x="54" y="418"/>
                  <a:pt x="27" y="423"/>
                  <a:pt x="0" y="42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18680" y="2649600"/>
            <a:ext cx="86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31600" y="14493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199120" y="2379600"/>
            <a:ext cx="14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ssig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075280" y="1492200"/>
            <a:ext cx="681120" cy="928800"/>
          </a:xfrm>
          <a:custGeom>
            <a:avLst/>
            <a:gdLst/>
            <a:ahLst/>
            <a:rect l="l" t="t" r="r" b="b"/>
            <a:pathLst>
              <a:path w="429" h="585">
                <a:moveTo>
                  <a:pt x="0" y="36"/>
                </a:moveTo>
                <a:cubicBezTo>
                  <a:pt x="101" y="18"/>
                  <a:pt x="203" y="0"/>
                  <a:pt x="274" y="91"/>
                </a:cubicBezTo>
                <a:cubicBezTo>
                  <a:pt x="345" y="182"/>
                  <a:pt x="387" y="383"/>
                  <a:pt x="429" y="58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87920" y="1854360"/>
            <a:ext cx="876240" cy="752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552840" y="2486160"/>
            <a:ext cx="579600" cy="826920"/>
          </a:xfrm>
          <a:custGeom>
            <a:avLst/>
            <a:gdLst/>
            <a:ahLst/>
            <a:rect l="l" t="t" r="r" b="b"/>
            <a:pathLst>
              <a:path w="365" h="521">
                <a:moveTo>
                  <a:pt x="249" y="0"/>
                </a:moveTo>
                <a:cubicBezTo>
                  <a:pt x="124" y="154"/>
                  <a:pt x="0" y="308"/>
                  <a:pt x="11" y="375"/>
                </a:cubicBezTo>
                <a:cubicBezTo>
                  <a:pt x="22" y="442"/>
                  <a:pt x="261" y="378"/>
                  <a:pt x="313" y="402"/>
                </a:cubicBezTo>
                <a:cubicBezTo>
                  <a:pt x="365" y="426"/>
                  <a:pt x="343" y="473"/>
                  <a:pt x="322" y="52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22680" y="3203640"/>
            <a:ext cx="111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utput sig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1920" y="3887640"/>
            <a:ext cx="8599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tate represented by the state box takes a cloc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ycle to comple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output signals in the box take the specified valu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uring this clock cyc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notatio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eans that the signal is assign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uring the next clock cycle and holds its value until otherwise set elsew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32440" y="1092240"/>
            <a:ext cx="0" cy="7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32440" y="2711520"/>
            <a:ext cx="0" cy="30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594400" y="760320"/>
            <a:ext cx="333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sserted during the state and deasserted elsew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281480" y="1368360"/>
            <a:ext cx="3355920" cy="1974960"/>
          </a:xfrm>
          <a:custGeom>
            <a:avLst/>
            <a:gdLst/>
            <a:ahLst/>
            <a:rect l="l" t="t" r="r" b="b"/>
            <a:pathLst>
              <a:path w="2114" h="1244">
                <a:moveTo>
                  <a:pt x="0" y="631"/>
                </a:moveTo>
                <a:cubicBezTo>
                  <a:pt x="198" y="891"/>
                  <a:pt x="396" y="1152"/>
                  <a:pt x="713" y="1198"/>
                </a:cubicBezTo>
                <a:cubicBezTo>
                  <a:pt x="1030" y="1244"/>
                  <a:pt x="1690" y="1105"/>
                  <a:pt x="1902" y="905"/>
                </a:cubicBezTo>
                <a:cubicBezTo>
                  <a:pt x="2114" y="705"/>
                  <a:pt x="2049" y="352"/>
                  <a:pt x="198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2D56-BFC3-4F8D-A5A1-4487645B50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Components of ASM Chart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ision bo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"/>
          <p:cNvSpPr/>
          <p:nvPr/>
        </p:nvSpPr>
        <p:spPr>
          <a:xfrm>
            <a:off x="2249640" y="1969920"/>
            <a:ext cx="1103040" cy="594000"/>
          </a:xfrm>
          <a:prstGeom prst="flowChartDecisi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352680" y="2263680"/>
            <a:ext cx="544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564000" y="1866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08360" y="25099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22400" y="1584360"/>
            <a:ext cx="0" cy="38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808360" y="2563920"/>
            <a:ext cx="0" cy="38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32200" y="3152880"/>
            <a:ext cx="8327520" cy="33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9080" indent="-289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ision box has two or more branches going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ision is made based on the value of one 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put signals (e.g. signal 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ision box must follow and be associated with 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 bo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us, the decision is made in the same clock cycle a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other actions of the st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nce, the input signals must be available and valid a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tart of the clock cyc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E4C2-D25B-4A2B-AECB-1CA9AD43EC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Components of ASM Chart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560" y="818640"/>
            <a:ext cx="8381880" cy="47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ditional output bo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"/>
          <p:cNvSpPr/>
          <p:nvPr/>
        </p:nvSpPr>
        <p:spPr>
          <a:xfrm>
            <a:off x="1554120" y="1814400"/>
            <a:ext cx="1438200" cy="478080"/>
          </a:xfrm>
          <a:prstGeom prst="flowChartAlternateProcess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15280" y="18828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Z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78080" y="1494000"/>
            <a:ext cx="0" cy="32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4560" y="2292480"/>
            <a:ext cx="0" cy="32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13840" y="2612880"/>
            <a:ext cx="8521200" cy="40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9080" indent="-289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conditional output box must follow a decision bo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conditional output box is attached to a state box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rough one or more decision box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fore, the output signals in the conditional outpu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x are asserted in the same clock cycle as those 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tate box to which it is atta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output signals can change during that state as 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ult of changes on the inpu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onditional output signals are sometimes referr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Mealy outputs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nce they depend on the input signal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 w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D669-3F28-406E-8035-7AA21FD538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2560" y="4203720"/>
            <a:ext cx="2700360" cy="2282760"/>
          </a:xfrm>
          <a:prstGeom prst="rect">
            <a:avLst/>
          </a:prstGeom>
          <a:solidFill>
            <a:srgbClr val="ffff6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9320" y="1104840"/>
            <a:ext cx="2700360" cy="3011400"/>
          </a:xfrm>
          <a:prstGeom prst="rect">
            <a:avLst/>
          </a:prstGeom>
          <a:solidFill>
            <a:srgbClr val="ffff6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A State in ASM Chart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049280" y="990360"/>
            <a:ext cx="4637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e state, or clock cycle, consists of more than just the state box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ision and conditional output boxes are also a part of the stat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>
            <a:off x="1087560" y="1577880"/>
            <a:ext cx="1830240" cy="8128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major_green = 1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minor_green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4200" y="1249200"/>
            <a:ext cx="377640" cy="3668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01600" y="4603680"/>
            <a:ext cx="1874880" cy="8128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major_green = 0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minor_green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4200" y="4260960"/>
            <a:ext cx="377640" cy="3664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79600" y="2652840"/>
            <a:ext cx="1103400" cy="593640"/>
          </a:xfrm>
          <a:prstGeom prst="flowChartDecisi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031840" y="2390760"/>
            <a:ext cx="0" cy="26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308240" y="3567240"/>
            <a:ext cx="1438200" cy="477720"/>
          </a:xfrm>
          <a:prstGeom prst="flowChartAlternateProcess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375560" y="363528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tart_ti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031840" y="3246480"/>
            <a:ext cx="0" cy="32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031840" y="4044960"/>
            <a:ext cx="0" cy="55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304560" y="6095880"/>
            <a:ext cx="117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04920" y="990360"/>
            <a:ext cx="0" cy="510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990720"/>
            <a:ext cx="172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31840" y="990720"/>
            <a:ext cx="0" cy="62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83000" y="6095880"/>
            <a:ext cx="9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556080" y="4260600"/>
            <a:ext cx="0" cy="18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2031840" y="426096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83000" y="2946240"/>
            <a:ext cx="9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3556080" y="990720"/>
            <a:ext cx="0" cy="195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031840" y="9907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89360" y="25495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93960" y="56991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038680" y="31701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68760" y="56991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52720" y="5416560"/>
            <a:ext cx="0" cy="38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479600" y="5802480"/>
            <a:ext cx="1103400" cy="593640"/>
          </a:xfrm>
          <a:prstGeom prst="flowChartDecisi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79600" y="3411360"/>
            <a:ext cx="1698840" cy="879480"/>
          </a:xfrm>
          <a:custGeom>
            <a:avLst/>
            <a:gdLst/>
            <a:ahLst/>
            <a:rect l="l" t="t" r="r" b="b"/>
            <a:pathLst>
              <a:path w="1070" h="554">
                <a:moveTo>
                  <a:pt x="0" y="0"/>
                </a:moveTo>
                <a:cubicBezTo>
                  <a:pt x="198" y="14"/>
                  <a:pt x="396" y="28"/>
                  <a:pt x="503" y="109"/>
                </a:cubicBezTo>
                <a:cubicBezTo>
                  <a:pt x="610" y="190"/>
                  <a:pt x="546" y="414"/>
                  <a:pt x="640" y="484"/>
                </a:cubicBezTo>
                <a:cubicBezTo>
                  <a:pt x="734" y="554"/>
                  <a:pt x="902" y="542"/>
                  <a:pt x="107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560" y="4076640"/>
            <a:ext cx="16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 clock 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CA11-72AF-41EE-ACC7-51BD123F8DC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State Box vs. Conditional Output Box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83" name=""/>
          <p:cNvSpPr/>
          <p:nvPr/>
        </p:nvSpPr>
        <p:spPr>
          <a:xfrm>
            <a:off x="1131840" y="1992240"/>
            <a:ext cx="1785960" cy="8128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58840" y="4826160"/>
            <a:ext cx="1785960" cy="8125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479600" y="3067200"/>
            <a:ext cx="1103400" cy="593640"/>
          </a:xfrm>
          <a:prstGeom prst="flowChartDecisi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31840" y="2805120"/>
            <a:ext cx="0" cy="26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816280" y="3938760"/>
            <a:ext cx="1438200" cy="477720"/>
            <a:chOff x="2816280" y="3938760"/>
            <a:chExt cx="1438200" cy="477720"/>
          </a:xfrm>
        </p:grpSpPr>
        <p:sp>
          <p:nvSpPr>
            <p:cNvPr id="188" name=""/>
            <p:cNvSpPr/>
            <p:nvPr/>
          </p:nvSpPr>
          <p:spPr>
            <a:xfrm>
              <a:off x="2816280" y="3938760"/>
              <a:ext cx="1438200" cy="477720"/>
            </a:xfrm>
            <a:prstGeom prst="flowChartAlternateProcess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07760" y="400680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2031840" y="3660840"/>
            <a:ext cx="0" cy="116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784080" y="6045120"/>
            <a:ext cx="126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784080" y="1636560"/>
            <a:ext cx="0" cy="440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84080" y="1636560"/>
            <a:ext cx="126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46240" y="1636560"/>
            <a:ext cx="0" cy="37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556080" y="4437000"/>
            <a:ext cx="0" cy="78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83000" y="3360600"/>
            <a:ext cx="9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058840" y="36608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52840" y="29638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56080" y="3360600"/>
            <a:ext cx="0" cy="57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2944800" y="5218200"/>
            <a:ext cx="61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2044800" y="5638320"/>
            <a:ext cx="0" cy="40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564160" y="2003400"/>
            <a:ext cx="1785960" cy="8128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591160" y="4836960"/>
            <a:ext cx="1785960" cy="8128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911920" y="3078000"/>
            <a:ext cx="1103400" cy="594000"/>
          </a:xfrm>
          <a:prstGeom prst="flowChartDecisi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464160" y="2816280"/>
            <a:ext cx="0" cy="261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64160" y="3672000"/>
            <a:ext cx="0" cy="116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216400" y="6056280"/>
            <a:ext cx="126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5216400" y="1647720"/>
            <a:ext cx="0" cy="440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216400" y="1647720"/>
            <a:ext cx="126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78560" y="1647720"/>
            <a:ext cx="0" cy="37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7988400" y="4448160"/>
            <a:ext cx="0" cy="78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15320" y="3371760"/>
            <a:ext cx="9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491160" y="3672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085160" y="2975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988400" y="3371760"/>
            <a:ext cx="0" cy="57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7377120" y="5229360"/>
            <a:ext cx="61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6477120" y="5649480"/>
            <a:ext cx="0" cy="40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97640" y="3949560"/>
            <a:ext cx="1289160" cy="4986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764720" y="6194520"/>
            <a:ext cx="53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267960" y="6194520"/>
            <a:ext cx="55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F595-4E90-4541-9F44-0132B8B8085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ABANCI UNIV</cp:lastModifiedBy>
  <dcterms:modified xsi:type="dcterms:W3CDTF">2003-11-07T06:00:44Z</dcterms:modified>
  <cp:revision>3194</cp:revision>
  <dc:subject/>
  <dc:title>PowerPoint Presentation</dc:title>
</cp:coreProperties>
</file>