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CC8-41DF-41A6-8C80-33B2D7B6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4EE-E6AF-4EF0-A84B-12A348BD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BD8A-A057-4454-BABD-823FE9AB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848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40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BD4-AE25-4E58-8D8F-13B609D9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E4E3-40D9-4698-84E5-26AE9F96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BA8F-6FC5-4A4C-89C9-3D403997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AB10-9285-431D-8890-009BEB96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6C7-18F3-4D60-A411-5D42A1EF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818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292-6286-49BE-AE1D-7E83430B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0CF9-6EA0-40AE-BB12-1E865F3A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77C9-337B-4B6F-A1E3-A2278405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DCC-6327-4A80-8465-D7860598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FDE3-FB41-4576-95FD-2F2F66193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ntroduc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3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kay Sava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bancı Univers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AE7-8EFA-4CF0-97F0-D3E6069021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219320" y="1371600"/>
            <a:ext cx="6476760" cy="3048120"/>
            <a:chOff x="1219320" y="1371600"/>
            <a:chExt cx="6476760" cy="3048120"/>
          </a:xfrm>
        </p:grpSpPr>
        <p:sp>
          <p:nvSpPr>
            <p:cNvPr id="100" name=""/>
            <p:cNvSpPr/>
            <p:nvPr/>
          </p:nvSpPr>
          <p:spPr>
            <a:xfrm>
              <a:off x="1219320" y="1371600"/>
              <a:ext cx="6476760" cy="30481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81000">
              <a:off x="1672200" y="2437920"/>
              <a:ext cx="186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arket Ri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601600">
              <a:off x="5365440" y="2361600"/>
              <a:ext cx="176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arket F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219320" y="1371600"/>
            <a:ext cx="6476760" cy="304812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Need of Shorter Design Cycle?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51051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first 10%-20% of the design cycle can determine 70%-80% of final system c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%-10% of design cycle is spent on studying and formulating requirements, whereas 70% of manufacturing costs are affected by customer requirement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2895480"/>
            <a:ext cx="5029200" cy="1524240"/>
          </a:xfrm>
          <a:prstGeom prst="triangle">
            <a:avLst>
              <a:gd name="adj" fmla="val 3510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838080"/>
            <a:ext cx="459720" cy="3657600"/>
            <a:chOff x="0" y="838080"/>
            <a:chExt cx="459720" cy="3657600"/>
          </a:xfrm>
        </p:grpSpPr>
        <p:sp>
          <p:nvSpPr>
            <p:cNvPr id="108" name=""/>
            <p:cNvSpPr/>
            <p:nvPr/>
          </p:nvSpPr>
          <p:spPr>
            <a:xfrm flipV="1">
              <a:off x="457200" y="838080"/>
              <a:ext cx="0" cy="365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-425520" y="2401920"/>
              <a:ext cx="131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066680" y="4648320"/>
            <a:ext cx="7430040" cy="459720"/>
            <a:chOff x="1066680" y="4648320"/>
            <a:chExt cx="7430040" cy="459720"/>
          </a:xfrm>
        </p:grpSpPr>
        <p:sp>
          <p:nvSpPr>
            <p:cNvPr id="111" name=""/>
            <p:cNvSpPr/>
            <p:nvPr/>
          </p:nvSpPr>
          <p:spPr>
            <a:xfrm>
              <a:off x="1066680" y="4952880"/>
              <a:ext cx="662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72040" y="4648320"/>
              <a:ext cx="7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208880" y="762120"/>
            <a:ext cx="3210480" cy="609120"/>
            <a:chOff x="1208880" y="762120"/>
            <a:chExt cx="3210480" cy="609120"/>
          </a:xfrm>
        </p:grpSpPr>
        <p:sp>
          <p:nvSpPr>
            <p:cNvPr id="114" name=""/>
            <p:cNvSpPr/>
            <p:nvPr/>
          </p:nvSpPr>
          <p:spPr>
            <a:xfrm>
              <a:off x="1208880" y="762120"/>
              <a:ext cx="288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aximum reven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4038120" y="1142640"/>
              <a:ext cx="381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495680" y="914400"/>
            <a:ext cx="3233520" cy="1676160"/>
            <a:chOff x="4495680" y="914400"/>
            <a:chExt cx="3233520" cy="1676160"/>
          </a:xfrm>
        </p:grpSpPr>
        <p:sp>
          <p:nvSpPr>
            <p:cNvPr id="117" name=""/>
            <p:cNvSpPr/>
            <p:nvPr/>
          </p:nvSpPr>
          <p:spPr>
            <a:xfrm flipV="1">
              <a:off x="4495680" y="1904760"/>
              <a:ext cx="1526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648320" y="1218960"/>
              <a:ext cx="99036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73960" y="914400"/>
              <a:ext cx="205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evenue lo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219320" y="4500720"/>
            <a:ext cx="1371600" cy="459720"/>
            <a:chOff x="1219320" y="4500720"/>
            <a:chExt cx="1371600" cy="459720"/>
          </a:xfrm>
        </p:grpSpPr>
        <p:sp>
          <p:nvSpPr>
            <p:cNvPr id="121" name=""/>
            <p:cNvSpPr/>
            <p:nvPr/>
          </p:nvSpPr>
          <p:spPr>
            <a:xfrm>
              <a:off x="1219320" y="45720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23440" y="4500720"/>
              <a:ext cx="94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el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69CE-1AA8-4B5B-8A2D-C077569CD4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he Role of HDL -1: Y-Char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5486400"/>
            <a:ext cx="83822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 tools are good for a single aspect of desig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fer information btw these tools is ha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438280" y="1752120"/>
            <a:ext cx="3886200" cy="3048480"/>
            <a:chOff x="2438280" y="1752120"/>
            <a:chExt cx="3886200" cy="3048480"/>
          </a:xfrm>
        </p:grpSpPr>
        <p:sp>
          <p:nvSpPr>
            <p:cNvPr id="126" name=""/>
            <p:cNvSpPr/>
            <p:nvPr/>
          </p:nvSpPr>
          <p:spPr>
            <a:xfrm>
              <a:off x="2438280" y="1752480"/>
              <a:ext cx="198144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19720" y="1752120"/>
              <a:ext cx="190476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19720" y="297180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722400" y="48769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45680" y="11430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havi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89680" y="11430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1752480"/>
            <a:ext cx="152640" cy="228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2286000"/>
            <a:ext cx="152280" cy="228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2590920"/>
            <a:ext cx="152640" cy="228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1981080"/>
            <a:ext cx="152280" cy="228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30400" y="177012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66640" y="205740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3520" y="2362320"/>
            <a:ext cx="8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99600" y="274320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927000"/>
            <a:ext cx="2666880" cy="520920"/>
          </a:xfrm>
          <a:custGeom>
            <a:avLst/>
            <a:gdLst/>
            <a:ahLst/>
            <a:rect l="l" t="t" r="r" b="b"/>
            <a:pathLst>
              <a:path w="1632" h="280">
                <a:moveTo>
                  <a:pt x="0" y="280"/>
                </a:moveTo>
                <a:cubicBezTo>
                  <a:pt x="192" y="180"/>
                  <a:pt x="384" y="80"/>
                  <a:pt x="576" y="40"/>
                </a:cubicBezTo>
                <a:cubicBezTo>
                  <a:pt x="768" y="0"/>
                  <a:pt x="976" y="8"/>
                  <a:pt x="1152" y="40"/>
                </a:cubicBezTo>
                <a:cubicBezTo>
                  <a:pt x="1328" y="72"/>
                  <a:pt x="1480" y="152"/>
                  <a:pt x="1632" y="23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2590920"/>
            <a:ext cx="1346400" cy="2361960"/>
          </a:xfrm>
          <a:custGeom>
            <a:avLst/>
            <a:gdLst/>
            <a:ahLst/>
            <a:rect l="l" t="t" r="r" b="b"/>
            <a:pathLst>
              <a:path w="848" h="1488">
                <a:moveTo>
                  <a:pt x="816" y="0"/>
                </a:moveTo>
                <a:cubicBezTo>
                  <a:pt x="832" y="172"/>
                  <a:pt x="848" y="344"/>
                  <a:pt x="816" y="528"/>
                </a:cubicBezTo>
                <a:cubicBezTo>
                  <a:pt x="784" y="712"/>
                  <a:pt x="760" y="944"/>
                  <a:pt x="624" y="1104"/>
                </a:cubicBezTo>
                <a:cubicBezTo>
                  <a:pt x="488" y="1264"/>
                  <a:pt x="244" y="1376"/>
                  <a:pt x="0" y="148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05240" y="4648320"/>
            <a:ext cx="228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19640" y="4267080"/>
            <a:ext cx="228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5240" y="3886200"/>
            <a:ext cx="228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19640" y="3429000"/>
            <a:ext cx="228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53280" y="4449600"/>
            <a:ext cx="10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66240" y="40528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42120" y="3656160"/>
            <a:ext cx="121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81360" y="32306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962160" y="2590920"/>
            <a:ext cx="152280" cy="228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428640" y="2286000"/>
            <a:ext cx="152280" cy="228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025440" y="2052720"/>
            <a:ext cx="152280" cy="228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666880" y="1828800"/>
            <a:ext cx="152640" cy="228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53080" y="182880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5600" y="2117880"/>
            <a:ext cx="218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gister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99640" y="242244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olean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1680" y="2759040"/>
            <a:ext cx="23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f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6A04-EC90-4479-A5D1-D06C2A33F5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he Role of HDL -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gital design is structured around a hierarchy of represent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DLs can describe distinct aspects of a design at multiple levels of abstra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nteroperability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tools that are designed for different aspects of design can transfer information to each 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echnology independe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design environment that is independent of a particular target technolo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not have to describe a system at gat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6E1-FF20-4AC2-9C11-55C416BEE8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he Role of HDL - 3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ing analy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or to physical design, a detailed timing information can be extracted via simulation to ensure that performance requirements can be me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rdware/software co-design (or prototyp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ate a processor architecture for functional accuracy so that application software developers can start coding before the actual chip is produc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ign re-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braries of VHDL models of compon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can be shared exactly as software libr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include a highly optimized component in your proj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BA1A-AC0E-4C9F-B48F-99FB218FA1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ummar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DL for describing digital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ption at various levels of abstra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, architectural, RTL, logic, gate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HDL integrates point tools into a cohesive design pro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HDL is independent of technolo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ster time-to-mark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BC15-8688-4F77-9D27-59121D95DB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What is VHDL ?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HDL stands for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HSIC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rdware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scription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HSIC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ry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gh-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peed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ntegrated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rcu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itialized by US DoD as a sponsored progr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ized as IEEE 1076-1987 in 198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sed in 1993 (used in this cours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her HDLs: Verilog and AB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D requires that VHDL descriptions be delivered for all AS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ry major CAD vendors supports VHDL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199-D537-4BBC-B872-7159D95CAA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 Provid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operability across vend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de re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ributed desig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iable design proc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nimized design time and co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A1D7-0A71-498D-B7D9-CFBCBF1AC2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rogramming Languages vs. HDL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al programming languages (C or Pascal) typically provide procedures f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forming a computation (e.g. matrix multiplicati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ipulating data (e.g. sort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rdware description language is used to describe a digital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ate the behavior of the system without actually constructing th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hesis compilers can use the description to actually build a digital system implementing this behavi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HDL is primarily used for digital system desig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319-B1C6-47B9-92AD-C9BEB4E858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Why Describing Systems ? 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ign spec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ambiguous definition of components and interfaces in a large desig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ign Simul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ify system/subsystem/chip performance prior to implemen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ign Synthe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mated generation of hardware implementing the digital syste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A8F-ABF5-47FC-9C3F-13B6C07CDE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escribing Digital System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levels of abstra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stem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chitectur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ice or Circuit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5A23-7480-4CAB-AC34-16ADACDA63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esign Flow:Top-down approach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4" name=""/>
          <p:cNvSpPr/>
          <p:nvPr/>
        </p:nvSpPr>
        <p:spPr>
          <a:xfrm>
            <a:off x="1611360" y="1600200"/>
            <a:ext cx="2590920" cy="398880"/>
          </a:xfrm>
          <a:prstGeom prst="rect">
            <a:avLst/>
          </a:prstGeom>
          <a:solidFill>
            <a:srgbClr val="3333cc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unctio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11360" y="2349360"/>
            <a:ext cx="2590920" cy="703800"/>
          </a:xfrm>
          <a:prstGeom prst="rect">
            <a:avLst/>
          </a:prstGeom>
          <a:solidFill>
            <a:srgbClr val="3333cc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gister Transfer Leve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11360" y="3352680"/>
            <a:ext cx="2590920" cy="398880"/>
          </a:xfrm>
          <a:prstGeom prst="rect">
            <a:avLst/>
          </a:prstGeom>
          <a:solidFill>
            <a:srgbClr val="3333cc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ogic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11360" y="4114800"/>
            <a:ext cx="2590920" cy="398880"/>
          </a:xfrm>
          <a:prstGeom prst="rect">
            <a:avLst/>
          </a:prstGeom>
          <a:solidFill>
            <a:srgbClr val="3333cc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ircui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1360" y="4876920"/>
            <a:ext cx="2590920" cy="398880"/>
          </a:xfrm>
          <a:prstGeom prst="rect">
            <a:avLst/>
          </a:prstGeom>
          <a:solidFill>
            <a:srgbClr val="3333cc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ysic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06640" y="2057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0664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0664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664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6640" y="1295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91160" y="83808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06640" y="533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563868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for Manufa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25480" y="15652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Behavioral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6120" y="243828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RTL Simulation 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39160" y="3139920"/>
            <a:ext cx="388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Logic simulation, Verification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Fault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41680" y="3962520"/>
            <a:ext cx="244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Timing simulation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Circui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44560" y="487692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Design Rule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6080" y="2362320"/>
            <a:ext cx="1255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er 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7160" y="495288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5640" y="41911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69760" y="6188040"/>
            <a:ext cx="357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IC Desig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683-05F0-48D2-8EAA-17C4B1FE0B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Levels of Abstrac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ign tools support to perform simulation at each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simulations are for anticipating behavior, physical properties, and performance of the circu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ation at lower levels offers more accurate predictions, but takes long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design errors are discovered at lower levels, changes in the design to correct faults may be expensiv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nger development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ing simulation capability at different level helps detect and correct the design errors at earlier st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123-89F4-4CC1-9FE0-EC5FD363D9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ynthesis Design Flow for FPGA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600200"/>
            <a:ext cx="2590920" cy="398880"/>
          </a:xfrm>
          <a:prstGeom prst="rect">
            <a:avLst/>
          </a:prstGeom>
          <a:solidFill>
            <a:srgbClr val="3333cc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unctio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2349360"/>
            <a:ext cx="2590920" cy="703800"/>
          </a:xfrm>
          <a:prstGeom prst="rect">
            <a:avLst/>
          </a:prstGeom>
          <a:solidFill>
            <a:srgbClr val="3333cc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gister Transfer Leve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3581280"/>
            <a:ext cx="2590920" cy="398880"/>
          </a:xfrm>
          <a:prstGeom prst="rect">
            <a:avLst/>
          </a:prstGeom>
          <a:solidFill>
            <a:srgbClr val="3333cc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y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4495680"/>
            <a:ext cx="2590920" cy="398880"/>
          </a:xfrm>
          <a:prstGeom prst="rect">
            <a:avLst/>
          </a:prstGeom>
          <a:solidFill>
            <a:srgbClr val="3333cc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lace and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5257800"/>
            <a:ext cx="2590920" cy="398880"/>
          </a:xfrm>
          <a:prstGeom prst="rect">
            <a:avLst/>
          </a:prstGeom>
          <a:solidFill>
            <a:srgbClr val="3333cc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iming Ex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2057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3048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40384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952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1295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19720" y="83808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1120" y="16002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VHD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440" y="25146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VHD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3886200"/>
            <a:ext cx="2819520" cy="862560"/>
          </a:xfrm>
          <a:prstGeom prst="rect">
            <a:avLst/>
          </a:prstGeom>
          <a:solidFill>
            <a:srgbClr val="3333cc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havioral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VHD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858000" y="48002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876560" y="548640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327672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32767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5640" y="5730840"/>
            <a:ext cx="196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realistic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2160" y="354960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Logic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E0A-995F-478D-85B7-4D456DBCC0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BANCI UNIV</cp:lastModifiedBy>
  <dcterms:modified xsi:type="dcterms:W3CDTF">2003-09-30T05:28:45Z</dcterms:modified>
  <cp:revision>150</cp:revision>
  <dc:subject/>
  <dc:title>PowerPoint Presentation</dc:title>
</cp:coreProperties>
</file>