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6BB-1450-4540-9E6E-DA893B0B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FA2-10BF-40A3-9B06-E208BB96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315-B2AD-4973-B7BB-EB3CAD0D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287-AC43-4EAD-A574-AFC4067B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33D-3D67-46E9-8BDF-935FBB3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964-8ECD-4201-8165-9CA442CA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C08-2D12-4FED-8E56-1876071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447-36D2-41CB-9F0D-6D0871A1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9FD-6BF6-493C-81E4-79C52007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E9D-DECC-4273-B5ED-D66012AC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072-8225-4FDD-B016-2A37725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735-756B-46C6-87F2-40C76644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2CD-9148-4134-A3A7-FE0A60AD3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35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plex Sequential Systems   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1BE-C656-4718-834A-6D0A43DA6F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gister Transfer Opera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876240"/>
            <a:ext cx="838188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atapath would normally contain regis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unctionality of the system can be described in ter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gister transfer oper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express register transfer operations in the extended ASM chart not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355920" y="3703680"/>
            <a:ext cx="1523880" cy="1668600"/>
            <a:chOff x="3355920" y="3703680"/>
            <a:chExt cx="1523880" cy="1668600"/>
          </a:xfrm>
        </p:grpSpPr>
        <p:sp>
          <p:nvSpPr>
            <p:cNvPr id="334" name=""/>
            <p:cNvSpPr/>
            <p:nvPr/>
          </p:nvSpPr>
          <p:spPr>
            <a:xfrm>
              <a:off x="4084560" y="4871880"/>
              <a:ext cx="0" cy="5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355920" y="3703680"/>
              <a:ext cx="1523880" cy="1168200"/>
              <a:chOff x="3355920" y="3703680"/>
              <a:chExt cx="1523880" cy="1168200"/>
            </a:xfrm>
          </p:grpSpPr>
          <p:sp>
            <p:nvSpPr>
              <p:cNvPr id="336" name=""/>
              <p:cNvSpPr/>
              <p:nvPr/>
            </p:nvSpPr>
            <p:spPr>
              <a:xfrm>
                <a:off x="3355920" y="4203720"/>
                <a:ext cx="1523880" cy="6681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84560" y="3703680"/>
                <a:ext cx="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53640" y="4330800"/>
                <a:ext cx="85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Z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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188280" y="5448240"/>
            <a:ext cx="86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otation means that Z takes the value 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t the e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tate indicated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olds that 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til it is set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value or re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91C-3168-444B-970C-189C5B422C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tended ASM Chart Not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is reset to 0 and it is only set to 1 in the present state, the registered output would be implemented as a flip-flop and a multiplex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801720" y="2120760"/>
            <a:ext cx="1523880" cy="1668600"/>
            <a:chOff x="801720" y="2120760"/>
            <a:chExt cx="1523880" cy="1668600"/>
          </a:xfrm>
        </p:grpSpPr>
        <p:sp>
          <p:nvSpPr>
            <p:cNvPr id="343" name=""/>
            <p:cNvSpPr/>
            <p:nvPr/>
          </p:nvSpPr>
          <p:spPr>
            <a:xfrm>
              <a:off x="801720" y="2620800"/>
              <a:ext cx="1523880" cy="66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30360" y="212076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30360" y="328932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99440" y="2747880"/>
              <a:ext cx="85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Z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972160" y="2120400"/>
            <a:ext cx="5401800" cy="2076840"/>
            <a:chOff x="2972160" y="2120400"/>
            <a:chExt cx="5401800" cy="2076840"/>
          </a:xfrm>
        </p:grpSpPr>
        <p:sp>
          <p:nvSpPr>
            <p:cNvPr id="348" name=""/>
            <p:cNvSpPr/>
            <p:nvPr/>
          </p:nvSpPr>
          <p:spPr>
            <a:xfrm rot="16200000">
              <a:off x="4261680" y="2712240"/>
              <a:ext cx="1233360" cy="434880"/>
            </a:xfrm>
            <a:custGeom>
              <a:avLst/>
              <a:gdLst>
                <a:gd name="textAreaLeft" fmla="*/ 271080 w 1233360"/>
                <a:gd name="textAreaRight" fmla="*/ 962280 w 1233360"/>
                <a:gd name="textAreaTop" fmla="*/ 95400 h 434880"/>
                <a:gd name="textAreaBottom" fmla="*/ 33948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7720" y="2449440"/>
              <a:ext cx="843120" cy="1096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4000" y="2620800"/>
              <a:ext cx="4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94000" y="3289320"/>
              <a:ext cx="4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194000" y="212040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4000" y="2120760"/>
              <a:ext cx="348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78800" y="2120760"/>
              <a:ext cx="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70840" y="274788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95800" y="2946240"/>
              <a:ext cx="123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6321240" y="3207960"/>
              <a:ext cx="173160" cy="16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03840" y="4064040"/>
              <a:ext cx="20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921280" y="328932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21280" y="328932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05360" y="337500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903840" y="37893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37000" y="2336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46680" y="30560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2160" y="3584520"/>
              <a:ext cx="843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34160" y="3922560"/>
              <a:ext cx="54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8160" y="30639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8880" y="24782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941560" y="2946240"/>
            <a:ext cx="484200" cy="198720"/>
          </a:xfrm>
          <a:prstGeom prst="rightArrow">
            <a:avLst>
              <a:gd name="adj1" fmla="val 50000"/>
              <a:gd name="adj2" fmla="val 6091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1280" y="4383000"/>
            <a:ext cx="203400" cy="349200"/>
          </a:xfrm>
          <a:prstGeom prst="downArrow">
            <a:avLst>
              <a:gd name="adj1" fmla="val 50000"/>
              <a:gd name="adj2" fmla="val 42920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375440" y="4986360"/>
            <a:ext cx="3373200" cy="1209600"/>
            <a:chOff x="4375440" y="4986360"/>
            <a:chExt cx="3373200" cy="1209600"/>
          </a:xfrm>
        </p:grpSpPr>
        <p:sp>
          <p:nvSpPr>
            <p:cNvPr id="372" name=""/>
            <p:cNvSpPr/>
            <p:nvPr/>
          </p:nvSpPr>
          <p:spPr>
            <a:xfrm>
              <a:off x="5702400" y="5099040"/>
              <a:ext cx="842760" cy="1096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45160" y="5397480"/>
              <a:ext cx="120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5960" y="559584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5695560" y="5857920"/>
              <a:ext cx="173160" cy="160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95960" y="593892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11680" y="4986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6960" y="54579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15280" y="5800680"/>
              <a:ext cx="54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295600" y="528156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75440" y="5143680"/>
              <a:ext cx="843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01720" y="4486320"/>
            <a:ext cx="1523880" cy="1668240"/>
            <a:chOff x="801720" y="4486320"/>
            <a:chExt cx="1523880" cy="1668240"/>
          </a:xfrm>
        </p:grpSpPr>
        <p:sp>
          <p:nvSpPr>
            <p:cNvPr id="383" name=""/>
            <p:cNvSpPr/>
            <p:nvPr/>
          </p:nvSpPr>
          <p:spPr>
            <a:xfrm>
              <a:off x="801720" y="4986360"/>
              <a:ext cx="1523880" cy="668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30360" y="448632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0360" y="565452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69840" y="51134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3133800" y="5367240"/>
            <a:ext cx="541440" cy="284400"/>
          </a:xfrm>
          <a:prstGeom prst="leftArrow">
            <a:avLst>
              <a:gd name="adj1" fmla="val 50000"/>
              <a:gd name="adj2" fmla="val 4759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194-D36C-46AB-8AC5-5DF9498136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More Complex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89" name=""/>
          <p:cNvSpPr/>
          <p:nvPr/>
        </p:nvSpPr>
        <p:spPr>
          <a:xfrm>
            <a:off x="3368520" y="1427040"/>
            <a:ext cx="1046160" cy="100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9268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24320" y="2700360"/>
            <a:ext cx="91116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92680" y="243540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70040" y="4467240"/>
            <a:ext cx="955800" cy="1008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94240" y="4467240"/>
            <a:ext cx="1492200" cy="1008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·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·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86440" y="3294000"/>
            <a:ext cx="91116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35480" y="3000240"/>
            <a:ext cx="21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43640" y="300024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7440" y="4467240"/>
            <a:ext cx="961920" cy="1008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117520" y="3000240"/>
            <a:ext cx="13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17880" y="300024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26160" y="2755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83520" y="2728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281560" y="359568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81560" y="359568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97600" y="359568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77000" y="359568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77480" y="32940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17200" y="33512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9960" y="11826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58880" y="4222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86320" y="4222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29520" y="422280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77000" y="547524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70120" y="5859360"/>
            <a:ext cx="680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870120" y="1018800"/>
            <a:ext cx="0" cy="484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70120" y="1019160"/>
            <a:ext cx="302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92680" y="1019160"/>
            <a:ext cx="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81560" y="547524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17880" y="547524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836-AB37-48F8-B0C4-936E69A7EB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Implementation of Controller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state equations for the control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495440" y="2443320"/>
                <a:ext cx="2887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473120" y="3514680"/>
                <a:ext cx="1970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  <m:r>
                          <m:t xml:space="preserve">1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0A7-43DF-4D61-800E-D9C628C538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Implementation of Datapath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5" name=""/>
          <p:cNvSpPr/>
          <p:nvPr/>
        </p:nvSpPr>
        <p:spPr>
          <a:xfrm>
            <a:off x="5884920" y="2876400"/>
            <a:ext cx="660240" cy="66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5897880" y="3221640"/>
            <a:ext cx="133200" cy="16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84920" y="4057560"/>
            <a:ext cx="660240" cy="663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5897880" y="4402800"/>
            <a:ext cx="133200" cy="16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5448240"/>
            <a:ext cx="660600" cy="663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5880960" y="5779080"/>
            <a:ext cx="133200" cy="160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454640" y="2563560"/>
            <a:ext cx="347400" cy="1036440"/>
            <a:chOff x="4454640" y="2563560"/>
            <a:chExt cx="347400" cy="1036440"/>
          </a:xfrm>
        </p:grpSpPr>
        <p:sp>
          <p:nvSpPr>
            <p:cNvPr id="432" name=""/>
            <p:cNvSpPr/>
            <p:nvPr/>
          </p:nvSpPr>
          <p:spPr>
            <a:xfrm rot="16200000">
              <a:off x="4110120" y="2908080"/>
              <a:ext cx="1036440" cy="347400"/>
            </a:xfrm>
            <a:custGeom>
              <a:avLst/>
              <a:gdLst>
                <a:gd name="textAreaLeft" fmla="*/ 227880 w 1036440"/>
                <a:gd name="textAreaRight" fmla="*/ 808560 w 1036440"/>
                <a:gd name="textAreaTop" fmla="*/ 76320 h 347400"/>
                <a:gd name="textAreaBottom" fmla="*/ 271080 h 34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07920" y="2671920"/>
              <a:ext cx="10296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462560" y="3758760"/>
            <a:ext cx="347400" cy="1036440"/>
            <a:chOff x="4462560" y="3758760"/>
            <a:chExt cx="347400" cy="1036440"/>
          </a:xfrm>
        </p:grpSpPr>
        <p:sp>
          <p:nvSpPr>
            <p:cNvPr id="435" name=""/>
            <p:cNvSpPr/>
            <p:nvPr/>
          </p:nvSpPr>
          <p:spPr>
            <a:xfrm rot="16200000">
              <a:off x="4118040" y="4103280"/>
              <a:ext cx="1036440" cy="347400"/>
            </a:xfrm>
            <a:custGeom>
              <a:avLst/>
              <a:gdLst>
                <a:gd name="textAreaLeft" fmla="*/ 227880 w 1036440"/>
                <a:gd name="textAreaRight" fmla="*/ 808560 w 1036440"/>
                <a:gd name="textAreaTop" fmla="*/ 76320 h 347400"/>
                <a:gd name="textAreaBottom" fmla="*/ 271080 h 34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15840" y="3867120"/>
              <a:ext cx="10296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446720" y="5090760"/>
            <a:ext cx="347400" cy="1036440"/>
            <a:chOff x="4446720" y="5090760"/>
            <a:chExt cx="347400" cy="1036440"/>
          </a:xfrm>
        </p:grpSpPr>
        <p:sp>
          <p:nvSpPr>
            <p:cNvPr id="438" name=""/>
            <p:cNvSpPr/>
            <p:nvPr/>
          </p:nvSpPr>
          <p:spPr>
            <a:xfrm rot="16200000">
              <a:off x="4102200" y="5435280"/>
              <a:ext cx="1036440" cy="347400"/>
            </a:xfrm>
            <a:custGeom>
              <a:avLst/>
              <a:gdLst>
                <a:gd name="textAreaLeft" fmla="*/ 227880 w 1036440"/>
                <a:gd name="textAreaRight" fmla="*/ 808560 w 1036440"/>
                <a:gd name="textAreaTop" fmla="*/ 76320 h 347400"/>
                <a:gd name="textAreaBottom" fmla="*/ 271080 h 34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00000" y="5199120"/>
              <a:ext cx="10296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803840" y="3067200"/>
            <a:ext cx="10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26160" y="4264200"/>
            <a:ext cx="105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9960" y="5610240"/>
            <a:ext cx="105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29240" y="240192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64160" y="3627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29240" y="49388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45800" y="2193840"/>
            <a:ext cx="357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753800" y="3551400"/>
            <a:ext cx="357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10960" y="4871880"/>
            <a:ext cx="357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28480" y="293364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34960" y="413064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22360" y="549432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9560" y="304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1640" y="4251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37240" y="5602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51480" y="2925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57960" y="41371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29520" y="5516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446680" y="2922480"/>
            <a:ext cx="198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24720" y="4119480"/>
            <a:ext cx="198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424720" y="5499000"/>
            <a:ext cx="198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53760" y="2763720"/>
            <a:ext cx="380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47280" y="3989520"/>
            <a:ext cx="380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3240" y="5326200"/>
            <a:ext cx="380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6080" y="2595600"/>
            <a:ext cx="1864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3760" y="3792600"/>
            <a:ext cx="1864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760" y="5172120"/>
            <a:ext cx="1864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22720" y="3027240"/>
            <a:ext cx="3474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70120" y="3216240"/>
            <a:ext cx="9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14800" y="4224240"/>
            <a:ext cx="3474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62200" y="4413240"/>
            <a:ext cx="9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93920" y="5553000"/>
            <a:ext cx="34776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1680" y="574200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865920" y="206820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931840" y="2062080"/>
            <a:ext cx="391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32200" y="2046240"/>
            <a:ext cx="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32200" y="476100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827520" y="4630320"/>
            <a:ext cx="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27520" y="463068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32200" y="434340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32200" y="3095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140600" y="1814040"/>
            <a:ext cx="0" cy="243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598840" y="1814400"/>
            <a:ext cx="454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8840" y="1814400"/>
            <a:ext cx="0" cy="43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8840" y="6127920"/>
            <a:ext cx="12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827520" y="59500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27520" y="59500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98840" y="444960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8840" y="317340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459560" y="1584000"/>
            <a:ext cx="0" cy="401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090520" y="1584360"/>
            <a:ext cx="536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90880" y="1584360"/>
            <a:ext cx="0" cy="42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90880" y="5802480"/>
            <a:ext cx="11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8840" y="5707080"/>
            <a:ext cx="59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90880" y="329076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962160" y="3368520"/>
            <a:ext cx="47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48320" y="32781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598480" y="29462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090880" y="415116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941640" y="550872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27800" y="54180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87920" y="3309840"/>
            <a:ext cx="0" cy="30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02320" y="332424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02320" y="4483080"/>
            <a:ext cx="290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87920" y="5864400"/>
            <a:ext cx="2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9680" y="6254640"/>
            <a:ext cx="4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440-ABBD-4B31-B398-D4ADFC4A5B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imple Microprocessor Desig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 level language expr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embler i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hine instru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, 16, 32-bit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8-bit processor (opcode three bits, operands are five bi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b + c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lated i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urier New"/>
              </a:rPr>
              <a:t>000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00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 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urier New"/>
              </a:rPr>
              <a:t>010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R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urier New"/>
              </a:rPr>
              <a:t>001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00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34F-063D-4AFD-8ACF-7EF6B1257E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imple Microprocessor Desig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path/controller part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(a.k.a. sequencer) is a state mach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ts of the opcode are input to the 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pcode may be decoded to generate a larger set of inputs to the controller (micro-coding approach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2EC-F8F4-45FC-8B36-83E361837C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imple Microprocessor Desig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ur instructions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three bits are the op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maining five bits are the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dressing mo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her addressing mode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mmedi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b + 5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 #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RE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pcode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mmedi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differ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will go through different states when executing these two instru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106-CF6F-4AB4-B0C6-2423596CE7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signing the Simple Microprocess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70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tion the design into datapath and 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-bit microprocess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path components and bus are all 8-bit w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ngle b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component uses a three-state buffers so that only one component is attempting to drive the b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ly synchronous with a single cl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nchronous re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9C1-7D27-44AA-B6BE-6F8866C676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lock Diagram of the Process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5" name=""/>
          <p:cNvSpPr/>
          <p:nvPr/>
        </p:nvSpPr>
        <p:spPr>
          <a:xfrm>
            <a:off x="1015920" y="3425760"/>
            <a:ext cx="719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240880" y="2075040"/>
            <a:ext cx="1803960" cy="745920"/>
            <a:chOff x="5240880" y="2075040"/>
            <a:chExt cx="1803960" cy="745920"/>
          </a:xfrm>
        </p:grpSpPr>
        <p:sp>
          <p:nvSpPr>
            <p:cNvPr id="517" name=""/>
            <p:cNvSpPr/>
            <p:nvPr/>
          </p:nvSpPr>
          <p:spPr>
            <a:xfrm>
              <a:off x="5659560" y="2075040"/>
              <a:ext cx="0" cy="349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96160" y="2081160"/>
              <a:ext cx="0" cy="349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35640" y="2075040"/>
              <a:ext cx="0" cy="349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30840" y="2087640"/>
              <a:ext cx="0" cy="349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40880" y="24526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ontrol Sig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533760" y="1589040"/>
            <a:ext cx="942840" cy="1806480"/>
            <a:chOff x="3533760" y="1589040"/>
            <a:chExt cx="942840" cy="1806480"/>
          </a:xfrm>
        </p:grpSpPr>
        <p:sp>
          <p:nvSpPr>
            <p:cNvPr id="523" name=""/>
            <p:cNvSpPr/>
            <p:nvPr/>
          </p:nvSpPr>
          <p:spPr>
            <a:xfrm>
              <a:off x="3533760" y="1589040"/>
              <a:ext cx="942840" cy="55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76560" y="2147760"/>
              <a:ext cx="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219320" y="1639800"/>
            <a:ext cx="942840" cy="1778040"/>
            <a:chOff x="1219320" y="1639800"/>
            <a:chExt cx="942840" cy="1778040"/>
          </a:xfrm>
        </p:grpSpPr>
        <p:sp>
          <p:nvSpPr>
            <p:cNvPr id="526" name=""/>
            <p:cNvSpPr/>
            <p:nvPr/>
          </p:nvSpPr>
          <p:spPr>
            <a:xfrm>
              <a:off x="1219320" y="1639800"/>
              <a:ext cx="942840" cy="55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74720" y="2170080"/>
              <a:ext cx="0" cy="12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251160" y="3411360"/>
            <a:ext cx="479520" cy="884520"/>
            <a:chOff x="3251160" y="3411360"/>
            <a:chExt cx="479520" cy="884520"/>
          </a:xfrm>
        </p:grpSpPr>
        <p:sp>
          <p:nvSpPr>
            <p:cNvPr id="529" name=""/>
            <p:cNvSpPr/>
            <p:nvPr/>
          </p:nvSpPr>
          <p:spPr>
            <a:xfrm>
              <a:off x="3716280" y="3411360"/>
              <a:ext cx="0" cy="88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3251160" y="4295880"/>
              <a:ext cx="47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 flipH="1">
            <a:off x="2192040" y="4630680"/>
            <a:ext cx="57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190520" y="3425400"/>
            <a:ext cx="0" cy="12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190160" y="4346640"/>
            <a:ext cx="2540520" cy="1781280"/>
            <a:chOff x="1190160" y="4346640"/>
            <a:chExt cx="2540520" cy="1781280"/>
          </a:xfrm>
        </p:grpSpPr>
        <p:sp>
          <p:nvSpPr>
            <p:cNvPr id="534" name=""/>
            <p:cNvSpPr/>
            <p:nvPr/>
          </p:nvSpPr>
          <p:spPr>
            <a:xfrm>
              <a:off x="1473120" y="4346640"/>
              <a:ext cx="739800" cy="552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1190160" y="46450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90520" y="4630680"/>
              <a:ext cx="0" cy="149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6127920"/>
              <a:ext cx="251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730680" y="4898880"/>
              <a:ext cx="0" cy="122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3249720" y="4898880"/>
              <a:ext cx="48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592360" y="4113360"/>
            <a:ext cx="736920" cy="1784160"/>
            <a:chOff x="2592360" y="4113360"/>
            <a:chExt cx="736920" cy="1784160"/>
          </a:xfrm>
        </p:grpSpPr>
        <p:grpSp>
          <p:nvGrpSpPr>
            <p:cNvPr id="541" name=""/>
            <p:cNvGrpSpPr/>
            <p:nvPr/>
          </p:nvGrpSpPr>
          <p:grpSpPr>
            <a:xfrm>
              <a:off x="2765160" y="4113360"/>
              <a:ext cx="492120" cy="1031760"/>
              <a:chOff x="2765160" y="4113360"/>
              <a:chExt cx="492120" cy="1031760"/>
            </a:xfrm>
          </p:grpSpPr>
          <p:sp>
            <p:nvSpPr>
              <p:cNvPr id="542" name=""/>
              <p:cNvSpPr/>
              <p:nvPr/>
            </p:nvSpPr>
            <p:spPr>
              <a:xfrm rot="5400000">
                <a:off x="2495160" y="4383000"/>
                <a:ext cx="1031760" cy="492120"/>
              </a:xfrm>
              <a:custGeom>
                <a:avLst/>
                <a:gdLst>
                  <a:gd name="textAreaLeft" fmla="*/ 226800 w 1031760"/>
                  <a:gd name="textAreaRight" fmla="*/ 804960 w 1031760"/>
                  <a:gd name="textAreaTop" fmla="*/ 108000 h 492120"/>
                  <a:gd name="textAreaBottom" fmla="*/ 384120 h 49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6200000">
                <a:off x="2989440" y="4498560"/>
                <a:ext cx="245880" cy="27468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2960640" y="4984920"/>
              <a:ext cx="0" cy="544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92360" y="5529240"/>
              <a:ext cx="73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Fla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722840" y="5529240"/>
            <a:ext cx="9428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716360" y="3425760"/>
            <a:ext cx="943200" cy="2114640"/>
            <a:chOff x="4716360" y="3425760"/>
            <a:chExt cx="943200" cy="2114640"/>
          </a:xfrm>
        </p:grpSpPr>
        <p:sp>
          <p:nvSpPr>
            <p:cNvPr id="548" name=""/>
            <p:cNvSpPr/>
            <p:nvPr/>
          </p:nvSpPr>
          <p:spPr>
            <a:xfrm>
              <a:off x="4716360" y="4206960"/>
              <a:ext cx="943200" cy="552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65640" y="342576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86520" y="475920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659200" y="3425760"/>
            <a:ext cx="1619640" cy="2398680"/>
            <a:chOff x="5659200" y="3425760"/>
            <a:chExt cx="1619640" cy="2398680"/>
          </a:xfrm>
        </p:grpSpPr>
        <p:sp>
          <p:nvSpPr>
            <p:cNvPr id="552" name=""/>
            <p:cNvSpPr/>
            <p:nvPr/>
          </p:nvSpPr>
          <p:spPr>
            <a:xfrm>
              <a:off x="6335640" y="4206960"/>
              <a:ext cx="943200" cy="552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73760" y="3425760"/>
              <a:ext cx="0" cy="78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73760" y="4759200"/>
              <a:ext cx="0" cy="10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659200" y="5824440"/>
              <a:ext cx="11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476600" y="1450800"/>
            <a:ext cx="2519640" cy="625680"/>
            <a:chOff x="4476600" y="1450800"/>
            <a:chExt cx="2519640" cy="625680"/>
          </a:xfrm>
        </p:grpSpPr>
        <p:sp>
          <p:nvSpPr>
            <p:cNvPr id="557" name=""/>
            <p:cNvSpPr/>
            <p:nvPr/>
          </p:nvSpPr>
          <p:spPr>
            <a:xfrm>
              <a:off x="5398920" y="1523880"/>
              <a:ext cx="1597320" cy="55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ontro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76600" y="1814400"/>
              <a:ext cx="92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48600" y="1450800"/>
              <a:ext cx="79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1857240" y="3425760"/>
            <a:ext cx="0" cy="92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963-1845-4114-B8D7-BBB99DB755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rtitioned Desig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synchronous sequential system could be described by an ASM cha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does not make much sense to design the whole system using a single ASM char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akes the design process manageable is to partition the design in some w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straightforward way to partition a design is to split it in tw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atapa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sists of components that store and manipulat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tr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an be designed as a state machine that controls functioning of those datapath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829-0901-4C29-B317-FBD22147E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side the CPU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in memo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ommonly implemented as asynchronous S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chronous registers act as buffers  between the main memory and the CP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 Address Register (MAR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 Data Register (MD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ithmetic Logic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forms operation such as add, sub, and, or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input is the ACC and the other is the b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D15-3D8E-416C-8935-CDB2035611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side the CPU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2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U (cont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usually has other outputs called flags (for testing overflow, zero result, etc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gs act as inputs to the controller (status signal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 (accumulato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ynchronous regi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lways acts as one of the source and destination regis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 (program coun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ctions in a program are held sequentially in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C register holds the address of the current instruction to be execut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B91-BCED-4104-9FE1-429854C9C2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side the CPU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 (cont.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ent of PC is automatically upda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ust also be possible to load a new address in case of branch and jump instru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 (instruction regis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struction to be executed is read from th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 holds the current instruction during the execution of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ts of opcode (operation code ) field of the instruction are input to the controll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79B-F37D-4A3C-8999-B98170D74D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 (Sequencer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8" name=""/>
          <p:cNvSpPr/>
          <p:nvPr/>
        </p:nvSpPr>
        <p:spPr>
          <a:xfrm>
            <a:off x="2017800" y="624672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 a subtract operation in the 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624672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17800" y="588168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 an add operation in the 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588168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17800" y="5241960"/>
            <a:ext cx="667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, Not Write. When false, contents of MDR are stored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4920" y="5241960"/>
            <a:ext cx="1712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_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17800" y="487692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ip Select. Use contents of MAR to set up memory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920" y="487692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17800" y="4511520"/>
            <a:ext cx="667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rive bus with operand part of instruction held in 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4511520"/>
            <a:ext cx="1712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_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17800" y="414648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rement PC and save the result in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414648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_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17800" y="378144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 ACC with result from 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37814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A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17800" y="341640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 MDR from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34164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17800" y="3051000"/>
            <a:ext cx="667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rive bus with contents of M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3051000"/>
            <a:ext cx="1712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R_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17800" y="268596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 MAR from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920" y="268596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17800" y="232092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 IR from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232092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17800" y="195588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rive bus with contents of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4920" y="195588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_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17800" y="1590840"/>
            <a:ext cx="667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 ACC from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15908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A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17800" y="1225440"/>
            <a:ext cx="667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rive bus with contents of ACC (enable three-state out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1225440"/>
            <a:ext cx="1712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_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17800" y="860400"/>
            <a:ext cx="6676920" cy="365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xpla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860400"/>
            <a:ext cx="1712880" cy="365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trol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4920" y="860400"/>
            <a:ext cx="838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920" y="122544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920" y="159084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4920" y="195588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4920" y="232092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920" y="268596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4920" y="305100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4920" y="341640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378144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920" y="414648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920" y="451152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20" y="487692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524196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20" y="588168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6246720"/>
            <a:ext cx="83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6611760"/>
            <a:ext cx="838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860400"/>
            <a:ext cx="0" cy="5751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17800" y="860400"/>
            <a:ext cx="0" cy="575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94720" y="860400"/>
            <a:ext cx="0" cy="5751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C17-8717-48F7-8B40-212CB0B5BE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Reminder: Block Diagram of the Processor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1639800"/>
            <a:ext cx="9428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15920" y="3425760"/>
            <a:ext cx="719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33760" y="1589040"/>
            <a:ext cx="9428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98920" y="1523880"/>
            <a:ext cx="159732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59560" y="2075040"/>
            <a:ext cx="0" cy="349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996160" y="2081160"/>
            <a:ext cx="0" cy="349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35640" y="2075040"/>
            <a:ext cx="0" cy="349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30840" y="2087640"/>
            <a:ext cx="0" cy="349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40880" y="2452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trol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76600" y="18144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76560" y="2147760"/>
            <a:ext cx="0" cy="12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74720" y="2170080"/>
            <a:ext cx="0" cy="12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765160" y="4113360"/>
            <a:ext cx="492120" cy="1031760"/>
            <a:chOff x="2765160" y="4113360"/>
            <a:chExt cx="492120" cy="1031760"/>
          </a:xfrm>
        </p:grpSpPr>
        <p:sp>
          <p:nvSpPr>
            <p:cNvPr id="631" name=""/>
            <p:cNvSpPr/>
            <p:nvPr/>
          </p:nvSpPr>
          <p:spPr>
            <a:xfrm rot="5400000">
              <a:off x="2495160" y="4383000"/>
              <a:ext cx="1031760" cy="492120"/>
            </a:xfrm>
            <a:custGeom>
              <a:avLst/>
              <a:gdLst>
                <a:gd name="textAreaLeft" fmla="*/ 226800 w 1031760"/>
                <a:gd name="textAreaRight" fmla="*/ 804960 w 1031760"/>
                <a:gd name="textAreaTop" fmla="*/ 108000 h 492120"/>
                <a:gd name="textAreaBottom" fmla="*/ 38412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2989440" y="4498560"/>
              <a:ext cx="245880" cy="27468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716280" y="3411360"/>
            <a:ext cx="0" cy="88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251160" y="429588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73120" y="4346640"/>
            <a:ext cx="73980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192040" y="4630680"/>
            <a:ext cx="57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190160" y="4645080"/>
            <a:ext cx="27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190520" y="3425400"/>
            <a:ext cx="0" cy="12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90520" y="4630680"/>
            <a:ext cx="0" cy="149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6127920"/>
            <a:ext cx="251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730680" y="4898880"/>
            <a:ext cx="0" cy="122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3249720" y="4898880"/>
            <a:ext cx="48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60640" y="4984920"/>
            <a:ext cx="0" cy="544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92360" y="55292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2840" y="5529240"/>
            <a:ext cx="9428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16360" y="4206960"/>
            <a:ext cx="94320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65640" y="3425760"/>
            <a:ext cx="0" cy="781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86520" y="4759200"/>
            <a:ext cx="0" cy="781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35640" y="4206960"/>
            <a:ext cx="94320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73760" y="3425760"/>
            <a:ext cx="0" cy="78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73760" y="4759200"/>
            <a:ext cx="0" cy="10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659200" y="5824440"/>
            <a:ext cx="1114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48600" y="1450800"/>
            <a:ext cx="79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92160" y="3425760"/>
            <a:ext cx="0" cy="92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18A-8EC1-44AB-B435-DA1CB4E446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SM Chart for the Controller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58640" y="971640"/>
            <a:ext cx="1305000" cy="834840"/>
            <a:chOff x="458640" y="971640"/>
            <a:chExt cx="1305000" cy="834840"/>
          </a:xfrm>
        </p:grpSpPr>
        <p:sp>
          <p:nvSpPr>
            <p:cNvPr id="657" name=""/>
            <p:cNvSpPr/>
            <p:nvPr/>
          </p:nvSpPr>
          <p:spPr>
            <a:xfrm>
              <a:off x="458640" y="1239840"/>
              <a:ext cx="1305000" cy="56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AR 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C 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PC+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7440" y="97164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58640" y="1812960"/>
            <a:ext cx="1305000" cy="920880"/>
            <a:chOff x="458640" y="1812960"/>
            <a:chExt cx="1305000" cy="920880"/>
          </a:xfrm>
        </p:grpSpPr>
        <p:sp>
          <p:nvSpPr>
            <p:cNvPr id="660" name=""/>
            <p:cNvSpPr/>
            <p:nvPr/>
          </p:nvSpPr>
          <p:spPr>
            <a:xfrm>
              <a:off x="458640" y="2166840"/>
              <a:ext cx="1305000" cy="56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R_NW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11320" y="181296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3560" y="189216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58640" y="2733840"/>
            <a:ext cx="1305000" cy="718920"/>
            <a:chOff x="458640" y="2733840"/>
            <a:chExt cx="1305000" cy="718920"/>
          </a:xfrm>
        </p:grpSpPr>
        <p:sp>
          <p:nvSpPr>
            <p:cNvPr id="664" name=""/>
            <p:cNvSpPr/>
            <p:nvPr/>
          </p:nvSpPr>
          <p:spPr>
            <a:xfrm>
              <a:off x="458640" y="3087720"/>
              <a:ext cx="130500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IR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D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17440" y="273384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7440" y="281304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111320" y="955800"/>
            <a:ext cx="4986360" cy="3457440"/>
            <a:chOff x="1111320" y="955800"/>
            <a:chExt cx="4986360" cy="3457440"/>
          </a:xfrm>
        </p:grpSpPr>
        <p:sp>
          <p:nvSpPr>
            <p:cNvPr id="668" name=""/>
            <p:cNvSpPr/>
            <p:nvPr/>
          </p:nvSpPr>
          <p:spPr>
            <a:xfrm>
              <a:off x="4776840" y="1219320"/>
              <a:ext cx="13208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11320" y="417204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17440" y="4413240"/>
              <a:ext cx="14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597040" y="971640"/>
              <a:ext cx="0" cy="34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97040" y="955800"/>
              <a:ext cx="28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25920" y="9586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58640" y="3452760"/>
            <a:ext cx="1305000" cy="719280"/>
            <a:chOff x="458640" y="3452760"/>
            <a:chExt cx="1305000" cy="719280"/>
          </a:xfrm>
        </p:grpSpPr>
        <p:sp>
          <p:nvSpPr>
            <p:cNvPr id="675" name=""/>
            <p:cNvSpPr/>
            <p:nvPr/>
          </p:nvSpPr>
          <p:spPr>
            <a:xfrm>
              <a:off x="458640" y="3807000"/>
              <a:ext cx="130500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AR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dd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17440" y="345276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3560" y="353232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803680" y="2257560"/>
            <a:ext cx="1304640" cy="658800"/>
            <a:chOff x="2803680" y="2257560"/>
            <a:chExt cx="1304640" cy="658800"/>
          </a:xfrm>
        </p:grpSpPr>
        <p:sp>
          <p:nvSpPr>
            <p:cNvPr id="679" name=""/>
            <p:cNvSpPr/>
            <p:nvPr/>
          </p:nvSpPr>
          <p:spPr>
            <a:xfrm>
              <a:off x="2803680" y="2550960"/>
              <a:ext cx="130464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56000" y="2257560"/>
              <a:ext cx="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03680" y="2276640"/>
              <a:ext cx="290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6141960" y="2449440"/>
            <a:ext cx="1320840" cy="1003320"/>
            <a:chOff x="6141960" y="2449440"/>
            <a:chExt cx="1320840" cy="1003320"/>
          </a:xfrm>
        </p:grpSpPr>
        <p:sp>
          <p:nvSpPr>
            <p:cNvPr id="683" name=""/>
            <p:cNvSpPr/>
            <p:nvPr/>
          </p:nvSpPr>
          <p:spPr>
            <a:xfrm>
              <a:off x="6141960" y="2859120"/>
              <a:ext cx="13208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94640" y="244944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078680" y="3989520"/>
            <a:ext cx="1320840" cy="776160"/>
            <a:chOff x="7078680" y="3989520"/>
            <a:chExt cx="1320840" cy="776160"/>
          </a:xfrm>
        </p:grpSpPr>
        <p:sp>
          <p:nvSpPr>
            <p:cNvPr id="686" name=""/>
            <p:cNvSpPr/>
            <p:nvPr/>
          </p:nvSpPr>
          <p:spPr>
            <a:xfrm>
              <a:off x="7078680" y="4172040"/>
              <a:ext cx="13208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46840" y="39895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04560" y="842760"/>
            <a:ext cx="3151440" cy="5702400"/>
            <a:chOff x="304560" y="842760"/>
            <a:chExt cx="3151440" cy="5702400"/>
          </a:xfrm>
        </p:grpSpPr>
        <p:sp>
          <p:nvSpPr>
            <p:cNvPr id="689" name=""/>
            <p:cNvSpPr/>
            <p:nvPr/>
          </p:nvSpPr>
          <p:spPr>
            <a:xfrm>
              <a:off x="3456000" y="2916360"/>
              <a:ext cx="0" cy="36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04560" y="6545160"/>
              <a:ext cx="315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04920" y="842760"/>
              <a:ext cx="0" cy="57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4920" y="84312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11320" y="843120"/>
              <a:ext cx="61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455640" y="3989520"/>
            <a:ext cx="1321200" cy="2555640"/>
            <a:chOff x="3455640" y="3989520"/>
            <a:chExt cx="1321200" cy="2555640"/>
          </a:xfrm>
        </p:grpSpPr>
        <p:sp>
          <p:nvSpPr>
            <p:cNvPr id="695" name=""/>
            <p:cNvSpPr/>
            <p:nvPr/>
          </p:nvSpPr>
          <p:spPr>
            <a:xfrm>
              <a:off x="4776840" y="3989520"/>
              <a:ext cx="0" cy="25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455640" y="6545160"/>
              <a:ext cx="13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776480" y="5888160"/>
            <a:ext cx="1081440" cy="657000"/>
            <a:chOff x="4776480" y="5888160"/>
            <a:chExt cx="1081440" cy="657000"/>
          </a:xfrm>
        </p:grpSpPr>
        <p:sp>
          <p:nvSpPr>
            <p:cNvPr id="698" name=""/>
            <p:cNvSpPr/>
            <p:nvPr/>
          </p:nvSpPr>
          <p:spPr>
            <a:xfrm>
              <a:off x="5857920" y="588816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4776480" y="65451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857560" y="5888160"/>
            <a:ext cx="1889280" cy="657000"/>
            <a:chOff x="5857560" y="5888160"/>
            <a:chExt cx="1889280" cy="657000"/>
          </a:xfrm>
        </p:grpSpPr>
        <p:sp>
          <p:nvSpPr>
            <p:cNvPr id="701" name=""/>
            <p:cNvSpPr/>
            <p:nvPr/>
          </p:nvSpPr>
          <p:spPr>
            <a:xfrm>
              <a:off x="7746840" y="588816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5857560" y="6545160"/>
              <a:ext cx="18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1995480" y="1270080"/>
            <a:ext cx="368280" cy="2182680"/>
            <a:chOff x="1995480" y="1270080"/>
            <a:chExt cx="368280" cy="2182680"/>
          </a:xfrm>
        </p:grpSpPr>
        <p:sp>
          <p:nvSpPr>
            <p:cNvPr id="704" name=""/>
            <p:cNvSpPr/>
            <p:nvPr/>
          </p:nvSpPr>
          <p:spPr>
            <a:xfrm>
              <a:off x="1995480" y="1270080"/>
              <a:ext cx="0" cy="2182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6200000">
              <a:off x="1798200" y="23166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F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03680" y="1206360"/>
            <a:ext cx="1972800" cy="1051200"/>
            <a:chOff x="2803680" y="1206360"/>
            <a:chExt cx="1972800" cy="1051200"/>
          </a:xfrm>
        </p:grpSpPr>
        <p:sp>
          <p:nvSpPr>
            <p:cNvPr id="707" name=""/>
            <p:cNvSpPr/>
            <p:nvPr/>
          </p:nvSpPr>
          <p:spPr>
            <a:xfrm flipH="1">
              <a:off x="3455640" y="1509840"/>
              <a:ext cx="13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03680" y="1892160"/>
              <a:ext cx="130464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DR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6000" y="1509840"/>
              <a:ext cx="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03680" y="1617840"/>
              <a:ext cx="290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94160" y="12063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118040" y="2778120"/>
            <a:ext cx="2023920" cy="1211400"/>
            <a:chOff x="4118040" y="2778120"/>
            <a:chExt cx="2023920" cy="1211400"/>
          </a:xfrm>
        </p:grpSpPr>
        <p:sp>
          <p:nvSpPr>
            <p:cNvPr id="713" name=""/>
            <p:cNvSpPr/>
            <p:nvPr/>
          </p:nvSpPr>
          <p:spPr>
            <a:xfrm>
              <a:off x="4118040" y="3624120"/>
              <a:ext cx="130500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M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4776840" y="3144960"/>
              <a:ext cx="13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76840" y="314496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8040" y="3349800"/>
              <a:ext cx="290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19800" y="27781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138640" y="4138560"/>
            <a:ext cx="1939680" cy="1749600"/>
            <a:chOff x="5138640" y="4138560"/>
            <a:chExt cx="1939680" cy="1749600"/>
          </a:xfrm>
        </p:grpSpPr>
        <p:sp>
          <p:nvSpPr>
            <p:cNvPr id="719" name=""/>
            <p:cNvSpPr/>
            <p:nvPr/>
          </p:nvSpPr>
          <p:spPr>
            <a:xfrm flipH="1">
              <a:off x="5857560" y="4470480"/>
              <a:ext cx="12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38640" y="5322960"/>
              <a:ext cx="1438200" cy="56520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CC</a:t>
              </a: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DR + A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57920" y="447048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9480" y="41385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097680" y="1131840"/>
            <a:ext cx="1349280" cy="1317600"/>
            <a:chOff x="6097680" y="1131840"/>
            <a:chExt cx="1349280" cy="1317600"/>
          </a:xfrm>
        </p:grpSpPr>
        <p:sp>
          <p:nvSpPr>
            <p:cNvPr id="724" name=""/>
            <p:cNvSpPr/>
            <p:nvPr/>
          </p:nvSpPr>
          <p:spPr>
            <a:xfrm>
              <a:off x="6097680" y="1509840"/>
              <a:ext cx="69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88160" y="1509840"/>
              <a:ext cx="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41960" y="1882800"/>
              <a:ext cx="1305000" cy="56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R_NW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41960" y="160812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96760" y="11318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078680" y="2813040"/>
            <a:ext cx="1320840" cy="1176480"/>
            <a:chOff x="7078680" y="2813040"/>
            <a:chExt cx="1320840" cy="1176480"/>
          </a:xfrm>
        </p:grpSpPr>
        <p:sp>
          <p:nvSpPr>
            <p:cNvPr id="730" name=""/>
            <p:cNvSpPr/>
            <p:nvPr/>
          </p:nvSpPr>
          <p:spPr>
            <a:xfrm>
              <a:off x="7446960" y="313056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94520" y="3624120"/>
              <a:ext cx="130500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46840" y="313056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78680" y="3349800"/>
              <a:ext cx="290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11120" y="28130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094520" y="4765680"/>
            <a:ext cx="1438200" cy="1122480"/>
            <a:chOff x="7094520" y="4765680"/>
            <a:chExt cx="1438200" cy="1122480"/>
          </a:xfrm>
        </p:grpSpPr>
        <p:sp>
          <p:nvSpPr>
            <p:cNvPr id="736" name=""/>
            <p:cNvSpPr/>
            <p:nvPr/>
          </p:nvSpPr>
          <p:spPr>
            <a:xfrm>
              <a:off x="7094520" y="5322960"/>
              <a:ext cx="1438200" cy="56520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CC</a:t>
              </a: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DR - A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46840" y="4765680"/>
              <a:ext cx="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71760" y="48369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995480" y="1270080"/>
            <a:ext cx="7059600" cy="5289480"/>
            <a:chOff x="1995480" y="1270080"/>
            <a:chExt cx="7059600" cy="5289480"/>
          </a:xfrm>
        </p:grpSpPr>
        <p:grpSp>
          <p:nvGrpSpPr>
            <p:cNvPr id="740" name=""/>
            <p:cNvGrpSpPr/>
            <p:nvPr/>
          </p:nvGrpSpPr>
          <p:grpSpPr>
            <a:xfrm>
              <a:off x="8678880" y="1270080"/>
              <a:ext cx="376200" cy="5289480"/>
              <a:chOff x="8678880" y="1270080"/>
              <a:chExt cx="376200" cy="5289480"/>
            </a:xfrm>
          </p:grpSpPr>
          <p:sp>
            <p:nvSpPr>
              <p:cNvPr id="741" name=""/>
              <p:cNvSpPr/>
              <p:nvPr/>
            </p:nvSpPr>
            <p:spPr>
              <a:xfrm flipH="1">
                <a:off x="8678880" y="1270080"/>
                <a:ext cx="7920" cy="52894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6200000">
                <a:off x="8360640" y="4175280"/>
                <a:ext cx="102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Execu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1995480" y="3807000"/>
              <a:ext cx="0" cy="331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13E-2034-4A7C-AA64-3F816EEA5D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SM Chart with Control Signa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65120" y="885960"/>
            <a:ext cx="1305000" cy="1212480"/>
            <a:chOff x="465120" y="885960"/>
            <a:chExt cx="1305000" cy="1212480"/>
          </a:xfrm>
        </p:grpSpPr>
        <p:sp>
          <p:nvSpPr>
            <p:cNvPr id="746" name=""/>
            <p:cNvSpPr/>
            <p:nvPr/>
          </p:nvSpPr>
          <p:spPr>
            <a:xfrm>
              <a:off x="465120" y="1275480"/>
              <a:ext cx="1305000" cy="82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C_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oad_MAR</a:t>
              </a:r>
              <a:br>
                <a:rPr sz="1800"/>
              </a:b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INC_P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3920" y="88596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58640" y="2100240"/>
            <a:ext cx="1305000" cy="920880"/>
            <a:chOff x="458640" y="2100240"/>
            <a:chExt cx="1305000" cy="920880"/>
          </a:xfrm>
        </p:grpSpPr>
        <p:sp>
          <p:nvSpPr>
            <p:cNvPr id="749" name=""/>
            <p:cNvSpPr/>
            <p:nvPr/>
          </p:nvSpPr>
          <p:spPr>
            <a:xfrm>
              <a:off x="458640" y="2454120"/>
              <a:ext cx="1305000" cy="56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R_NW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11320" y="210024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3560" y="217944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58640" y="3021120"/>
            <a:ext cx="1305000" cy="1116720"/>
            <a:chOff x="458640" y="3021120"/>
            <a:chExt cx="1305000" cy="1116720"/>
          </a:xfrm>
        </p:grpSpPr>
        <p:sp>
          <p:nvSpPr>
            <p:cNvPr id="753" name=""/>
            <p:cNvSpPr/>
            <p:nvPr/>
          </p:nvSpPr>
          <p:spPr>
            <a:xfrm>
              <a:off x="458640" y="3570840"/>
              <a:ext cx="1305000" cy="56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DR_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oad_I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17440" y="3021120"/>
              <a:ext cx="0" cy="5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7440" y="3143880"/>
              <a:ext cx="290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117440" y="743040"/>
            <a:ext cx="4986360" cy="4685760"/>
            <a:chOff x="1117440" y="743040"/>
            <a:chExt cx="4986360" cy="4685760"/>
          </a:xfrm>
        </p:grpSpPr>
        <p:sp>
          <p:nvSpPr>
            <p:cNvPr id="757" name=""/>
            <p:cNvSpPr/>
            <p:nvPr/>
          </p:nvSpPr>
          <p:spPr>
            <a:xfrm>
              <a:off x="4782960" y="1100160"/>
              <a:ext cx="1320840" cy="8042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17440" y="51019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23560" y="5428800"/>
              <a:ext cx="14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2603160" y="763920"/>
              <a:ext cx="0" cy="466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03160" y="743040"/>
              <a:ext cx="28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32040" y="74664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458640" y="4146480"/>
            <a:ext cx="1305000" cy="1107360"/>
            <a:chOff x="458640" y="4146480"/>
            <a:chExt cx="1305000" cy="1107360"/>
          </a:xfrm>
        </p:grpSpPr>
        <p:sp>
          <p:nvSpPr>
            <p:cNvPr id="764" name=""/>
            <p:cNvSpPr/>
            <p:nvPr/>
          </p:nvSpPr>
          <p:spPr>
            <a:xfrm>
              <a:off x="458640" y="4691880"/>
              <a:ext cx="130500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ddr_bus</a:t>
              </a:r>
              <a:br>
                <a:rPr sz="1800"/>
              </a:b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oad_M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17440" y="4146480"/>
              <a:ext cx="0" cy="54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3560" y="4268880"/>
              <a:ext cx="290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813040" y="2620800"/>
            <a:ext cx="1304640" cy="658800"/>
            <a:chOff x="2813040" y="2620800"/>
            <a:chExt cx="1304640" cy="658800"/>
          </a:xfrm>
        </p:grpSpPr>
        <p:sp>
          <p:nvSpPr>
            <p:cNvPr id="768" name=""/>
            <p:cNvSpPr/>
            <p:nvPr/>
          </p:nvSpPr>
          <p:spPr>
            <a:xfrm>
              <a:off x="2813040" y="2914200"/>
              <a:ext cx="130464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65360" y="2620800"/>
              <a:ext cx="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13040" y="2639880"/>
              <a:ext cx="290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141960" y="2449440"/>
            <a:ext cx="1320840" cy="1003320"/>
            <a:chOff x="6141960" y="2449440"/>
            <a:chExt cx="1320840" cy="1003320"/>
          </a:xfrm>
        </p:grpSpPr>
        <p:sp>
          <p:nvSpPr>
            <p:cNvPr id="772" name=""/>
            <p:cNvSpPr/>
            <p:nvPr/>
          </p:nvSpPr>
          <p:spPr>
            <a:xfrm>
              <a:off x="6141960" y="2859120"/>
              <a:ext cx="13208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94640" y="244944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093080" y="4452840"/>
            <a:ext cx="1320840" cy="776160"/>
            <a:chOff x="7093080" y="4452840"/>
            <a:chExt cx="1320840" cy="776160"/>
          </a:xfrm>
        </p:grpSpPr>
        <p:sp>
          <p:nvSpPr>
            <p:cNvPr id="775" name=""/>
            <p:cNvSpPr/>
            <p:nvPr/>
          </p:nvSpPr>
          <p:spPr>
            <a:xfrm>
              <a:off x="7093080" y="4635360"/>
              <a:ext cx="13208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61240" y="4452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04560" y="842760"/>
            <a:ext cx="3151440" cy="5702400"/>
            <a:chOff x="304560" y="842760"/>
            <a:chExt cx="3151440" cy="5702400"/>
          </a:xfrm>
        </p:grpSpPr>
        <p:sp>
          <p:nvSpPr>
            <p:cNvPr id="778" name=""/>
            <p:cNvSpPr/>
            <p:nvPr/>
          </p:nvSpPr>
          <p:spPr>
            <a:xfrm>
              <a:off x="3456000" y="3279600"/>
              <a:ext cx="0" cy="326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04560" y="6545160"/>
              <a:ext cx="315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04920" y="842760"/>
              <a:ext cx="0" cy="57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4920" y="84312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11320" y="843120"/>
              <a:ext cx="61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3455640" y="4327560"/>
            <a:ext cx="1321200" cy="2217600"/>
            <a:chOff x="3455640" y="4327560"/>
            <a:chExt cx="1321200" cy="2217600"/>
          </a:xfrm>
        </p:grpSpPr>
        <p:sp>
          <p:nvSpPr>
            <p:cNvPr id="784" name=""/>
            <p:cNvSpPr/>
            <p:nvPr/>
          </p:nvSpPr>
          <p:spPr>
            <a:xfrm>
              <a:off x="4776840" y="4327560"/>
              <a:ext cx="0" cy="22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3455640" y="6545160"/>
              <a:ext cx="13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4776480" y="5888160"/>
            <a:ext cx="1081440" cy="657000"/>
            <a:chOff x="4776480" y="5888160"/>
            <a:chExt cx="1081440" cy="657000"/>
          </a:xfrm>
        </p:grpSpPr>
        <p:sp>
          <p:nvSpPr>
            <p:cNvPr id="787" name=""/>
            <p:cNvSpPr/>
            <p:nvPr/>
          </p:nvSpPr>
          <p:spPr>
            <a:xfrm>
              <a:off x="5857920" y="588816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776480" y="654516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5857560" y="6173640"/>
            <a:ext cx="1889280" cy="371520"/>
            <a:chOff x="5857560" y="6173640"/>
            <a:chExt cx="1889280" cy="371520"/>
          </a:xfrm>
        </p:grpSpPr>
        <p:sp>
          <p:nvSpPr>
            <p:cNvPr id="790" name=""/>
            <p:cNvSpPr/>
            <p:nvPr/>
          </p:nvSpPr>
          <p:spPr>
            <a:xfrm>
              <a:off x="7746840" y="61736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857560" y="6545160"/>
              <a:ext cx="18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995480" y="1270080"/>
            <a:ext cx="369720" cy="2868480"/>
            <a:chOff x="1995480" y="1270080"/>
            <a:chExt cx="369720" cy="2868480"/>
          </a:xfrm>
        </p:grpSpPr>
        <p:sp>
          <p:nvSpPr>
            <p:cNvPr id="793" name=""/>
            <p:cNvSpPr/>
            <p:nvPr/>
          </p:nvSpPr>
          <p:spPr>
            <a:xfrm>
              <a:off x="1995480" y="1270080"/>
              <a:ext cx="0" cy="2868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200000">
              <a:off x="1799640" y="270144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F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03680" y="1049400"/>
            <a:ext cx="1972800" cy="1571040"/>
            <a:chOff x="2803680" y="1049400"/>
            <a:chExt cx="1972800" cy="1571040"/>
          </a:xfrm>
        </p:grpSpPr>
        <p:sp>
          <p:nvSpPr>
            <p:cNvPr id="796" name=""/>
            <p:cNvSpPr/>
            <p:nvPr/>
          </p:nvSpPr>
          <p:spPr>
            <a:xfrm flipH="1">
              <a:off x="3455640" y="1503000"/>
              <a:ext cx="132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03680" y="2074320"/>
              <a:ext cx="1304640" cy="54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CC_bus</a:t>
              </a:r>
              <a:br>
                <a:rPr sz="1800"/>
              </a:b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oad_MD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56000" y="150300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3680" y="1664280"/>
              <a:ext cx="2905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94160" y="10494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118040" y="2813040"/>
            <a:ext cx="2023920" cy="1514520"/>
            <a:chOff x="4118040" y="2813040"/>
            <a:chExt cx="2023920" cy="1514520"/>
          </a:xfrm>
        </p:grpSpPr>
        <p:sp>
          <p:nvSpPr>
            <p:cNvPr id="802" name=""/>
            <p:cNvSpPr/>
            <p:nvPr/>
          </p:nvSpPr>
          <p:spPr>
            <a:xfrm>
              <a:off x="4118040" y="3817800"/>
              <a:ext cx="1305000" cy="50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DR_bus</a:t>
              </a:r>
              <a:br>
                <a:rPr sz="1800"/>
              </a:b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oad_A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776840" y="3147840"/>
              <a:ext cx="13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76840" y="314784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18040" y="3433680"/>
              <a:ext cx="29052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73720" y="28130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138640" y="4665600"/>
            <a:ext cx="1939680" cy="1508040"/>
            <a:chOff x="5138640" y="4665600"/>
            <a:chExt cx="1939680" cy="1508040"/>
          </a:xfrm>
        </p:grpSpPr>
        <p:sp>
          <p:nvSpPr>
            <p:cNvPr id="808" name=""/>
            <p:cNvSpPr/>
            <p:nvPr/>
          </p:nvSpPr>
          <p:spPr>
            <a:xfrm flipH="1">
              <a:off x="5857560" y="4932360"/>
              <a:ext cx="12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38640" y="5608800"/>
              <a:ext cx="1438200" cy="56484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LU_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57920" y="4932360"/>
              <a:ext cx="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18440" y="46656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097680" y="1131840"/>
            <a:ext cx="1349280" cy="1317600"/>
            <a:chOff x="6097680" y="1131840"/>
            <a:chExt cx="1349280" cy="1317600"/>
          </a:xfrm>
        </p:grpSpPr>
        <p:sp>
          <p:nvSpPr>
            <p:cNvPr id="813" name=""/>
            <p:cNvSpPr/>
            <p:nvPr/>
          </p:nvSpPr>
          <p:spPr>
            <a:xfrm>
              <a:off x="6097680" y="1509840"/>
              <a:ext cx="69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88160" y="1509840"/>
              <a:ext cx="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41960" y="1882800"/>
              <a:ext cx="1305000" cy="56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R_NW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41960" y="160812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96760" y="11318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7094520" y="5232240"/>
            <a:ext cx="1438200" cy="941400"/>
            <a:chOff x="7094520" y="5232240"/>
            <a:chExt cx="1438200" cy="941400"/>
          </a:xfrm>
        </p:grpSpPr>
        <p:sp>
          <p:nvSpPr>
            <p:cNvPr id="819" name=""/>
            <p:cNvSpPr/>
            <p:nvPr/>
          </p:nvSpPr>
          <p:spPr>
            <a:xfrm>
              <a:off x="7094520" y="5608800"/>
              <a:ext cx="1438200" cy="56484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LU_s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746840" y="5232240"/>
              <a:ext cx="1440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71760" y="52912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995480" y="1185840"/>
            <a:ext cx="7072200" cy="5289480"/>
            <a:chOff x="1995480" y="1185840"/>
            <a:chExt cx="7072200" cy="5289480"/>
          </a:xfrm>
        </p:grpSpPr>
        <p:grpSp>
          <p:nvGrpSpPr>
            <p:cNvPr id="823" name=""/>
            <p:cNvGrpSpPr/>
            <p:nvPr/>
          </p:nvGrpSpPr>
          <p:grpSpPr>
            <a:xfrm>
              <a:off x="8691480" y="1185840"/>
              <a:ext cx="376200" cy="5289480"/>
              <a:chOff x="8691480" y="1185840"/>
              <a:chExt cx="376200" cy="528948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8691480" y="1185840"/>
                <a:ext cx="7920" cy="52894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6200000">
                <a:off x="8373240" y="4091040"/>
                <a:ext cx="102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Comic Sans MS"/>
                  </a:rPr>
                  <a:t>Execu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1995480" y="4692600"/>
              <a:ext cx="0" cy="539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078680" y="2813040"/>
            <a:ext cx="1320840" cy="1619280"/>
            <a:chOff x="7078680" y="2813040"/>
            <a:chExt cx="1320840" cy="1619280"/>
          </a:xfrm>
        </p:grpSpPr>
        <p:sp>
          <p:nvSpPr>
            <p:cNvPr id="828" name=""/>
            <p:cNvSpPr/>
            <p:nvPr/>
          </p:nvSpPr>
          <p:spPr>
            <a:xfrm>
              <a:off x="7094520" y="3817800"/>
              <a:ext cx="1305000" cy="6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DR_bus</a:t>
              </a:r>
              <a:br>
                <a:rPr sz="1800"/>
              </a:b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LU_A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11120" y="28130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46960" y="313056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46840" y="313056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78680" y="348624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279-99C5-413A-A8CB-D12DE4C9C4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SM Chart with Branch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612880" y="1676520"/>
            <a:ext cx="1320840" cy="1003320"/>
            <a:chOff x="2612880" y="1676520"/>
            <a:chExt cx="1320840" cy="1003320"/>
          </a:xfrm>
        </p:grpSpPr>
        <p:sp>
          <p:nvSpPr>
            <p:cNvPr id="835" name=""/>
            <p:cNvSpPr/>
            <p:nvPr/>
          </p:nvSpPr>
          <p:spPr>
            <a:xfrm>
              <a:off x="2612880" y="2086200"/>
              <a:ext cx="13208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65560" y="167652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519880" y="3714840"/>
            <a:ext cx="1320480" cy="776160"/>
            <a:chOff x="5519880" y="3714840"/>
            <a:chExt cx="1320480" cy="776160"/>
          </a:xfrm>
        </p:grpSpPr>
        <p:sp>
          <p:nvSpPr>
            <p:cNvPr id="838" name=""/>
            <p:cNvSpPr/>
            <p:nvPr/>
          </p:nvSpPr>
          <p:spPr>
            <a:xfrm>
              <a:off x="5519880" y="3897360"/>
              <a:ext cx="132048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87680" y="37148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71840" y="5386320"/>
            <a:ext cx="1889280" cy="657000"/>
            <a:chOff x="6171840" y="5386320"/>
            <a:chExt cx="1889280" cy="657000"/>
          </a:xfrm>
        </p:grpSpPr>
        <p:sp>
          <p:nvSpPr>
            <p:cNvPr id="841" name=""/>
            <p:cNvSpPr/>
            <p:nvPr/>
          </p:nvSpPr>
          <p:spPr>
            <a:xfrm>
              <a:off x="8061120" y="538632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171840" y="6043320"/>
              <a:ext cx="18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5465880" y="4491000"/>
            <a:ext cx="1438200" cy="895320"/>
            <a:chOff x="5465880" y="4491000"/>
            <a:chExt cx="1438200" cy="895320"/>
          </a:xfrm>
        </p:grpSpPr>
        <p:sp>
          <p:nvSpPr>
            <p:cNvPr id="844" name=""/>
            <p:cNvSpPr/>
            <p:nvPr/>
          </p:nvSpPr>
          <p:spPr>
            <a:xfrm>
              <a:off x="5465880" y="4821120"/>
              <a:ext cx="1438200" cy="56520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CC</a:t>
              </a: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DR + A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80120" y="4491000"/>
              <a:ext cx="792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23080" y="45036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2612880" y="806400"/>
            <a:ext cx="1305000" cy="870120"/>
            <a:chOff x="2612880" y="806400"/>
            <a:chExt cx="1305000" cy="870120"/>
          </a:xfrm>
        </p:grpSpPr>
        <p:sp>
          <p:nvSpPr>
            <p:cNvPr id="848" name=""/>
            <p:cNvSpPr/>
            <p:nvPr/>
          </p:nvSpPr>
          <p:spPr>
            <a:xfrm>
              <a:off x="3259080" y="8064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12880" y="1109520"/>
              <a:ext cx="1305000" cy="56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R_NW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12880" y="835200"/>
              <a:ext cx="290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452920" y="2538360"/>
            <a:ext cx="1379520" cy="1176480"/>
            <a:chOff x="5452920" y="2538360"/>
            <a:chExt cx="1379520" cy="1176480"/>
          </a:xfrm>
        </p:grpSpPr>
        <p:sp>
          <p:nvSpPr>
            <p:cNvPr id="852" name=""/>
            <p:cNvSpPr/>
            <p:nvPr/>
          </p:nvSpPr>
          <p:spPr>
            <a:xfrm>
              <a:off x="5452920" y="285588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27800" y="3349800"/>
              <a:ext cx="130464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80120" y="2855880"/>
              <a:ext cx="0" cy="49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11960" y="307512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44400" y="25383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832440" y="4181400"/>
            <a:ext cx="2014560" cy="1204920"/>
            <a:chOff x="6832440" y="4181400"/>
            <a:chExt cx="2014560" cy="1204920"/>
          </a:xfrm>
        </p:grpSpPr>
        <p:sp>
          <p:nvSpPr>
            <p:cNvPr id="858" name=""/>
            <p:cNvSpPr/>
            <p:nvPr/>
          </p:nvSpPr>
          <p:spPr>
            <a:xfrm flipH="1">
              <a:off x="6832440" y="4181400"/>
              <a:ext cx="12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08800" y="4821120"/>
              <a:ext cx="1438200" cy="56520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CC</a:t>
              </a: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DR - A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061480" y="4181400"/>
              <a:ext cx="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186040" y="43354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88960" y="2022480"/>
            <a:ext cx="2023920" cy="1211400"/>
            <a:chOff x="588960" y="2022480"/>
            <a:chExt cx="2023920" cy="1211400"/>
          </a:xfrm>
        </p:grpSpPr>
        <p:sp>
          <p:nvSpPr>
            <p:cNvPr id="863" name=""/>
            <p:cNvSpPr/>
            <p:nvPr/>
          </p:nvSpPr>
          <p:spPr>
            <a:xfrm>
              <a:off x="588960" y="2868480"/>
              <a:ext cx="130500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M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1247760" y="2389320"/>
              <a:ext cx="13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47760" y="238932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88960" y="2594160"/>
              <a:ext cx="290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890720" y="20224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3933720" y="2085840"/>
            <a:ext cx="1519200" cy="1079640"/>
            <a:chOff x="3933720" y="2085840"/>
            <a:chExt cx="1519200" cy="1079640"/>
          </a:xfrm>
        </p:grpSpPr>
        <p:sp>
          <p:nvSpPr>
            <p:cNvPr id="869" name=""/>
            <p:cNvSpPr/>
            <p:nvPr/>
          </p:nvSpPr>
          <p:spPr>
            <a:xfrm>
              <a:off x="4132440" y="2571840"/>
              <a:ext cx="132048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=b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00600" y="23893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33720" y="2389320"/>
              <a:ext cx="8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18760" y="20858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952720" y="2868480"/>
            <a:ext cx="1330200" cy="1397160"/>
            <a:chOff x="2952720" y="2868480"/>
            <a:chExt cx="1330200" cy="1397160"/>
          </a:xfrm>
        </p:grpSpPr>
        <p:sp>
          <p:nvSpPr>
            <p:cNvPr id="874" name=""/>
            <p:cNvSpPr/>
            <p:nvPr/>
          </p:nvSpPr>
          <p:spPr>
            <a:xfrm flipH="1">
              <a:off x="3613320" y="286848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13320" y="2868480"/>
              <a:ext cx="0" cy="80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3672000"/>
              <a:ext cx="133020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z_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557360" y="3672000"/>
            <a:ext cx="1395360" cy="1149120"/>
            <a:chOff x="1557360" y="3672000"/>
            <a:chExt cx="1395360" cy="1149120"/>
          </a:xfrm>
        </p:grpSpPr>
        <p:sp>
          <p:nvSpPr>
            <p:cNvPr id="878" name=""/>
            <p:cNvSpPr/>
            <p:nvPr/>
          </p:nvSpPr>
          <p:spPr>
            <a:xfrm>
              <a:off x="1557360" y="4456080"/>
              <a:ext cx="130500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C </a:t>
              </a:r>
              <a:r>
                <a:rPr b="0" lang="en-US" sz="18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</a:t>
              </a: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 M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2233440" y="39765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16160" y="397656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57360" y="4181400"/>
              <a:ext cx="29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s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46640" y="36720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04560" y="3233880"/>
            <a:ext cx="943200" cy="2809800"/>
            <a:chOff x="304560" y="3233880"/>
            <a:chExt cx="943200" cy="2809800"/>
          </a:xfrm>
        </p:grpSpPr>
        <p:sp>
          <p:nvSpPr>
            <p:cNvPr id="884" name=""/>
            <p:cNvSpPr/>
            <p:nvPr/>
          </p:nvSpPr>
          <p:spPr>
            <a:xfrm>
              <a:off x="1247760" y="3233880"/>
              <a:ext cx="0" cy="28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04560" y="6043680"/>
              <a:ext cx="9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1247760" y="4821120"/>
            <a:ext cx="985680" cy="1222560"/>
            <a:chOff x="1247760" y="4821120"/>
            <a:chExt cx="985680" cy="1222560"/>
          </a:xfrm>
        </p:grpSpPr>
        <p:sp>
          <p:nvSpPr>
            <p:cNvPr id="887" name=""/>
            <p:cNvSpPr/>
            <p:nvPr/>
          </p:nvSpPr>
          <p:spPr>
            <a:xfrm>
              <a:off x="2233440" y="4821120"/>
              <a:ext cx="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1247760" y="604368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2233080" y="4265640"/>
            <a:ext cx="1680840" cy="1778040"/>
            <a:chOff x="2233080" y="4265640"/>
            <a:chExt cx="1680840" cy="1778040"/>
          </a:xfrm>
        </p:grpSpPr>
        <p:sp>
          <p:nvSpPr>
            <p:cNvPr id="890" name=""/>
            <p:cNvSpPr/>
            <p:nvPr/>
          </p:nvSpPr>
          <p:spPr>
            <a:xfrm>
              <a:off x="3782160" y="43178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233080" y="4265640"/>
              <a:ext cx="1380240" cy="1778040"/>
              <a:chOff x="2233080" y="4265640"/>
              <a:chExt cx="1380240" cy="1778040"/>
            </a:xfrm>
          </p:grpSpPr>
          <p:sp>
            <p:nvSpPr>
              <p:cNvPr id="892" name=""/>
              <p:cNvSpPr/>
              <p:nvPr/>
            </p:nvSpPr>
            <p:spPr>
              <a:xfrm>
                <a:off x="3613320" y="4265640"/>
                <a:ext cx="0" cy="17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233080" y="6043680"/>
                <a:ext cx="137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3613320" y="5386320"/>
            <a:ext cx="2574720" cy="657360"/>
            <a:chOff x="3613320" y="5386320"/>
            <a:chExt cx="2574720" cy="657360"/>
          </a:xfrm>
        </p:grpSpPr>
        <p:sp>
          <p:nvSpPr>
            <p:cNvPr id="895" name=""/>
            <p:cNvSpPr/>
            <p:nvPr/>
          </p:nvSpPr>
          <p:spPr>
            <a:xfrm flipH="1">
              <a:off x="6180120" y="5386320"/>
              <a:ext cx="792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613320" y="6043680"/>
              <a:ext cx="25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998-0313-44C3-8D19-C3CBDA2C25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Reminder: Block Diagram of the Processor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98" name=""/>
          <p:cNvSpPr/>
          <p:nvPr/>
        </p:nvSpPr>
        <p:spPr>
          <a:xfrm>
            <a:off x="1219320" y="1639800"/>
            <a:ext cx="9428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15920" y="3425760"/>
            <a:ext cx="719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33760" y="1589040"/>
            <a:ext cx="9428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98920" y="1523880"/>
            <a:ext cx="159732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659560" y="2075040"/>
            <a:ext cx="0" cy="349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96160" y="2081160"/>
            <a:ext cx="0" cy="349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35640" y="2075040"/>
            <a:ext cx="0" cy="349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630840" y="2087640"/>
            <a:ext cx="0" cy="349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40880" y="2452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trol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476600" y="18144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76560" y="2147760"/>
            <a:ext cx="0" cy="12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74720" y="2170080"/>
            <a:ext cx="0" cy="12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2765160" y="4113360"/>
            <a:ext cx="492120" cy="1031760"/>
            <a:chOff x="2765160" y="4113360"/>
            <a:chExt cx="492120" cy="1031760"/>
          </a:xfrm>
        </p:grpSpPr>
        <p:sp>
          <p:nvSpPr>
            <p:cNvPr id="911" name=""/>
            <p:cNvSpPr/>
            <p:nvPr/>
          </p:nvSpPr>
          <p:spPr>
            <a:xfrm rot="5400000">
              <a:off x="2495160" y="4383000"/>
              <a:ext cx="1031760" cy="492120"/>
            </a:xfrm>
            <a:custGeom>
              <a:avLst/>
              <a:gdLst>
                <a:gd name="textAreaLeft" fmla="*/ 226800 w 1031760"/>
                <a:gd name="textAreaRight" fmla="*/ 804960 w 1031760"/>
                <a:gd name="textAreaTop" fmla="*/ 108000 h 492120"/>
                <a:gd name="textAreaBottom" fmla="*/ 38412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6200000">
              <a:off x="2989440" y="4498560"/>
              <a:ext cx="245880" cy="27468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3716280" y="3411360"/>
            <a:ext cx="0" cy="88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251160" y="429588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73120" y="4346640"/>
            <a:ext cx="73980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2192040" y="4630680"/>
            <a:ext cx="57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1190160" y="4645080"/>
            <a:ext cx="27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1190520" y="3425400"/>
            <a:ext cx="0" cy="12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0520" y="4630680"/>
            <a:ext cx="0" cy="149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219320" y="6127920"/>
            <a:ext cx="251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730680" y="4898880"/>
            <a:ext cx="0" cy="122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3249720" y="4898880"/>
            <a:ext cx="48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960640" y="4984920"/>
            <a:ext cx="0" cy="544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92360" y="55292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722840" y="5529240"/>
            <a:ext cx="942840" cy="552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716360" y="4206960"/>
            <a:ext cx="94320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165640" y="3425760"/>
            <a:ext cx="0" cy="781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186520" y="4759200"/>
            <a:ext cx="0" cy="781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335640" y="4206960"/>
            <a:ext cx="943200" cy="55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773760" y="3425760"/>
            <a:ext cx="0" cy="78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73760" y="4759200"/>
            <a:ext cx="0" cy="10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5659200" y="5824440"/>
            <a:ext cx="1114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48600" y="1450800"/>
            <a:ext cx="79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892160" y="3425760"/>
            <a:ext cx="0" cy="92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337-A5A2-4CD3-9410-14B8D7785C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thods to Synthesize Bu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560" y="3031920"/>
            <a:ext cx="8381880" cy="31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ultiplex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, b, c, d, 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ulogic_vector(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ulogic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ultiplex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304920" y="865080"/>
            <a:ext cx="7983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that tri-state buffers are used for constructing bu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llowing method can be used with Xilinx FPGA; but not with Actel FPGA since this technology does not support three-state log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DC0-1D15-45A4-9EC8-556634266F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ur Old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167080" y="1014120"/>
            <a:ext cx="3251520" cy="5405760"/>
            <a:chOff x="5167080" y="1014120"/>
            <a:chExt cx="3251520" cy="5405760"/>
          </a:xfrm>
        </p:grpSpPr>
        <p:sp>
          <p:nvSpPr>
            <p:cNvPr id="47" name=""/>
            <p:cNvSpPr/>
            <p:nvPr/>
          </p:nvSpPr>
          <p:spPr>
            <a:xfrm>
              <a:off x="5994360" y="1601640"/>
              <a:ext cx="1785960" cy="812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ajor=Green</a:t>
              </a:r>
              <a:br>
                <a:rPr sz="1800"/>
              </a:b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inor=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16720" y="1273320"/>
              <a:ext cx="377640" cy="366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94360" y="4627440"/>
              <a:ext cx="1785960" cy="812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ajor=Red</a:t>
              </a:r>
              <a:br>
                <a:rPr sz="1800"/>
              </a:b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inor=Gr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16720" y="4284720"/>
              <a:ext cx="377640" cy="366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42120" y="2676600"/>
              <a:ext cx="110340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94360" y="241452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70760" y="3591000"/>
              <a:ext cx="1438200" cy="47772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38080" y="365904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art_t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94360" y="327024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94360" y="4068720"/>
              <a:ext cx="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42120" y="5826240"/>
              <a:ext cx="110340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167080" y="6119640"/>
              <a:ext cx="11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5167440" y="101412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67440" y="1014480"/>
              <a:ext cx="17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94360" y="1014480"/>
              <a:ext cx="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45520" y="611964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418600" y="4284360"/>
              <a:ext cx="0" cy="18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894360" y="42847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45520" y="297036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418600" y="1014120"/>
              <a:ext cx="0" cy="19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894360" y="10144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59440" y="2597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64040" y="5746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07680" y="3218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37760" y="5746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15240" y="5440320"/>
              <a:ext cx="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19880" y="2664000"/>
            <a:ext cx="4705920" cy="2363760"/>
            <a:chOff x="119880" y="2664000"/>
            <a:chExt cx="4705920" cy="2363760"/>
          </a:xfrm>
        </p:grpSpPr>
        <p:sp>
          <p:nvSpPr>
            <p:cNvPr id="74" name=""/>
            <p:cNvSpPr/>
            <p:nvPr/>
          </p:nvSpPr>
          <p:spPr>
            <a:xfrm>
              <a:off x="3645000" y="2664000"/>
              <a:ext cx="0" cy="71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19440" y="2664000"/>
              <a:ext cx="0" cy="71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45000" y="4314960"/>
              <a:ext cx="0" cy="71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19440" y="4314960"/>
              <a:ext cx="0" cy="71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45000" y="3376440"/>
              <a:ext cx="97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45000" y="4322880"/>
              <a:ext cx="97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9880" y="3368520"/>
              <a:ext cx="97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9880" y="4314960"/>
              <a:ext cx="97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708360" y="3029040"/>
              <a:ext cx="604800" cy="287280"/>
              <a:chOff x="3708360" y="3029040"/>
              <a:chExt cx="604800" cy="287280"/>
            </a:xfrm>
          </p:grpSpPr>
          <p:sp>
            <p:nvSpPr>
              <p:cNvPr id="83" name=""/>
              <p:cNvSpPr/>
              <p:nvPr/>
            </p:nvSpPr>
            <p:spPr>
              <a:xfrm>
                <a:off x="3708360" y="3029040"/>
                <a:ext cx="604800" cy="28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35720" y="3069360"/>
                <a:ext cx="239400" cy="219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32000" y="3065760"/>
                <a:ext cx="239400" cy="219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1176480" y="4373640"/>
              <a:ext cx="604800" cy="287280"/>
              <a:chOff x="1176480" y="4373640"/>
              <a:chExt cx="604800" cy="287280"/>
            </a:xfrm>
          </p:grpSpPr>
          <p:sp>
            <p:nvSpPr>
              <p:cNvPr id="87" name=""/>
              <p:cNvSpPr/>
              <p:nvPr/>
            </p:nvSpPr>
            <p:spPr>
              <a:xfrm>
                <a:off x="1176480" y="4373640"/>
                <a:ext cx="604800" cy="28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03840" y="4413960"/>
                <a:ext cx="239400" cy="219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00120" y="4410360"/>
                <a:ext cx="239400" cy="219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455840" y="2714760"/>
              <a:ext cx="287280" cy="604800"/>
              <a:chOff x="1455840" y="2714760"/>
              <a:chExt cx="287280" cy="604800"/>
            </a:xfrm>
          </p:grpSpPr>
          <p:sp>
            <p:nvSpPr>
              <p:cNvPr id="91" name=""/>
              <p:cNvSpPr/>
              <p:nvPr/>
            </p:nvSpPr>
            <p:spPr>
              <a:xfrm rot="16200000">
                <a:off x="1297080" y="2873520"/>
                <a:ext cx="604800" cy="28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6200000">
                <a:off x="1486080" y="3062520"/>
                <a:ext cx="239400" cy="219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6200000">
                <a:off x="1482480" y="2766240"/>
                <a:ext cx="239400" cy="219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706920" y="4376880"/>
              <a:ext cx="287280" cy="604800"/>
              <a:chOff x="3706920" y="4376880"/>
              <a:chExt cx="287280" cy="604800"/>
            </a:xfrm>
          </p:grpSpPr>
          <p:sp>
            <p:nvSpPr>
              <p:cNvPr id="95" name=""/>
              <p:cNvSpPr/>
              <p:nvPr/>
            </p:nvSpPr>
            <p:spPr>
              <a:xfrm rot="16200000">
                <a:off x="3548160" y="4535640"/>
                <a:ext cx="604800" cy="28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3737160" y="4724640"/>
                <a:ext cx="239400" cy="219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3733560" y="4428360"/>
                <a:ext cx="239400" cy="219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114640" y="2844720"/>
              <a:ext cx="13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jor r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880" y="3503520"/>
              <a:ext cx="13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or r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032000" y="3606840"/>
              <a:ext cx="79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39440" y="4113360"/>
              <a:ext cx="70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11400" y="275436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17760" y="44053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87520" y="3857760"/>
              <a:ext cx="108000" cy="3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67120" y="3409920"/>
              <a:ext cx="108000" cy="39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50160" y="3922560"/>
              <a:ext cx="7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n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3F8-4033-4FCD-9845-F7D0599613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thods to Synthesize Bu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ersion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ultiplex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p0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, a, b, c, d, 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00001" =&gt; y &lt;= a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00010" =&gt; y &lt;= b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00100" =&gt; y &lt;= 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01000" =&gt; y &lt;= d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thers  =&gt; y &lt;= e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0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ersion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ersion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ultiplex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y &lt;=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(0)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'Z'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y &lt;= b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(1)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'Z'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y &lt;= 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(2)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'Z'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y &lt;= 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(3)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'Z'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y &lt;= 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(4)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'Z'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ersion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C56-36E0-487D-B8F4-55A8702E6B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Results with SinplifyPro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304920" y="60958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sion 1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83C-5665-4C52-A192-2DC3DB826D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Results with SinplifyPro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sion 2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304920" y="1814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19040" y="1623960"/>
            <a:ext cx="8382240" cy="4572000"/>
            <a:chOff x="419040" y="1623960"/>
            <a:chExt cx="8382240" cy="4572000"/>
          </a:xfrm>
        </p:grpSpPr>
        <p:pic>
          <p:nvPicPr>
            <p:cNvPr id="947" name="" descr=""/>
            <p:cNvPicPr/>
            <p:nvPr/>
          </p:nvPicPr>
          <p:blipFill>
            <a:blip r:embed="rId1"/>
            <a:stretch/>
          </p:blipFill>
          <p:spPr>
            <a:xfrm>
              <a:off x="419040" y="1623960"/>
              <a:ext cx="83822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 txBox="1"/>
            <p:nvPr/>
          </p:nvSpPr>
          <p:spPr>
            <a:xfrm>
              <a:off x="419040" y="1623960"/>
              <a:ext cx="8382240" cy="45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5743440" y="2712960"/>
            <a:ext cx="758880" cy="1538280"/>
          </a:xfrm>
          <a:custGeom>
            <a:avLst/>
            <a:gdLst/>
            <a:ahLst/>
            <a:rect l="l" t="t" r="r" b="b"/>
            <a:pathLst>
              <a:path w="478" h="969">
                <a:moveTo>
                  <a:pt x="240" y="0"/>
                </a:moveTo>
                <a:cubicBezTo>
                  <a:pt x="120" y="198"/>
                  <a:pt x="0" y="397"/>
                  <a:pt x="20" y="484"/>
                </a:cubicBezTo>
                <a:cubicBezTo>
                  <a:pt x="40" y="571"/>
                  <a:pt x="283" y="440"/>
                  <a:pt x="359" y="521"/>
                </a:cubicBezTo>
                <a:cubicBezTo>
                  <a:pt x="435" y="602"/>
                  <a:pt x="456" y="785"/>
                  <a:pt x="478" y="96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653800" y="4313160"/>
            <a:ext cx="24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hree–state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D72-B71D-4C88-A12A-A33F44B358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Results with Synopsy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5268960" y="890640"/>
            <a:ext cx="1828800" cy="533412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F4F-1730-4039-A4D0-2C8AE43DC4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: Package Declar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_def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oad, store, add, sub, bne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d_w: natural := 8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# of bits for bu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_w: natural := 3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# of bits for opcod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fill: std_ulogic_vector(op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: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(others =&gt; ‘0’)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padding for addr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two functions to do conversion between opcode bits of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std_ulogic_vector and opcode ty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v2op (slv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pcod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2slv (op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code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ulogic_vect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acka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_def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bod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_def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A18-C876-42D8-B0DB-BF4B3F1C2E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: Package Bod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6296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bod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_def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t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opcode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op_w – 1 downto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rans_table: opt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:= (“000”, “001”, “010”, “011”, “100”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p2slv (op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pcode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ulogic_vect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rans_table(op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p2slv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v2op (slv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p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v2o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ackage bod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_def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2C5-8280-4A1A-ADF6-6AAC8064BE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: Package Bod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42560" y="990360"/>
            <a:ext cx="8867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bod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pu_def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v2op (slv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opco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op: opcod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2000" spc="-1" strike="noStrike">
                <a:solidFill>
                  <a:srgbClr val="3333cc"/>
                </a:solidFill>
                <a:latin typeface="Courier New"/>
              </a:rPr>
              <a:t>this is how it should be done, but some synthesi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Courier New"/>
              </a:rPr>
              <a:t>  -- tools may not support i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pcod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v = trans_table(i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op := i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lv2op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ackage bod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pu_defs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224-7B21-4AA8-B209-281F2515AC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4560" y="997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: Package Bod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50080" cy="544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bod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_def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v2op (slv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p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op: opcod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this is a less elegant method;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-- if the definitions of the opcode and/or trans_table are</a:t>
            </a:r>
            <a:br>
              <a:rPr sz="1800"/>
            </a:b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    -- changed, then this code also has to be changed.</a:t>
            </a:r>
            <a:br>
              <a:rPr sz="1800"/>
            </a:b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    -- There is therefore potential for inconsistenc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v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00” =&gt; transop := loa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01” =&gt; transop := stor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10” =&gt; transop := add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011” =&gt; transop := sub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100” =&gt; transop := bne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o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v2o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ackage bod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_def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49C-EB79-4099-92F4-BECDB6EFC2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Entity Declar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cpu_def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roll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cod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_flag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status sig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_bus, load_ACC, PC_bus, load_PC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IR, load_MAR, MDR_bus, load_MD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ACC, ALU_add, ALU_sub, INC_PC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_bus, CS, R_NW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roll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roll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D41-0A14-4204-B4DA-6BE861E02E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Sequenti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roll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0, s1, s2, s3, s4, s5, s6, s7, s8, s9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sent_state, next_state: stat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q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sent_state &lt;= s0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ing_edge(clock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eset_state &lt;= next_stat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q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092-BEBA-492E-B0E8-D46A6778CA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ur Old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ffic light controller with a tim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82800" y="1898640"/>
            <a:ext cx="1560600" cy="1023840"/>
            <a:chOff x="2782800" y="1898640"/>
            <a:chExt cx="1560600" cy="1023840"/>
          </a:xfrm>
        </p:grpSpPr>
        <p:sp>
          <p:nvSpPr>
            <p:cNvPr id="110" name=""/>
            <p:cNvSpPr/>
            <p:nvPr/>
          </p:nvSpPr>
          <p:spPr>
            <a:xfrm>
              <a:off x="2819520" y="2254320"/>
              <a:ext cx="1523880" cy="668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ajor=Green</a:t>
              </a:r>
              <a:br>
                <a:rPr sz="1800"/>
              </a:b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minor=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82800" y="1898640"/>
              <a:ext cx="265320" cy="289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48120" y="2919240"/>
            <a:ext cx="1103040" cy="855720"/>
            <a:chOff x="3048120" y="2919240"/>
            <a:chExt cx="1103040" cy="855720"/>
          </a:xfrm>
        </p:grpSpPr>
        <p:sp>
          <p:nvSpPr>
            <p:cNvPr id="113" name=""/>
            <p:cNvSpPr/>
            <p:nvPr/>
          </p:nvSpPr>
          <p:spPr>
            <a:xfrm>
              <a:off x="3048120" y="3181320"/>
              <a:ext cx="11030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1280" y="291924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914560" y="3622680"/>
            <a:ext cx="1276560" cy="907920"/>
            <a:chOff x="2914560" y="3622680"/>
            <a:chExt cx="1276560" cy="907920"/>
          </a:xfrm>
        </p:grpSpPr>
        <p:sp>
          <p:nvSpPr>
            <p:cNvPr id="116" name=""/>
            <p:cNvSpPr/>
            <p:nvPr/>
          </p:nvSpPr>
          <p:spPr>
            <a:xfrm>
              <a:off x="3581280" y="37879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0000" y="3730680"/>
              <a:ext cx="7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5040" y="3990960"/>
              <a:ext cx="1216080" cy="5396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14560" y="3622680"/>
              <a:ext cx="265320" cy="289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685960" y="4530600"/>
            <a:ext cx="1505160" cy="1122480"/>
            <a:chOff x="2685960" y="4530600"/>
            <a:chExt cx="1505160" cy="1122480"/>
          </a:xfrm>
        </p:grpSpPr>
        <p:sp>
          <p:nvSpPr>
            <p:cNvPr id="121" name=""/>
            <p:cNvSpPr/>
            <p:nvPr/>
          </p:nvSpPr>
          <p:spPr>
            <a:xfrm>
              <a:off x="3581280" y="45306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81280" y="48974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5040" y="5113440"/>
              <a:ext cx="1216080" cy="5396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85960" y="4746600"/>
              <a:ext cx="677880" cy="309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s2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0" y="1858680"/>
            <a:ext cx="1295280" cy="4134240"/>
            <a:chOff x="2286000" y="1858680"/>
            <a:chExt cx="1295280" cy="4134240"/>
          </a:xfrm>
        </p:grpSpPr>
        <p:sp>
          <p:nvSpPr>
            <p:cNvPr id="126" name=""/>
            <p:cNvSpPr/>
            <p:nvPr/>
          </p:nvSpPr>
          <p:spPr>
            <a:xfrm>
              <a:off x="3581280" y="565308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286000" y="5992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286000" y="1858680"/>
              <a:ext cx="0" cy="41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18590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80920" y="1859040"/>
            <a:ext cx="1219680" cy="1611000"/>
            <a:chOff x="3580920" y="1859040"/>
            <a:chExt cx="1219680" cy="1611000"/>
          </a:xfrm>
        </p:grpSpPr>
        <p:sp>
          <p:nvSpPr>
            <p:cNvPr id="131" name=""/>
            <p:cNvSpPr/>
            <p:nvPr/>
          </p:nvSpPr>
          <p:spPr>
            <a:xfrm>
              <a:off x="3581280" y="185904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51160" y="346392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18856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580920" y="1859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05240" y="3181320"/>
              <a:ext cx="2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138640" y="1781280"/>
            <a:ext cx="31053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that the clock frequency is such that the timed interval is completed in 256 clock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 an abundance of st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s from s0 to s255 map to a simpl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can just separate the traffic light controller from the ti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992-9983-4411-8796-5BE3A9A19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4560" y="895320"/>
            <a:ext cx="8381880" cy="52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-- reset all the control signals to a defaul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_bus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load_ACC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PC_bus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load_PC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load_IR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load_MAR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MDR_bus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load_MDR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ALU_ACC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ALU_add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ALU_sub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INC_PC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Addr_bus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S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R_NW &lt;= 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..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C94-8FDA-4F4B-94F1-FDF28703D8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esent_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0 =&gt;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current inst address to be loaded in</a:t>
            </a:r>
            <a:br>
              <a:rPr sz="1800"/>
            </a:b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                    -- MAR, PC incremented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_bus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AR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_PC &lt;= ‘1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load_PC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1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BC7-1143-40FC-98EB-B7A6BEE601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resent_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1 =&gt;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memory is read, MDR contains the inst.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S &lt;= ‘1’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_NW &lt;= ‘1’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2 =&gt;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inst. transferred from MDR to I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DR_bus &lt;= ‘1’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ad_IR &lt;= ‘1’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3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7B0-2BCA-4AB8-AC27-7A361024CBB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esent_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3 =&gt;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direct address to be loaded in M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_bus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AR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 = sto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4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6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4AC-E3C9-4EAC-B808-7EDE30E5E81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esent_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4 =&gt;  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store (memory to be writt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_bus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DR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5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5 =&gt;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select memory to write it with MD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0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F50-4D0A-49AF-B692-360788E319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4560" y="847800"/>
            <a:ext cx="838188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resent_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6 =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S &lt;= '1'; R_NW &lt;= '1'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read the memory just in c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p =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7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p = b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_flag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9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tak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0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not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tak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ext_state &lt;= s8;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not a bran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447-2D0C-4545-9E02-080FB977ECA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esent_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7 =&gt;   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load instr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R_bus &lt;= ‘1’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ACC gets content of MDR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ACC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0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564-3F6D-4B51-A6F4-A6A565B520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resent_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8 =&gt; 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ALU ope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DR_bus &lt;= ‘1’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one operand from MD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U_ACC &lt;= ‘1’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the other from AC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p = ad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U_add &lt;= ‘1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p = sub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U_sub &lt;= ‘1’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state &lt;= s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8BE-408D-46E4-BB4D-2F99C691D4E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ler: 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present_state, op, z_flag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esent_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9 =&gt;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completing the branch instru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R_bus &lt;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PC &lt;= ‘1’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D60-4002-4F12-8714-1C366E5900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EEE.NUMERIC_STD  Packag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63604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Library    : This package shall be compiled into a library symbolicall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named IEE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Developers : IEEE DASC Synthesis Working Group, PAR 1076.3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Purpose    : This package defines numeric types and arithmetic function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for use with synthesis tools. Two numeric types are defined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    --&gt; UNSIGNED : represents unsigned number in vector for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    --&gt; SIGNED   : represents a signed number in vector for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The base element type is type STD_LOGIC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The leftmost bit is treated as the most significant bi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Signed numbers are represented in two's complement form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This package contains overloaded arithmetic operators on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the SIGNED and UNSIGNED types. The package also contai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useful type conversions func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If any argument to a function is a null array, a null array 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            : returned (exceptions, if any, are noted individually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20A-CC95-4C55-BF05-383F9222BC5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inked ASM Char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07560" y="1245960"/>
            <a:ext cx="2514960" cy="4426200"/>
            <a:chOff x="907560" y="1245960"/>
            <a:chExt cx="2514960" cy="4426200"/>
          </a:xfrm>
        </p:grpSpPr>
        <p:sp>
          <p:nvSpPr>
            <p:cNvPr id="139" name=""/>
            <p:cNvSpPr/>
            <p:nvPr/>
          </p:nvSpPr>
          <p:spPr>
            <a:xfrm>
              <a:off x="1441440" y="1641600"/>
              <a:ext cx="1523880" cy="668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major=Green</a:t>
              </a:r>
              <a:br>
                <a:rPr sz="1600"/>
              </a:b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minor=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5080" y="1285920"/>
              <a:ext cx="264960" cy="28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0040" y="2568600"/>
              <a:ext cx="110340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03560" y="230652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3560" y="31748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3560" y="12463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73440" y="285120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422520" y="127296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03560" y="12463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3120" y="3132000"/>
              <a:ext cx="7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96960" y="4325760"/>
              <a:ext cx="1216080" cy="54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74760" y="48625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36840" y="3009960"/>
              <a:ext cx="264960" cy="28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907560" y="538020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07920" y="1245960"/>
              <a:ext cx="0" cy="41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7920" y="12463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27520" y="2568600"/>
              <a:ext cx="29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25760" y="5078520"/>
              <a:ext cx="11030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2440" y="5064120"/>
              <a:ext cx="7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28800" y="5380200"/>
              <a:ext cx="6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97320" y="407196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177640" y="40719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33640" y="5099040"/>
              <a:ext cx="17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41600" y="3387600"/>
              <a:ext cx="1163520" cy="47808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89160" y="3865680"/>
              <a:ext cx="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41600" y="1242720"/>
            <a:ext cx="2514960" cy="4137480"/>
            <a:chOff x="5241600" y="1242720"/>
            <a:chExt cx="2514960" cy="4137480"/>
          </a:xfrm>
        </p:grpSpPr>
        <p:sp>
          <p:nvSpPr>
            <p:cNvPr id="165" name=""/>
            <p:cNvSpPr/>
            <p:nvPr/>
          </p:nvSpPr>
          <p:spPr>
            <a:xfrm>
              <a:off x="5775480" y="1638360"/>
              <a:ext cx="1523880" cy="668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8920" y="1297080"/>
              <a:ext cx="762120" cy="28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ID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4080" y="2565360"/>
              <a:ext cx="11030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37240" y="2303640"/>
              <a:ext cx="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37240" y="31719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37240" y="124308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07120" y="284796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756560" y="126972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536880" y="12430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46800" y="3129120"/>
              <a:ext cx="7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5040" y="4608360"/>
              <a:ext cx="1216080" cy="54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i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241600" y="5376600"/>
              <a:ext cx="12970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241960" y="1242720"/>
              <a:ext cx="0" cy="41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1960" y="1243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61200" y="2565360"/>
              <a:ext cx="29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04080" y="3387600"/>
              <a:ext cx="1215720" cy="54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37240" y="39369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39040" y="43927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39040" y="51483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15080" y="3046320"/>
              <a:ext cx="264960" cy="289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6480" y="4170240"/>
              <a:ext cx="677880" cy="309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s2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2805120" y="2857320"/>
            <a:ext cx="313992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728800" y="4865760"/>
            <a:ext cx="3216240" cy="44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38960" y="602280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 subroutin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7D0-5659-46E3-8F79-D90A0652E2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ALU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numeric_st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cpu_def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L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ACC_bus, load_ACC, ALU_ACC, ALU_add, ALU_sub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_flag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L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BF9-4ECB-4C0D-9816-0317430288A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ALU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: unsigned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ero: unsigned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:=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system_bus &lt;= std_ulogic_vector(acc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_bus = ‘1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Z’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_flag &lt;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 = zer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0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844-F4BD-49FA-972F-9BFA33642D4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ALU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30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 &lt;=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ing_edge(clock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ACC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add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 &lt;= acc + unsigned(system_bus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sub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 &lt;= acc - unsigned(system_bus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ACC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 &lt;= unsigned(system_bus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B67-1244-4245-94D4-902AA7E23ED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PC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numeric_st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cpu_def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PC_bus, load_PC, INC_PC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5B3-F785-4836-B2DA-59AA03834D1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PC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5680" y="990720"/>
            <a:ext cx="8940960" cy="52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: unsigned (word_w – op_w –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 &lt;= refill &amp; std_ulogic_vector(cou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C_bus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Z’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&lt;=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ing_edge(clock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PC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_PC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 &lt;= count + 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count &lt;= unsigned(system_bus(word_w-op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50D-3EC9-4B56-98CC-E5954A6F0F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I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cpu_def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Addr_bus, load_IR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code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23C-F05C-46D9-A0AD-5A49C8B92FF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I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_reg: std_ulogic_vector(word_w –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 &lt;= refill &amp; instr_reg(word_w-op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_bus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Z’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p &lt;= slv2op(instr_reg(word_w –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_w – op_w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_reg &lt;=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ing_edge(clock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IR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_reg &lt;= system_bus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A3C-EA7A-425E-B988-EE942287D18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59284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numeric_st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cpu_def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A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MDR_bus, load_MDR, load_MAR, CS, R_NW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AM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FB0-3441-42C0-A41F-637D863F0CF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r: std_u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r: std_ulogic_vector(word_w – op_w 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 &lt;= md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R_bus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Z’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_arr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**(word_w-op_w-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: mem_array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BAB-89C1-4701-8250-97CB4717200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_arra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**(word_w-op_w-1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: mem_array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: mem_array := 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0 =&gt; op2slv(load)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std_ulogic_vector(to_unsigned(4, word_w - op_w)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=&gt; op2slv(add)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std_ulogic_vector(to_unsigned(5, word_w - op_w)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=&gt; op2slv(store)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std_ulogic_vector(to_unsigned(6, word_w-op_w)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 =&gt; op2slv(bne)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std_ulogic_vector(to_unsigned(7, word_w-op_w)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=&gt; std_ulogic_vector(to_unsigned(2, word_w)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 =&gt; std_ulogic_vector(to_unsigned(3, word_w))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&gt;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&gt; ‘0’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C83-60A4-43BA-B0B7-97CAF516538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ternative Linked ASM Ch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07560" y="1245960"/>
            <a:ext cx="2514960" cy="3853080"/>
            <a:chOff x="907560" y="1245960"/>
            <a:chExt cx="2514960" cy="3853080"/>
          </a:xfrm>
        </p:grpSpPr>
        <p:sp>
          <p:nvSpPr>
            <p:cNvPr id="191" name=""/>
            <p:cNvSpPr/>
            <p:nvPr/>
          </p:nvSpPr>
          <p:spPr>
            <a:xfrm>
              <a:off x="1405080" y="1285920"/>
              <a:ext cx="264960" cy="28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0040" y="2568600"/>
              <a:ext cx="110340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03560" y="218124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3174840"/>
              <a:ext cx="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3560" y="12463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73440" y="285120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422520" y="127296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03560" y="12463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13120" y="3132000"/>
              <a:ext cx="7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25760" y="3587760"/>
              <a:ext cx="1215720" cy="5396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3560" y="412740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36840" y="3243240"/>
              <a:ext cx="264960" cy="289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07560" y="47991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907920" y="1245960"/>
              <a:ext cx="0" cy="35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7920" y="12463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27520" y="2568600"/>
              <a:ext cx="29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5640" y="4505400"/>
              <a:ext cx="110340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0600" y="4505400"/>
              <a:ext cx="7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73440" y="479916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397320" y="3387240"/>
              <a:ext cx="0" cy="14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11600" y="4505400"/>
              <a:ext cx="177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95520" y="1641600"/>
              <a:ext cx="1216080" cy="5396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203560" y="3387600"/>
              <a:ext cx="11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239800" y="828720"/>
            <a:ext cx="2516760" cy="5690880"/>
            <a:chOff x="5239800" y="828720"/>
            <a:chExt cx="2516760" cy="5690880"/>
          </a:xfrm>
        </p:grpSpPr>
        <p:sp>
          <p:nvSpPr>
            <p:cNvPr id="215" name=""/>
            <p:cNvSpPr/>
            <p:nvPr/>
          </p:nvSpPr>
          <p:spPr>
            <a:xfrm>
              <a:off x="5775480" y="1224000"/>
              <a:ext cx="1523880" cy="668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98920" y="882720"/>
              <a:ext cx="762120" cy="288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ID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080" y="2151000"/>
              <a:ext cx="11030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37240" y="1889280"/>
              <a:ext cx="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37240" y="27576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37240" y="8287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07120" y="243360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756560" y="85536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536880" y="828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46800" y="2714760"/>
              <a:ext cx="7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5040" y="4194000"/>
              <a:ext cx="1216080" cy="54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tim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239800" y="6516360"/>
              <a:ext cx="12970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241960" y="828720"/>
              <a:ext cx="0" cy="56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41960" y="828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61200" y="2151000"/>
              <a:ext cx="29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04080" y="2973240"/>
              <a:ext cx="1215720" cy="540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37240" y="35226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39040" y="3978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39040" y="473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15080" y="2631960"/>
              <a:ext cx="264960" cy="289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86480" y="3755880"/>
              <a:ext cx="677880" cy="3096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s2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85000" y="4965840"/>
              <a:ext cx="1103040" cy="59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85000" y="5789520"/>
              <a:ext cx="1163520" cy="478080"/>
            </a:xfrm>
            <a:prstGeom prst="flowChartAlternateProcess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tim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39040" y="555948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39040" y="6267600"/>
              <a:ext cx="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08640" y="5559480"/>
              <a:ext cx="7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78680" y="527040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56560" y="4065120"/>
              <a:ext cx="0" cy="12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539040" y="4065480"/>
              <a:ext cx="12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99360" y="4992840"/>
              <a:ext cx="29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927520" y="2439720"/>
            <a:ext cx="3017520" cy="2830680"/>
            <a:chOff x="2927520" y="2439720"/>
            <a:chExt cx="3017520" cy="2830680"/>
          </a:xfrm>
        </p:grpSpPr>
        <p:sp>
          <p:nvSpPr>
            <p:cNvPr id="246" name=""/>
            <p:cNvSpPr/>
            <p:nvPr/>
          </p:nvSpPr>
          <p:spPr>
            <a:xfrm flipV="1">
              <a:off x="2927520" y="2439720"/>
              <a:ext cx="3017520" cy="131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7520" y="3978360"/>
              <a:ext cx="2887560" cy="129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H="1" flipV="1">
            <a:off x="2759040" y="4965480"/>
            <a:ext cx="3186000" cy="10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97600" y="599436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ventional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CFD-4DE4-42A9-87BC-CD136D8BB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r &lt;=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r &lt;=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‘0’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 &lt;= prog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ing_edge(clock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end if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D87-8C86-4542-BC33-5C57DD67DDB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 Design: 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ing_edge(clock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AR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r &lt;= unsigned(system_bus(word_w-op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DR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r &lt;= system_bu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_N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dr &lt;= mem(to_integer(mar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m(to_integer(mar)) := md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end if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t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550-214C-4BD3-9BDE-9ABDD1C28CA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utting Everything Togeth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uctural Mode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nents can be put together by instantiating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bus must be resolved at this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ust be declared with th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logic_ve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bus is chosen to be treated as a port; it could have been a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conversion during instanti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port is an input (mo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&gt; to_bit(y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095-A838-4691-8582-EC149CDB487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utting Everything Togeth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conversion during instant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port is an output (mo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_std_ulogic(x) =&gt; 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y means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onverted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 being assigned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port is bidirectional (mo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_std_ulogic(x) =&gt; to_bit(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F44-8BDD-44FE-B6D7-850C5F70DC1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PU: Entit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cpu_def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300-3CA6-4368-9A6C-BD6ADDD9AAE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PU: Archite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PU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roll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p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pcod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_flag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_bus, load_ACC, PC_bus, load_PC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ad_IR, load_MAR, MDR_bus, load_MDR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U_ACC, ALU_add, ALU_sub, INC_PC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r_bus, CS, R_NW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roll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Addr_bus, load_I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_bu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p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pcod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PU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59A-2517-44C0-85F9-F7CB7D83ED8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PU: Archite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6296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PC_bus, load_PC, INC_PC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MDR_bus, load_MDR, load_MAR, CS, R_NW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AM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235-B8AA-4BFD-957D-AE58328CED7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PU: Archite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2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PU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LU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ACC_bus, load_ACC, ALU_ACC, ALU_add, ALU_sub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_bu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_vector(word_w-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_flag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LU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_bus, load_ACC, PC_bus, load_PC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load_IR, load_MAR, MDR,bus, load_MD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ALU_ACC, ALU_add, ALU_sub, INC_PC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Addr_bus, CS, R_NW: std_u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_flag: std_u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p: opcode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PU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D78-E4CF-4B21-BD3F-54946307281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PU: Archite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NTRL1: controll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 =&gt; clock, reset =&gt; reset, op =&gt; op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_flag =&gt; z_flag, ACC_bus =&gt; ACC_bus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ACC =&gt; load_ACC, PC_bus =&gt; PC_bus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PC =&gt; load_PC, load_IR =&gt; load_IR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AR =&gt; load_MAR, MDR_bus =&gt; MDR_bus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DR =&gt; load_MDR, ALU_ACC =&gt; ALU_ACC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add =&gt; ALU_add, ALU_sub =&gt; ALU_sub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C_PC =&gt; INC_PC, Addr_bus =&gt; Addr_bus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 =&gt; CS, R_NW =&gt; R_NW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1ED-48C7-456B-A047-3F7B77D581C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PU: Archite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1: I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 =&gt; clock, reset =&gt; reset, Addr_bus =&gt; Addr_bus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IR =&gt; load_IR, op =&gt; op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system_bus) =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td_ulogic_vector(system_bus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P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 =&gt; clock, reset =&gt; reset, PC_bus =&gt; PC_bus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PC =&gt; load_PC, INC_PC =&gt; INC_PC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system_bus) =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td_ulogic_vector(system_bus));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71B-C407-459D-8B13-3DE39669D90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/Controller Partition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ur previous example, the ASM chart in the right hand side is a simple 8-bit cou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ould be more efficient to use an existing 8-bit controller instead of designing it using our ASM cha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ing counter may correspond to an existing hardware or a VHDL mod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it is convenient to think of a sequential system in terms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atapa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ose components that have been previously designed (or can be adapt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troll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ich is a design-specific state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2B9-E2EC-4D22-8C08-CAD2F3538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PU: Architectur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1: AL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 =&gt; clock, reset =&gt; reset, ACC_bus =&gt; ACC_bus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ACC =&gt; load_ACC, ALU_add =&gt; ALU_Add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U_sub =&gt; ALU_sub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system_bus) =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td_ulogic_vector(system_bus)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_flag =&gt; z_flag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1: RA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 =&gt; clock, reset =&gt; reset, MDR_bus =&gt; MDR_bus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_MDR =&gt; load_MDR, load_MAR =&gt; load_MA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 =&gt; CS, R_NW =&gt; R_NW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system_bus) =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td_ulogic_vector(system_bus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937-3140-4B75-82F7-DCFE90E2330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imple Testbenc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k.cpu_defs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_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b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st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b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670-4466-470A-8E95-59ECBD6F504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Simple Testbenc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b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st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ystem_bu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word_w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, reset: std_ulogic := ’0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_bus: std_logic_vector(word_w –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1: 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m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clock, reset, system_bus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&lt;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ns,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n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b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D06-9958-49F1-9B9F-16DC9AFBA1A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figuration Uni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14480" y="990360"/>
            <a:ext cx="891216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app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st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1: 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cpu(top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NTRL1: Controll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controller(rt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1: I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k.ir(rtl)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P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k.pc(rtl)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1: AL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k.alu(rtl)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1: RA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k.ram(rtl)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onfigura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ping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1C7-C79A-46DD-81D2-258B721FB5F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/Controller Partition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3" name=""/>
          <p:cNvSpPr/>
          <p:nvPr/>
        </p:nvSpPr>
        <p:spPr>
          <a:xfrm>
            <a:off x="1001880" y="2757600"/>
            <a:ext cx="1800000" cy="166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87880" y="2757600"/>
            <a:ext cx="1800360" cy="1668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801880" y="2576520"/>
            <a:ext cx="3186000" cy="426960"/>
            <a:chOff x="2801880" y="2576520"/>
            <a:chExt cx="3186000" cy="426960"/>
          </a:xfrm>
        </p:grpSpPr>
        <p:sp>
          <p:nvSpPr>
            <p:cNvPr id="256" name=""/>
            <p:cNvSpPr/>
            <p:nvPr/>
          </p:nvSpPr>
          <p:spPr>
            <a:xfrm>
              <a:off x="2801880" y="300348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40880" y="257652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trol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801880" y="3710160"/>
            <a:ext cx="3186000" cy="398880"/>
            <a:chOff x="2801880" y="3710160"/>
            <a:chExt cx="3186000" cy="398880"/>
          </a:xfrm>
        </p:grpSpPr>
        <p:sp>
          <p:nvSpPr>
            <p:cNvPr id="259" name=""/>
            <p:cNvSpPr/>
            <p:nvPr/>
          </p:nvSpPr>
          <p:spPr>
            <a:xfrm flipH="1">
              <a:off x="2801880" y="4106880"/>
              <a:ext cx="31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43840" y="3710160"/>
              <a:ext cx="184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tus Sign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68080" y="1403280"/>
            <a:ext cx="1881360" cy="1354320"/>
            <a:chOff x="5968080" y="1403280"/>
            <a:chExt cx="1881360" cy="1354320"/>
          </a:xfrm>
        </p:grpSpPr>
        <p:sp>
          <p:nvSpPr>
            <p:cNvPr id="262" name=""/>
            <p:cNvSpPr/>
            <p:nvPr/>
          </p:nvSpPr>
          <p:spPr>
            <a:xfrm>
              <a:off x="6908760" y="1800360"/>
              <a:ext cx="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68080" y="140328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ystem Inpu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865840" y="4425840"/>
            <a:ext cx="2084040" cy="1356120"/>
            <a:chOff x="5865840" y="4425840"/>
            <a:chExt cx="2084040" cy="1356120"/>
          </a:xfrm>
        </p:grpSpPr>
        <p:sp>
          <p:nvSpPr>
            <p:cNvPr id="265" name=""/>
            <p:cNvSpPr/>
            <p:nvPr/>
          </p:nvSpPr>
          <p:spPr>
            <a:xfrm>
              <a:off x="5865840" y="5383080"/>
              <a:ext cx="208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ystem Outpu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08760" y="4425840"/>
              <a:ext cx="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1200" y="4425840"/>
            <a:ext cx="6179400" cy="552960"/>
            <a:chOff x="61200" y="4425840"/>
            <a:chExt cx="6179400" cy="552960"/>
          </a:xfrm>
        </p:grpSpPr>
        <p:sp>
          <p:nvSpPr>
            <p:cNvPr id="268" name=""/>
            <p:cNvSpPr/>
            <p:nvPr/>
          </p:nvSpPr>
          <p:spPr>
            <a:xfrm>
              <a:off x="304920" y="4976640"/>
              <a:ext cx="593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240600" y="442584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785960" y="442584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200" y="4579920"/>
              <a:ext cx="151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ock, re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F10-0EF6-4E62-9A2E-019E164C73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path/Controller Partition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3" name=""/>
          <p:cNvSpPr/>
          <p:nvPr/>
        </p:nvSpPr>
        <p:spPr>
          <a:xfrm>
            <a:off x="1405080" y="1285920"/>
            <a:ext cx="264960" cy="28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0040" y="2568600"/>
            <a:ext cx="110340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3560" y="218124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3560" y="317484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3560" y="124632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73440" y="28512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422520" y="12729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203560" y="1246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13120" y="3132000"/>
            <a:ext cx="7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25760" y="3587760"/>
            <a:ext cx="1215720" cy="5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3560" y="4127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36840" y="3243240"/>
            <a:ext cx="264960" cy="289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07560" y="479916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907920" y="1245960"/>
            <a:ext cx="0" cy="35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7920" y="1246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27520" y="2568600"/>
            <a:ext cx="29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55640" y="4505400"/>
            <a:ext cx="110340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0600" y="4505400"/>
            <a:ext cx="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73440" y="479916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397320" y="3387240"/>
            <a:ext cx="0" cy="14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1600" y="4505400"/>
            <a:ext cx="17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75480" y="1224000"/>
            <a:ext cx="1523880" cy="6681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8920" y="882720"/>
            <a:ext cx="762120" cy="288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04080" y="2151000"/>
            <a:ext cx="110304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37240" y="188928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7240" y="27576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37240" y="82872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07120" y="24336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756560" y="855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36880" y="828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46800" y="2714760"/>
            <a:ext cx="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45040" y="4194000"/>
            <a:ext cx="1216080" cy="540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i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5239800" y="6516360"/>
            <a:ext cx="12970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241960" y="82872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41960" y="828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61200" y="2151000"/>
            <a:ext cx="29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04080" y="2973240"/>
            <a:ext cx="1215720" cy="540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37240" y="352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39040" y="3978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39040" y="473400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15080" y="2631960"/>
            <a:ext cx="264960" cy="289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86480" y="3755880"/>
            <a:ext cx="677880" cy="309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95520" y="1641600"/>
            <a:ext cx="1216080" cy="5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203560" y="338760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85000" y="4965840"/>
            <a:ext cx="1103040" cy="59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85000" y="5789520"/>
            <a:ext cx="1163520" cy="478080"/>
          </a:xfrm>
          <a:prstGeom prst="flowChartAlternateProcess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i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39040" y="555948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39040" y="6267600"/>
            <a:ext cx="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08640" y="5559480"/>
            <a:ext cx="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78680" y="527040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756560" y="4065120"/>
            <a:ext cx="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539040" y="4065480"/>
            <a:ext cx="12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99360" y="4992840"/>
            <a:ext cx="29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927520" y="2439720"/>
            <a:ext cx="3017520" cy="131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27520" y="3978360"/>
            <a:ext cx="2887560" cy="1292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2759040" y="4965480"/>
            <a:ext cx="3186000" cy="10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64760" y="52704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92160" y="5651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59A-3161-4F47-8E34-7BEE546828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4-01-01T17:03:14Z</dcterms:modified>
  <cp:revision>5673</cp:revision>
  <dc:subject/>
  <dc:title>PowerPoint Presentation</dc:title>
</cp:coreProperties>
</file>