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0FF-1A7A-40AF-B8B9-42BB8A85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67E-1F0D-436E-9896-69DC8088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B32-5C03-436A-ADC4-9450EDBF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188-F3FA-470D-9048-7E52C4CE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90D-BC3F-4666-90DA-E97A836F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BC4-644B-414E-A891-918EE108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52C-B77B-4DD9-981C-C35308F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381-DD1E-4DFF-B7F6-75A5350F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0C2-A690-408F-9FFC-2E06BC02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F9B-B3AB-4778-B856-FA24345D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D18-EAC7-48A2-9E69-08DD879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0D8-1A29-4993-88AC-A72826EB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633-60E6-4961-97CC-D33526C0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signing  Multiplier   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3E6-3852-4B9A-9767-44D261F745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ultiplier with Coun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size of the operands are large, the previous approach does not 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917800" y="2306520"/>
            <a:ext cx="1684440" cy="1320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dd-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60640" y="4309920"/>
            <a:ext cx="1625760" cy="5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759120" y="359856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0440" y="342576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95880" y="3459240"/>
            <a:ext cx="0" cy="10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86040" y="4498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9800" y="3365640"/>
            <a:ext cx="88920" cy="12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02240" y="313992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02240" y="2838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02240" y="253224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07680" y="32608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2680" y="29559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56560" y="2654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760" y="22874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1880" y="3784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20840" y="265428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20840" y="332280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12520" y="2470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13600" y="3139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51160" y="4021200"/>
            <a:ext cx="1306800" cy="1754280"/>
          </a:xfrm>
          <a:custGeom>
            <a:avLst/>
            <a:gdLst/>
            <a:ahLst/>
            <a:rect l="l" t="t" r="r" b="b"/>
            <a:pathLst>
              <a:path w="823" h="1105">
                <a:moveTo>
                  <a:pt x="0" y="0"/>
                </a:moveTo>
                <a:cubicBezTo>
                  <a:pt x="181" y="34"/>
                  <a:pt x="363" y="68"/>
                  <a:pt x="457" y="228"/>
                </a:cubicBezTo>
                <a:cubicBezTo>
                  <a:pt x="551" y="388"/>
                  <a:pt x="506" y="815"/>
                  <a:pt x="567" y="960"/>
                </a:cubicBezTo>
                <a:cubicBezTo>
                  <a:pt x="628" y="1105"/>
                  <a:pt x="725" y="1101"/>
                  <a:pt x="823" y="109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88480" y="556884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ompletion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4AD-7D76-406A-96DC-A6E6CA400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ate Diagram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8" name=""/>
          <p:cNvSpPr/>
          <p:nvPr/>
        </p:nvSpPr>
        <p:spPr>
          <a:xfrm>
            <a:off x="2055960" y="2181240"/>
            <a:ext cx="59508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83200" y="2173320"/>
            <a:ext cx="59544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83200" y="4322880"/>
            <a:ext cx="595440" cy="522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8520" y="1590840"/>
            <a:ext cx="633600" cy="644400"/>
          </a:xfrm>
          <a:custGeom>
            <a:avLst/>
            <a:gdLst/>
            <a:ahLst/>
            <a:rect l="l" t="t" r="r" b="b"/>
            <a:pathLst>
              <a:path w="399" h="406">
                <a:moveTo>
                  <a:pt x="14" y="370"/>
                </a:moveTo>
                <a:cubicBezTo>
                  <a:pt x="7" y="225"/>
                  <a:pt x="0" y="80"/>
                  <a:pt x="59" y="40"/>
                </a:cubicBezTo>
                <a:cubicBezTo>
                  <a:pt x="118" y="0"/>
                  <a:pt x="341" y="71"/>
                  <a:pt x="370" y="132"/>
                </a:cubicBezTo>
                <a:cubicBezTo>
                  <a:pt x="399" y="193"/>
                  <a:pt x="256" y="360"/>
                  <a:pt x="233" y="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1546000">
            <a:off x="3499200" y="2163600"/>
            <a:ext cx="95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/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5960" y="4321080"/>
            <a:ext cx="59508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66680" y="13161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’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1040" y="2438280"/>
            <a:ext cx="243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3280" y="1604880"/>
            <a:ext cx="633240" cy="644760"/>
          </a:xfrm>
          <a:custGeom>
            <a:avLst/>
            <a:gdLst/>
            <a:ahLst/>
            <a:rect l="l" t="t" r="r" b="b"/>
            <a:pathLst>
              <a:path w="399" h="406">
                <a:moveTo>
                  <a:pt x="14" y="370"/>
                </a:moveTo>
                <a:cubicBezTo>
                  <a:pt x="7" y="225"/>
                  <a:pt x="0" y="80"/>
                  <a:pt x="59" y="40"/>
                </a:cubicBezTo>
                <a:cubicBezTo>
                  <a:pt x="118" y="0"/>
                  <a:pt x="341" y="71"/>
                  <a:pt x="370" y="132"/>
                </a:cubicBezTo>
                <a:cubicBezTo>
                  <a:pt x="399" y="193"/>
                  <a:pt x="256" y="360"/>
                  <a:pt x="233" y="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99520" y="131616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’M’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87920" y="2612880"/>
            <a:ext cx="409680" cy="1784520"/>
          </a:xfrm>
          <a:custGeom>
            <a:avLst/>
            <a:gdLst/>
            <a:ahLst/>
            <a:rect l="l" t="t" r="r" b="b"/>
            <a:pathLst>
              <a:path w="258" h="1124">
                <a:moveTo>
                  <a:pt x="0" y="0"/>
                </a:moveTo>
                <a:cubicBezTo>
                  <a:pt x="127" y="148"/>
                  <a:pt x="254" y="297"/>
                  <a:pt x="256" y="484"/>
                </a:cubicBezTo>
                <a:cubicBezTo>
                  <a:pt x="258" y="671"/>
                  <a:pt x="133" y="897"/>
                  <a:pt x="9" y="1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07040" y="33116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/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84840" y="2655720"/>
            <a:ext cx="339480" cy="1713240"/>
          </a:xfrm>
          <a:custGeom>
            <a:avLst/>
            <a:gdLst/>
            <a:ahLst/>
            <a:rect l="l" t="t" r="r" b="b"/>
            <a:pathLst>
              <a:path w="214" h="1079">
                <a:moveTo>
                  <a:pt x="214" y="1079"/>
                </a:moveTo>
                <a:cubicBezTo>
                  <a:pt x="111" y="872"/>
                  <a:pt x="8" y="665"/>
                  <a:pt x="4" y="485"/>
                </a:cubicBezTo>
                <a:cubicBezTo>
                  <a:pt x="0" y="305"/>
                  <a:pt x="93" y="152"/>
                  <a:pt x="1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06680" y="374652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’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540160" y="2612880"/>
            <a:ext cx="2543040" cy="17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670120" y="4600440"/>
            <a:ext cx="24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27720" y="469728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336760" y="2684160"/>
            <a:ext cx="0" cy="164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16960" y="33177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/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0920" y="315756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M’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486-799E-4918-AD07-6D55DA0DBB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peration of the Count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20760" y="1019160"/>
          <a:ext cx="8373960" cy="4334040"/>
        </p:xfrm>
        <a:graphic>
          <a:graphicData uri="http://schemas.openxmlformats.org/drawingml/2006/table">
            <a:tbl>
              <a:tblPr/>
              <a:tblGrid>
                <a:gridCol w="753840"/>
                <a:gridCol w="768600"/>
                <a:gridCol w="1015920"/>
                <a:gridCol w="1466640"/>
                <a:gridCol w="478080"/>
                <a:gridCol w="479520"/>
                <a:gridCol w="449280"/>
                <a:gridCol w="679320"/>
                <a:gridCol w="760320"/>
                <a:gridCol w="762120"/>
                <a:gridCol w="76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 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101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11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01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1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0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1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C62-0F9A-4D24-B6E1-7E4593986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inary Multipli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5920" y="946080"/>
          <a:ext cx="7974000" cy="406872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520"/>
                <a:gridCol w="677880"/>
                <a:gridCol w="676440"/>
                <a:gridCol w="25560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ica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i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al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al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l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(1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48720" y="53802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e of shift-and-ad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467-8F32-4C29-8570-1DD955AA0D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rial-Parallel Binary Multipli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7" name=""/>
          <p:cNvSpPr/>
          <p:nvPr/>
        </p:nvSpPr>
        <p:spPr>
          <a:xfrm>
            <a:off x="3637080" y="1762200"/>
            <a:ext cx="53640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73480" y="1762200"/>
            <a:ext cx="53676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0240" y="1762200"/>
            <a:ext cx="53640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46640" y="1762200"/>
            <a:ext cx="53676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83400" y="1762200"/>
            <a:ext cx="53640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9800" y="1762200"/>
            <a:ext cx="53676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6560" y="1762200"/>
            <a:ext cx="53640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2960" y="1762200"/>
            <a:ext cx="53676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8480" y="1762200"/>
            <a:ext cx="754200" cy="2998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52680" y="1905120"/>
            <a:ext cx="208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2680" y="2160720"/>
            <a:ext cx="208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52680" y="2441520"/>
            <a:ext cx="208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73480" y="3672000"/>
            <a:ext cx="2146320" cy="755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-bit 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7364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592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952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180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4032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9260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6268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4960" y="2655720"/>
            <a:ext cx="0" cy="101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33720" y="4106880"/>
            <a:ext cx="23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33720" y="2655360"/>
            <a:ext cx="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32600" y="41068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9720" y="1762200"/>
            <a:ext cx="536400" cy="89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575400" y="265536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105680" y="2641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642080" y="2641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94680" y="265536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7260120" y="2449800"/>
            <a:ext cx="249480" cy="1619280"/>
          </a:xfrm>
          <a:custGeom>
            <a:avLst/>
            <a:gdLst>
              <a:gd name="textAreaLeft" fmla="*/ 159480 w 249480"/>
              <a:gd name="textAreaRight" fmla="*/ 249840 w 24948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6000" y="342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87760" y="44100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18040" y="44100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554800" y="441000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107040" y="43959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5172840" y="4118760"/>
            <a:ext cx="249120" cy="1619280"/>
          </a:xfrm>
          <a:custGeom>
            <a:avLst/>
            <a:gdLst>
              <a:gd name="textAreaLeft" fmla="*/ 159120 w 249120"/>
              <a:gd name="textAreaRight" fmla="*/ 249480 w 24912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50760" y="502596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ic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6011280" y="-1057320"/>
            <a:ext cx="101880" cy="4807080"/>
          </a:xfrm>
          <a:custGeom>
            <a:avLst/>
            <a:gdLst>
              <a:gd name="textAreaLeft" fmla="*/ 65160 w 101880"/>
              <a:gd name="textAreaRight" fmla="*/ 102240 w 101880"/>
              <a:gd name="textAreaTop" fmla="*/ 125280 h 4807080"/>
              <a:gd name="textAreaBottom" fmla="*/ 4681800 h 480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0920" y="830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( and) partial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37600" y="2655720"/>
            <a:ext cx="0" cy="317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930320" y="5834160"/>
            <a:ext cx="64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930320" y="4427280"/>
            <a:ext cx="0" cy="14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52320" y="4410000"/>
            <a:ext cx="37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8680" y="40575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120" y="139536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563480" y="3672000"/>
            <a:ext cx="54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52680" y="31352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65440" y="3305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3680" y="276876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46160" y="1538280"/>
            <a:ext cx="46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23840" y="1933560"/>
            <a:ext cx="4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27440" y="2176560"/>
            <a:ext cx="40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6480" y="4761000"/>
            <a:ext cx="0" cy="13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76480" y="5392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05280" y="2569680"/>
            <a:ext cx="0" cy="282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05280" y="2570040"/>
            <a:ext cx="65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6840" y="6110280"/>
            <a:ext cx="54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18320" y="18223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47160" y="18050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83560" y="17985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10600" y="18194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18560" y="18050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77280" y="18129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15480" y="18273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37840" y="18399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79280" y="17985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2D0-F0BB-4CEA-8349-F85B9F82A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rial-Parallel Binary Multipli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97160"/>
          <a:ext cx="8381880" cy="4876560"/>
        </p:xfrm>
        <a:graphic>
          <a:graphicData uri="http://schemas.openxmlformats.org/drawingml/2006/table">
            <a:tbl>
              <a:tblPr/>
              <a:tblGrid>
                <a:gridCol w="3367080"/>
                <a:gridCol w="434880"/>
                <a:gridCol w="406440"/>
                <a:gridCol w="436680"/>
                <a:gridCol w="434880"/>
                <a:gridCol w="434880"/>
                <a:gridCol w="420840"/>
                <a:gridCol w="450720"/>
                <a:gridCol w="361800"/>
                <a:gridCol w="451080"/>
                <a:gridCol w="11826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itial content of product re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 since ACC(0)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 since ACC(0)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kip addition since ACC(0)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 since ACC(0)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E67-2BA1-44EA-975D-C3303E9C0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trol Circui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6" name=""/>
          <p:cNvSpPr/>
          <p:nvPr/>
        </p:nvSpPr>
        <p:spPr>
          <a:xfrm>
            <a:off x="5162400" y="1585800"/>
            <a:ext cx="59544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69160" y="2246400"/>
            <a:ext cx="59544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97960" y="3494160"/>
            <a:ext cx="59508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62400" y="5367240"/>
            <a:ext cx="59544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0" y="2255760"/>
            <a:ext cx="59544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0560" y="3494160"/>
            <a:ext cx="59508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6000" y="4854600"/>
            <a:ext cx="59544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9760" y="1585800"/>
            <a:ext cx="59508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9760" y="5367240"/>
            <a:ext cx="59508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05320" y="995400"/>
            <a:ext cx="633600" cy="644400"/>
          </a:xfrm>
          <a:custGeom>
            <a:avLst/>
            <a:gdLst/>
            <a:ahLst/>
            <a:rect l="l" t="t" r="r" b="b"/>
            <a:pathLst>
              <a:path w="399" h="406">
                <a:moveTo>
                  <a:pt x="14" y="370"/>
                </a:moveTo>
                <a:cubicBezTo>
                  <a:pt x="7" y="225"/>
                  <a:pt x="0" y="80"/>
                  <a:pt x="59" y="40"/>
                </a:cubicBezTo>
                <a:cubicBezTo>
                  <a:pt x="118" y="0"/>
                  <a:pt x="341" y="71"/>
                  <a:pt x="370" y="132"/>
                </a:cubicBezTo>
                <a:cubicBezTo>
                  <a:pt x="399" y="193"/>
                  <a:pt x="256" y="360"/>
                  <a:pt x="233" y="4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3440" y="8571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’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45240" y="1930320"/>
            <a:ext cx="112392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546000">
            <a:off x="6008760" y="1689120"/>
            <a:ext cx="9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/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86760" y="2768760"/>
            <a:ext cx="711000" cy="72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5640" y="9478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 =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  = ACC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 =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86400" y="4016520"/>
            <a:ext cx="711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745240" y="5186520"/>
            <a:ext cx="1217520" cy="40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9160" y="4844880"/>
            <a:ext cx="595440" cy="522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44480" y="558792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611440" y="5186160"/>
            <a:ext cx="1138320" cy="40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450440" y="3959280"/>
            <a:ext cx="65268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81040" y="2714400"/>
            <a:ext cx="638280" cy="81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25760" y="1901880"/>
            <a:ext cx="123336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1784520"/>
            <a:ext cx="857520" cy="2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29560" y="288288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/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50000" y="442908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7680" y="547380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/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84520" y="5676840"/>
            <a:ext cx="59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12880" y="551808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/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9520" y="276876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/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92440" y="182232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7960" y="1460520"/>
            <a:ext cx="90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/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7760" y="2771640"/>
            <a:ext cx="0" cy="20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4000" y="4595760"/>
            <a:ext cx="2714760" cy="789120"/>
          </a:xfrm>
          <a:custGeom>
            <a:avLst/>
            <a:gdLst/>
            <a:ahLst/>
            <a:rect l="l" t="t" r="r" b="b"/>
            <a:pathLst>
              <a:path w="1710" h="497">
                <a:moveTo>
                  <a:pt x="1710" y="204"/>
                </a:moveTo>
                <a:cubicBezTo>
                  <a:pt x="1409" y="102"/>
                  <a:pt x="1108" y="0"/>
                  <a:pt x="823" y="49"/>
                </a:cubicBezTo>
                <a:cubicBezTo>
                  <a:pt x="538" y="98"/>
                  <a:pt x="269" y="297"/>
                  <a:pt x="0" y="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39800" y="3686040"/>
            <a:ext cx="2322720" cy="1670040"/>
          </a:xfrm>
          <a:custGeom>
            <a:avLst/>
            <a:gdLst/>
            <a:ahLst/>
            <a:rect l="l" t="t" r="r" b="b"/>
            <a:pathLst>
              <a:path w="1463" h="1052">
                <a:moveTo>
                  <a:pt x="1463" y="1052"/>
                </a:moveTo>
                <a:cubicBezTo>
                  <a:pt x="1306" y="769"/>
                  <a:pt x="1149" y="486"/>
                  <a:pt x="905" y="311"/>
                </a:cubicBezTo>
                <a:cubicBezTo>
                  <a:pt x="661" y="136"/>
                  <a:pt x="330" y="6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2560" y="2104920"/>
            <a:ext cx="2422800" cy="1465200"/>
          </a:xfrm>
          <a:custGeom>
            <a:avLst/>
            <a:gdLst/>
            <a:ahLst/>
            <a:rect l="l" t="t" r="r" b="b"/>
            <a:pathLst>
              <a:path w="1526" h="923">
                <a:moveTo>
                  <a:pt x="0" y="923"/>
                </a:moveTo>
                <a:cubicBezTo>
                  <a:pt x="439" y="840"/>
                  <a:pt x="879" y="757"/>
                  <a:pt x="1133" y="603"/>
                </a:cubicBezTo>
                <a:cubicBezTo>
                  <a:pt x="1387" y="449"/>
                  <a:pt x="1456" y="224"/>
                  <a:pt x="152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84880" y="325296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’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431964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’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30640" y="399888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’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06840" y="2868480"/>
            <a:ext cx="79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’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CE1-B58A-45CA-9EEF-BA15A6C091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4x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ock, s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mplier, mcand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don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4x4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t4x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: integ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9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C: std_logic_vector(8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i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: std_log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(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6BE-6364-418E-9FBC-02ACE0820D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wait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ising_edge(clock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=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(8 downto 4) &lt;= “00000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ACC(3 downto 0) &lt;= Mplier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tate &lt;= 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244-35F3-4F75-859D-4E49E768A2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..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|3|5|7 =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(8 downto 4) &lt;= add4(ACC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4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cand, ‘0’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state &lt;= state + 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 &lt;= ‘0’ &amp; ACC(8 downto 4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&lt;= state + 2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11A-1069-4C19-9CB5-D6F4405587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Cod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..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|4|6|8 =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 &lt;= ‘0’ &amp; ACC(8 downto 4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&lt;= state + 1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 =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&lt;= 0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&lt;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e = 9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‘0’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concurrent statement since we want done signal is set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to 1 in state 9, not in state 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212-4564-4CAC-89E0-A447319438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2-21T15:26:18Z</dcterms:modified>
  <cp:revision>5679</cp:revision>
  <dc:subject/>
  <dc:title>PowerPoint Presentation</dc:title>
</cp:coreProperties>
</file>