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29C-AF40-4F55-AB4B-5BCFBBBF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C62-BA77-4F19-97A8-344692CB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10F-2690-4933-80B5-B88BE551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DE4-94A6-47B0-890C-AE0438AF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E09-4B33-4ACA-82ED-675E011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E3F-0F55-4BBF-B88A-473375D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D5F-F088-476B-997F-37ABDF5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F26-AEF4-4292-8A83-CF419735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E1B-427C-46AC-B63E-3C5D964A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DFA-7D91-4A4E-9E8E-0116F2A0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18C-5C74-4939-9B1A-391848E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0BA-0C27-4C93-9B14-F3F642D1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A6A-69B6-4FD7-A149-DAE91DCA9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ing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CF1-9ABD-4C28-B4E7-AB0DB5225F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structing Structural VHDL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ing the annotated schema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ting it to VH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hat description of components you will use is availab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.e. a working entity-architecture pai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entity descriptions, create a block for each compon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 each port of every component to the port of another entity or to the input or output port of the entity being model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each compon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each internal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each system input and output port, define its mode and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743-C39E-4B6F-A914-9B8A21A19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 Templa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03320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library-name-1, library-name-2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library-name-1.package-name.all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library-name-2.package-name.all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tity_name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declare components us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onent1-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mponent1-name 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mponent2-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mponent2-name 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400" spc="-1" strike="noStrike">
                <a:solidFill>
                  <a:srgbClr val="3333cc"/>
                </a:solidFill>
                <a:latin typeface="Courier New"/>
              </a:rPr>
              <a:t>declare al signals used to connect the components</a:t>
            </a: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nternal signa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 type:=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0" i="1" lang="en-US" sz="1400" spc="-1" strike="noStrike">
                <a:solidFill>
                  <a:srgbClr val="3333cc"/>
                </a:solidFill>
                <a:latin typeface="Courier New"/>
              </a:rPr>
              <a:t>-- label each component and connect its ports to signals or entity por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bel1: component1-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port=&gt;signal, ...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bel2: component2-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port=&gt;signal, ...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874-DFC5-43A5-B0CA-5FD13A14D1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dder Design with Structural VHD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17840" y="609480"/>
            <a:ext cx="1996920" cy="1519200"/>
            <a:chOff x="717840" y="609480"/>
            <a:chExt cx="1996920" cy="1519200"/>
          </a:xfrm>
        </p:grpSpPr>
        <p:sp>
          <p:nvSpPr>
            <p:cNvPr id="180" name=""/>
            <p:cNvSpPr/>
            <p:nvPr/>
          </p:nvSpPr>
          <p:spPr>
            <a:xfrm>
              <a:off x="1495440" y="1185840"/>
              <a:ext cx="1219320" cy="9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LU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32200" y="80784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3640" y="14461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3640" y="185868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2520" y="118584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840" y="15825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31520" y="6094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19280" y="2506680"/>
            <a:ext cx="1996560" cy="942840"/>
            <a:chOff x="719280" y="2506680"/>
            <a:chExt cx="1996560" cy="942840"/>
          </a:xfrm>
        </p:grpSpPr>
        <p:sp>
          <p:nvSpPr>
            <p:cNvPr id="188" name=""/>
            <p:cNvSpPr/>
            <p:nvPr/>
          </p:nvSpPr>
          <p:spPr>
            <a:xfrm>
              <a:off x="1496880" y="2506680"/>
              <a:ext cx="1218960" cy="9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LU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34720" y="27669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34720" y="317952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960" y="250668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280" y="2903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9640" y="3841920"/>
            <a:ext cx="1996560" cy="942840"/>
            <a:chOff x="719640" y="3841920"/>
            <a:chExt cx="1996560" cy="942840"/>
          </a:xfrm>
        </p:grpSpPr>
        <p:sp>
          <p:nvSpPr>
            <p:cNvPr id="194" name=""/>
            <p:cNvSpPr/>
            <p:nvPr/>
          </p:nvSpPr>
          <p:spPr>
            <a:xfrm>
              <a:off x="1497240" y="3841920"/>
              <a:ext cx="1218960" cy="9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LU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35080" y="410220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35080" y="45147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3960" y="38419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640" y="42386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75720" y="1384200"/>
            <a:ext cx="3918960" cy="1185120"/>
            <a:chOff x="1575720" y="1384200"/>
            <a:chExt cx="3918960" cy="1185120"/>
          </a:xfrm>
        </p:grpSpPr>
        <p:grpSp>
          <p:nvGrpSpPr>
            <p:cNvPr id="200" name=""/>
            <p:cNvGrpSpPr/>
            <p:nvPr/>
          </p:nvGrpSpPr>
          <p:grpSpPr>
            <a:xfrm>
              <a:off x="1575720" y="1384200"/>
              <a:ext cx="1900800" cy="1185120"/>
              <a:chOff x="1575720" y="1384200"/>
              <a:chExt cx="1900800" cy="1185120"/>
            </a:xfrm>
          </p:grpSpPr>
          <p:sp>
            <p:nvSpPr>
              <p:cNvPr id="201" name=""/>
              <p:cNvSpPr/>
              <p:nvPr/>
            </p:nvSpPr>
            <p:spPr>
              <a:xfrm>
                <a:off x="2714400" y="162540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031840" y="212868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89880" y="138420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75720" y="212868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652920" y="1427040"/>
              <a:ext cx="184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lock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90120" y="2714760"/>
            <a:ext cx="4087800" cy="1185120"/>
            <a:chOff x="1590120" y="2714760"/>
            <a:chExt cx="4087800" cy="1185120"/>
          </a:xfrm>
        </p:grpSpPr>
        <p:grpSp>
          <p:nvGrpSpPr>
            <p:cNvPr id="207" name=""/>
            <p:cNvGrpSpPr/>
            <p:nvPr/>
          </p:nvGrpSpPr>
          <p:grpSpPr>
            <a:xfrm>
              <a:off x="1590120" y="2714760"/>
              <a:ext cx="1901520" cy="1185120"/>
              <a:chOff x="1590120" y="2714760"/>
              <a:chExt cx="1901520" cy="1185120"/>
            </a:xfrm>
          </p:grpSpPr>
          <p:sp>
            <p:nvSpPr>
              <p:cNvPr id="208" name=""/>
              <p:cNvSpPr/>
              <p:nvPr/>
            </p:nvSpPr>
            <p:spPr>
              <a:xfrm>
                <a:off x="2729160" y="295596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46600" y="345924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05000" y="271476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90120" y="345924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776760" y="2782800"/>
              <a:ext cx="19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lock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75720" y="4044960"/>
            <a:ext cx="4093560" cy="1185120"/>
            <a:chOff x="1575720" y="4044960"/>
            <a:chExt cx="4093560" cy="1185120"/>
          </a:xfrm>
        </p:grpSpPr>
        <p:grpSp>
          <p:nvGrpSpPr>
            <p:cNvPr id="214" name=""/>
            <p:cNvGrpSpPr/>
            <p:nvPr/>
          </p:nvGrpSpPr>
          <p:grpSpPr>
            <a:xfrm>
              <a:off x="1575720" y="4044960"/>
              <a:ext cx="1901160" cy="1185120"/>
              <a:chOff x="1575720" y="4044960"/>
              <a:chExt cx="1901160" cy="1185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714760" y="4286160"/>
                <a:ext cx="36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32200" y="478944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90240" y="404496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75720" y="478944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798720" y="4117680"/>
              <a:ext cx="18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lock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11720" y="5186520"/>
            <a:ext cx="1996560" cy="942840"/>
            <a:chOff x="711720" y="5186520"/>
            <a:chExt cx="1996560" cy="942840"/>
          </a:xfrm>
        </p:grpSpPr>
        <p:sp>
          <p:nvSpPr>
            <p:cNvPr id="221" name=""/>
            <p:cNvSpPr/>
            <p:nvPr/>
          </p:nvSpPr>
          <p:spPr>
            <a:xfrm>
              <a:off x="1489320" y="5186520"/>
              <a:ext cx="1218960" cy="94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LU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27160" y="544680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7160" y="5859360"/>
              <a:ext cx="3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040" y="518652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720" y="5583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74280" y="5394240"/>
            <a:ext cx="4089240" cy="1185120"/>
            <a:chOff x="1574280" y="5394240"/>
            <a:chExt cx="4089240" cy="1185120"/>
          </a:xfrm>
        </p:grpSpPr>
        <p:grpSp>
          <p:nvGrpSpPr>
            <p:cNvPr id="227" name=""/>
            <p:cNvGrpSpPr/>
            <p:nvPr/>
          </p:nvGrpSpPr>
          <p:grpSpPr>
            <a:xfrm>
              <a:off x="1574280" y="5394240"/>
              <a:ext cx="1900800" cy="1185120"/>
              <a:chOff x="1574280" y="5394240"/>
              <a:chExt cx="1900800" cy="1185120"/>
            </a:xfrm>
          </p:grpSpPr>
          <p:sp>
            <p:nvSpPr>
              <p:cNvPr id="228" name=""/>
              <p:cNvSpPr/>
              <p:nvPr/>
            </p:nvSpPr>
            <p:spPr>
              <a:xfrm>
                <a:off x="2712960" y="5635440"/>
                <a:ext cx="36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30400" y="613872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88440" y="539424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74280" y="6138720"/>
                <a:ext cx="386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800520" y="5466960"/>
              <a:ext cx="186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Clock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632560" y="1427040"/>
            <a:ext cx="3267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111) + (000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se case add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7360" y="4292640"/>
            <a:ext cx="3267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ry-ripple ad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BA7-D471-49B1-BD28-2C486079C8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Faster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42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dd two corresponding bits of A an B, we have to know the carry from the sum of previous b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=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+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 +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imagine the length of the expression for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F98-6C50-477A-AB8F-F093BED26F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rry Lookahead -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pproach in-between the two extrem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we didn't know the value of carry-in, what could we do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would a carry be always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generat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?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would the carry be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propagat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?       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=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+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ing them we can write the following formul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+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see where the signals get their names suppos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1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1+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= 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t is, the adder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generat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CarryOut (independent of CarryIn)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373-47F2-486D-AD6C-1433DEF25C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rry Lookahead –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962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CarryIn i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ropagate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arryOu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How can we compu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icient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3FC-C171-4B3B-BDB2-C94C55DE20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rent-Kung For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6160" y="990360"/>
            <a:ext cx="8670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sociative oper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, 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,z) = (x+yw, y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this operation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1)=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63F-1045-42C9-8F06-40EA06FD0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65280" y="1612800"/>
            <a:ext cx="3579840" cy="25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rent-Kung Circu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5" name=""/>
          <p:cNvSpPr/>
          <p:nvPr/>
        </p:nvSpPr>
        <p:spPr>
          <a:xfrm>
            <a:off x="4781520" y="1892160"/>
            <a:ext cx="723960" cy="6415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16160" y="2662200"/>
            <a:ext cx="684360" cy="6033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44880" y="3390840"/>
            <a:ext cx="684360" cy="6033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78000" y="27813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78000" y="31464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185560" y="2084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85920" y="3843360"/>
            <a:ext cx="265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92520" y="2781360"/>
            <a:ext cx="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92520" y="3565440"/>
            <a:ext cx="20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94040" y="297036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56200" y="237492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56200" y="23749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47880" y="2736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04040" y="221148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29240" y="3679920"/>
            <a:ext cx="85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07560" y="1814400"/>
            <a:ext cx="37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15480" y="2533680"/>
            <a:ext cx="375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4120" y="2930400"/>
            <a:ext cx="34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41040" y="3606840"/>
            <a:ext cx="118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-1 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87840" y="1978200"/>
            <a:ext cx="50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7640" y="3443400"/>
            <a:ext cx="14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-1 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600" y="4803840"/>
            <a:ext cx="8493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58B-DA2C-43BD-98CA-52C3FF5A73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rent-Kung For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538280" y="4262040"/>
            <a:ext cx="2254320" cy="1300680"/>
            <a:chOff x="1538280" y="4262040"/>
            <a:chExt cx="2254320" cy="1300680"/>
          </a:xfrm>
        </p:grpSpPr>
        <p:sp>
          <p:nvSpPr>
            <p:cNvPr id="269" name=""/>
            <p:cNvSpPr/>
            <p:nvPr/>
          </p:nvSpPr>
          <p:spPr>
            <a:xfrm>
              <a:off x="1538280" y="5126040"/>
              <a:ext cx="49212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030400" y="4584600"/>
              <a:ext cx="116064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348000" y="4262040"/>
              <a:ext cx="444600" cy="23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V="1">
            <a:off x="293760" y="6011640"/>
            <a:ext cx="44460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76800" y="1095480"/>
            <a:ext cx="2745000" cy="1657080"/>
            <a:chOff x="6076800" y="1095480"/>
            <a:chExt cx="2745000" cy="1657080"/>
          </a:xfrm>
        </p:grpSpPr>
        <p:sp>
          <p:nvSpPr>
            <p:cNvPr id="274" name=""/>
            <p:cNvSpPr/>
            <p:nvPr/>
          </p:nvSpPr>
          <p:spPr>
            <a:xfrm>
              <a:off x="6378480" y="2316240"/>
              <a:ext cx="49212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872040" y="1982880"/>
              <a:ext cx="8110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4720" y="1508040"/>
              <a:ext cx="0" cy="8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76800" y="1095480"/>
              <a:ext cx="117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51800" y="1538280"/>
              <a:ext cx="117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863960" y="1117440"/>
            <a:ext cx="1170000" cy="2368800"/>
            <a:chOff x="4863960" y="1117440"/>
            <a:chExt cx="1170000" cy="2368800"/>
          </a:xfrm>
        </p:grpSpPr>
        <p:grpSp>
          <p:nvGrpSpPr>
            <p:cNvPr id="280" name=""/>
            <p:cNvGrpSpPr/>
            <p:nvPr/>
          </p:nvGrpSpPr>
          <p:grpSpPr>
            <a:xfrm>
              <a:off x="5108400" y="1542960"/>
              <a:ext cx="492480" cy="1943280"/>
              <a:chOff x="5108400" y="1542960"/>
              <a:chExt cx="492480" cy="1943280"/>
            </a:xfrm>
          </p:grpSpPr>
          <p:sp>
            <p:nvSpPr>
              <p:cNvPr id="281" name=""/>
              <p:cNvSpPr/>
              <p:nvPr/>
            </p:nvSpPr>
            <p:spPr>
              <a:xfrm>
                <a:off x="5108400" y="3049560"/>
                <a:ext cx="492480" cy="43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54640" y="1542960"/>
                <a:ext cx="0" cy="149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863960" y="1117440"/>
              <a:ext cx="117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265400" y="1131840"/>
            <a:ext cx="1170000" cy="3989520"/>
            <a:chOff x="1265400" y="1131840"/>
            <a:chExt cx="1170000" cy="3989520"/>
          </a:xfrm>
        </p:grpSpPr>
        <p:sp>
          <p:nvSpPr>
            <p:cNvPr id="285" name=""/>
            <p:cNvSpPr/>
            <p:nvPr/>
          </p:nvSpPr>
          <p:spPr>
            <a:xfrm flipH="1">
              <a:off x="1775880" y="1521000"/>
              <a:ext cx="18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65400" y="1131840"/>
              <a:ext cx="117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i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73520" y="2743200"/>
            <a:ext cx="1608480" cy="513720"/>
            <a:chOff x="5573520" y="2743200"/>
            <a:chExt cx="1608480" cy="513720"/>
          </a:xfrm>
        </p:grpSpPr>
        <p:sp>
          <p:nvSpPr>
            <p:cNvPr id="288" name=""/>
            <p:cNvSpPr/>
            <p:nvPr/>
          </p:nvSpPr>
          <p:spPr>
            <a:xfrm flipH="1">
              <a:off x="5573520" y="2743200"/>
              <a:ext cx="81108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2000" y="2816280"/>
              <a:ext cx="117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83040" y="3476520"/>
            <a:ext cx="2073240" cy="682560"/>
            <a:chOff x="3983040" y="3476520"/>
            <a:chExt cx="2073240" cy="682560"/>
          </a:xfrm>
        </p:grpSpPr>
        <p:sp>
          <p:nvSpPr>
            <p:cNvPr id="291" name=""/>
            <p:cNvSpPr/>
            <p:nvPr/>
          </p:nvSpPr>
          <p:spPr>
            <a:xfrm flipV="1">
              <a:off x="3983040" y="3476520"/>
              <a:ext cx="116064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26000" y="3619440"/>
              <a:ext cx="143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90560" y="5562360"/>
            <a:ext cx="1814400" cy="609120"/>
            <a:chOff x="790560" y="5562360"/>
            <a:chExt cx="1814400" cy="609120"/>
          </a:xfrm>
        </p:grpSpPr>
        <p:sp>
          <p:nvSpPr>
            <p:cNvPr id="294" name=""/>
            <p:cNvSpPr/>
            <p:nvPr/>
          </p:nvSpPr>
          <p:spPr>
            <a:xfrm flipV="1">
              <a:off x="790560" y="5562360"/>
              <a:ext cx="74772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7000" y="5730840"/>
              <a:ext cx="1677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i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...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661560" y="504972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ing carries become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 prefix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84E-717B-46DB-A74A-7DBB31DB1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efix Proble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x0, x1, x2, …, x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y0, y1, y2, …, y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0 = x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1 = x1x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2 = x2x1x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3 = x3x2x1x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7 = x7x6...x1x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ous algorithms for prefix problem with different complexit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4C4-4426-4C73-B66E-2A74479143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192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havioral Modeling (describing internal behavior of a componen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A statements (dataflow mod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al Mode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s how the components are connec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al models are assumed to exist in local working directory or in a libra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 modeling facilitate the use of hierarchy and abstraction in modeling complex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 models can be integrated into models that also use processes and CSA 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4A5-B1E0-4454-9B9A-0BE5B5F47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efix Algorithm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or Serial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669760" y="4151160"/>
            <a:ext cx="1263960" cy="828720"/>
            <a:chOff x="2669760" y="4151160"/>
            <a:chExt cx="1263960" cy="828720"/>
          </a:xfrm>
        </p:grpSpPr>
        <p:sp>
          <p:nvSpPr>
            <p:cNvPr id="302" name=""/>
            <p:cNvSpPr/>
            <p:nvPr/>
          </p:nvSpPr>
          <p:spPr>
            <a:xfrm flipH="1">
              <a:off x="3149640" y="4151160"/>
              <a:ext cx="78408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669760" y="4732200"/>
              <a:ext cx="39204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flipH="1">
            <a:off x="1365120" y="5573880"/>
            <a:ext cx="37800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45400" y="16765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959080" y="1676520"/>
            <a:ext cx="1254600" cy="2081160"/>
            <a:chOff x="5959080" y="1676520"/>
            <a:chExt cx="1254600" cy="2081160"/>
          </a:xfrm>
        </p:grpSpPr>
        <p:sp>
          <p:nvSpPr>
            <p:cNvPr id="307" name=""/>
            <p:cNvSpPr/>
            <p:nvPr/>
          </p:nvSpPr>
          <p:spPr>
            <a:xfrm>
              <a:off x="5959080" y="167652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081840" y="1973160"/>
              <a:ext cx="1131840" cy="1416240"/>
              <a:chOff x="6081840" y="1973160"/>
              <a:chExt cx="1131840" cy="1416240"/>
            </a:xfrm>
          </p:grpSpPr>
          <p:sp>
            <p:nvSpPr>
              <p:cNvPr id="309" name=""/>
              <p:cNvSpPr/>
              <p:nvPr/>
            </p:nvSpPr>
            <p:spPr>
              <a:xfrm>
                <a:off x="6081840" y="2554200"/>
                <a:ext cx="23148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299280" y="1973160"/>
                <a:ext cx="9144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8960" y="197316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6880" y="2771640"/>
                <a:ext cx="0" cy="61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78520" y="33894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88480" y="1676520"/>
            <a:ext cx="469080" cy="1320840"/>
            <a:chOff x="7188480" y="1676520"/>
            <a:chExt cx="469080" cy="1320840"/>
          </a:xfrm>
        </p:grpSpPr>
        <p:sp>
          <p:nvSpPr>
            <p:cNvPr id="315" name=""/>
            <p:cNvSpPr/>
            <p:nvPr/>
          </p:nvSpPr>
          <p:spPr>
            <a:xfrm>
              <a:off x="7188480" y="167652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28440" y="262908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86480" y="201456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997880" y="1973160"/>
            <a:ext cx="1179000" cy="2427480"/>
            <a:chOff x="4997880" y="1973160"/>
            <a:chExt cx="1179000" cy="2427480"/>
          </a:xfrm>
        </p:grpSpPr>
        <p:sp>
          <p:nvSpPr>
            <p:cNvPr id="319" name=""/>
            <p:cNvSpPr/>
            <p:nvPr/>
          </p:nvSpPr>
          <p:spPr>
            <a:xfrm>
              <a:off x="5043600" y="3200400"/>
              <a:ext cx="23184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262480" y="2647800"/>
              <a:ext cx="9144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56280" y="1973160"/>
              <a:ext cx="0" cy="12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97880" y="403236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56280" y="3417840"/>
              <a:ext cx="0" cy="6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872520" y="479592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21400" y="1676520"/>
            <a:ext cx="1223640" cy="3122640"/>
            <a:chOff x="3821400" y="1676520"/>
            <a:chExt cx="1223640" cy="3122640"/>
          </a:xfrm>
        </p:grpSpPr>
        <p:sp>
          <p:nvSpPr>
            <p:cNvPr id="326" name=""/>
            <p:cNvSpPr/>
            <p:nvPr/>
          </p:nvSpPr>
          <p:spPr>
            <a:xfrm>
              <a:off x="3911760" y="3968640"/>
              <a:ext cx="23148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130640" y="338940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8480" y="1978200"/>
              <a:ext cx="0" cy="19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21400" y="167652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0560" y="4181400"/>
              <a:ext cx="0" cy="61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678320" y="1676520"/>
            <a:ext cx="934200" cy="4943160"/>
            <a:chOff x="1678320" y="1676520"/>
            <a:chExt cx="934200" cy="4943160"/>
          </a:xfrm>
        </p:grpSpPr>
        <p:sp>
          <p:nvSpPr>
            <p:cNvPr id="332" name=""/>
            <p:cNvSpPr/>
            <p:nvPr/>
          </p:nvSpPr>
          <p:spPr>
            <a:xfrm>
              <a:off x="1692360" y="5392800"/>
              <a:ext cx="23184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901520" y="5021280"/>
              <a:ext cx="71100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09720" y="1973160"/>
              <a:ext cx="0" cy="341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84800" y="167652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8320" y="6251400"/>
              <a:ext cx="4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6720" y="563724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545880" y="44038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th: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: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859-92FF-4102-A3DD-CFFAF657A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efix Algorithm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vious Parallelization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6081840" y="2654280"/>
            <a:ext cx="1746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973840" y="2035080"/>
            <a:ext cx="403200" cy="619200"/>
            <a:chOff x="5973840" y="2035080"/>
            <a:chExt cx="403200" cy="619200"/>
          </a:xfrm>
        </p:grpSpPr>
        <p:sp>
          <p:nvSpPr>
            <p:cNvPr id="343" name=""/>
            <p:cNvSpPr/>
            <p:nvPr/>
          </p:nvSpPr>
          <p:spPr>
            <a:xfrm>
              <a:off x="6168960" y="23367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73840" y="203508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973120" y="2814480"/>
            <a:ext cx="400320" cy="553320"/>
            <a:chOff x="5973120" y="2814480"/>
            <a:chExt cx="400320" cy="553320"/>
          </a:xfrm>
        </p:grpSpPr>
        <p:sp>
          <p:nvSpPr>
            <p:cNvPr id="346" name=""/>
            <p:cNvSpPr/>
            <p:nvPr/>
          </p:nvSpPr>
          <p:spPr>
            <a:xfrm>
              <a:off x="6170760" y="28144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73120" y="303048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y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166520" y="2041560"/>
            <a:ext cx="445320" cy="1328040"/>
            <a:chOff x="7166520" y="2041560"/>
            <a:chExt cx="445320" cy="1328040"/>
          </a:xfrm>
        </p:grpSpPr>
        <p:sp>
          <p:nvSpPr>
            <p:cNvPr id="349" name=""/>
            <p:cNvSpPr/>
            <p:nvPr/>
          </p:nvSpPr>
          <p:spPr>
            <a:xfrm>
              <a:off x="7208640" y="204156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520" y="303228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y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86480" y="2355840"/>
              <a:ext cx="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248520" y="2041560"/>
            <a:ext cx="569520" cy="630000"/>
            <a:chOff x="6248520" y="2041560"/>
            <a:chExt cx="569520" cy="630000"/>
          </a:xfrm>
        </p:grpSpPr>
        <p:sp>
          <p:nvSpPr>
            <p:cNvPr id="353" name=""/>
            <p:cNvSpPr/>
            <p:nvPr/>
          </p:nvSpPr>
          <p:spPr>
            <a:xfrm flipV="1">
              <a:off x="6248520" y="2328480"/>
              <a:ext cx="33012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14840" y="204156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844720" y="1738440"/>
            <a:ext cx="844200" cy="742680"/>
            <a:chOff x="2844720" y="1738440"/>
            <a:chExt cx="844200" cy="742680"/>
          </a:xfrm>
        </p:grpSpPr>
        <p:sp>
          <p:nvSpPr>
            <p:cNvPr id="356" name=""/>
            <p:cNvSpPr/>
            <p:nvPr/>
          </p:nvSpPr>
          <p:spPr>
            <a:xfrm>
              <a:off x="2952360" y="2314440"/>
              <a:ext cx="1746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39840" y="199692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44720" y="17384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119040" y="1988640"/>
              <a:ext cx="33012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85720" y="174456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79560" y="1746360"/>
            <a:ext cx="844200" cy="785880"/>
            <a:chOff x="1879560" y="1746360"/>
            <a:chExt cx="844200" cy="785880"/>
          </a:xfrm>
        </p:grpSpPr>
        <p:sp>
          <p:nvSpPr>
            <p:cNvPr id="362" name=""/>
            <p:cNvSpPr/>
            <p:nvPr/>
          </p:nvSpPr>
          <p:spPr>
            <a:xfrm>
              <a:off x="1987200" y="2365200"/>
              <a:ext cx="174240" cy="16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4680" y="204804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79560" y="174636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153880" y="2039400"/>
              <a:ext cx="33012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20560" y="175248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886400" y="2438280"/>
            <a:ext cx="1083960" cy="1098000"/>
            <a:chOff x="1886400" y="2438280"/>
            <a:chExt cx="1083960" cy="1098000"/>
          </a:xfrm>
        </p:grpSpPr>
        <p:sp>
          <p:nvSpPr>
            <p:cNvPr id="368" name=""/>
            <p:cNvSpPr/>
            <p:nvPr/>
          </p:nvSpPr>
          <p:spPr>
            <a:xfrm>
              <a:off x="1886400" y="319896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y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76480" y="25542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95480" y="2806560"/>
              <a:ext cx="1746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84400" y="296712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162160" y="2438280"/>
              <a:ext cx="80820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125360" y="4923000"/>
            <a:ext cx="6981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th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: 0 +1 + 2 + 3 + … + n-1 = n(n-1)/2=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849920" y="1708200"/>
            <a:ext cx="844200" cy="785880"/>
            <a:chOff x="4849920" y="1708200"/>
            <a:chExt cx="844200" cy="785880"/>
          </a:xfrm>
        </p:grpSpPr>
        <p:sp>
          <p:nvSpPr>
            <p:cNvPr id="375" name=""/>
            <p:cNvSpPr/>
            <p:nvPr/>
          </p:nvSpPr>
          <p:spPr>
            <a:xfrm>
              <a:off x="4957920" y="2327400"/>
              <a:ext cx="1746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849920" y="1708200"/>
              <a:ext cx="403200" cy="619200"/>
              <a:chOff x="4849920" y="1708200"/>
              <a:chExt cx="403200" cy="619200"/>
            </a:xfrm>
          </p:grpSpPr>
          <p:sp>
            <p:nvSpPr>
              <p:cNvPr id="377" name=""/>
              <p:cNvSpPr/>
              <p:nvPr/>
            </p:nvSpPr>
            <p:spPr>
              <a:xfrm>
                <a:off x="5045040" y="2009880"/>
                <a:ext cx="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49920" y="170820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x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24600" y="1714680"/>
              <a:ext cx="569520" cy="629640"/>
              <a:chOff x="5124600" y="1714680"/>
              <a:chExt cx="569520" cy="629640"/>
            </a:xfrm>
          </p:grpSpPr>
          <p:sp>
            <p:nvSpPr>
              <p:cNvPr id="380" name=""/>
              <p:cNvSpPr/>
              <p:nvPr/>
            </p:nvSpPr>
            <p:spPr>
              <a:xfrm flipV="1">
                <a:off x="5124600" y="2001600"/>
                <a:ext cx="33012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90920" y="171468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x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4298760" y="1716120"/>
            <a:ext cx="694080" cy="1292040"/>
            <a:chOff x="4298760" y="1716120"/>
            <a:chExt cx="694080" cy="1292040"/>
          </a:xfrm>
        </p:grpSpPr>
        <p:sp>
          <p:nvSpPr>
            <p:cNvPr id="383" name=""/>
            <p:cNvSpPr/>
            <p:nvPr/>
          </p:nvSpPr>
          <p:spPr>
            <a:xfrm>
              <a:off x="4298760" y="171612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384800" y="2027160"/>
              <a:ext cx="608040" cy="981000"/>
              <a:chOff x="4384800" y="2027160"/>
              <a:chExt cx="608040" cy="981000"/>
            </a:xfrm>
          </p:grpSpPr>
          <p:sp>
            <p:nvSpPr>
              <p:cNvPr id="385" name=""/>
              <p:cNvSpPr/>
              <p:nvPr/>
            </p:nvSpPr>
            <p:spPr>
              <a:xfrm>
                <a:off x="4384800" y="2841480"/>
                <a:ext cx="174600" cy="16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76600" y="2027160"/>
                <a:ext cx="0" cy="81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4543560" y="2481120"/>
                <a:ext cx="44928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285080" y="3005280"/>
            <a:ext cx="400320" cy="573840"/>
            <a:chOff x="4285080" y="3005280"/>
            <a:chExt cx="400320" cy="573840"/>
          </a:xfrm>
        </p:grpSpPr>
        <p:sp>
          <p:nvSpPr>
            <p:cNvPr id="389" name=""/>
            <p:cNvSpPr/>
            <p:nvPr/>
          </p:nvSpPr>
          <p:spPr>
            <a:xfrm>
              <a:off x="4285080" y="3241800"/>
              <a:ext cx="4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y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6080" y="3005280"/>
              <a:ext cx="144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153-9A6A-40CB-9963-8888959C6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dner-Fischer Constru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pth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O(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ption: 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 is the number of bits in our ad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dner-Fischer constructions provide a family of circuits for 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) where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 and d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(d = 1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(d = 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,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8 (d = 3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 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,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F9E-FDAF-4D67-83D0-91258F7A16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dner-Fischer Constru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 circui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) = d +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) = 2(1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n – F(5+d-k) + 1 – 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F is the Fibonacci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09560" y="3110040"/>
          <a:ext cx="6589800" cy="9111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7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921960" y="4699080"/>
            <a:ext cx="2837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) = 3n-F(5+d)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) = 3n-F(4+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41B-F6BE-48E1-A9EA-DD57E2F90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dner-Fischer Circui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362240"/>
            <a:ext cx="40129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and  k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4846680" y="1316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3920" y="1384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0,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960" y="2481120"/>
            <a:ext cx="81187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nd  k = 0,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 = 1 and S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does not exist since there is only one circuit to add two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059080" y="4930920"/>
            <a:ext cx="522360" cy="43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8280" y="4940280"/>
            <a:ext cx="4222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6880" y="507204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080" y="49626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1, S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64040" y="5326200"/>
            <a:ext cx="158760" cy="174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14-70A7-4A88-9B2D-B4032B8EC0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dner-Fischer Circui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424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and  k = 0, 1,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,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no other circuit bu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for n =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: how to 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fro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367080" y="2722680"/>
            <a:ext cx="1015920" cy="2341440"/>
            <a:chOff x="3367080" y="2722680"/>
            <a:chExt cx="1015920" cy="2341440"/>
          </a:xfrm>
        </p:grpSpPr>
        <p:sp>
          <p:nvSpPr>
            <p:cNvPr id="410" name=""/>
            <p:cNvSpPr/>
            <p:nvPr/>
          </p:nvSpPr>
          <p:spPr>
            <a:xfrm>
              <a:off x="3367080" y="3360600"/>
              <a:ext cx="1015920" cy="957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1760" y="307008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70520" y="306396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76480" y="272268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40160" y="275112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21240" y="4338720"/>
              <a:ext cx="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9640" y="434664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62200" y="4514760"/>
            <a:ext cx="2314800" cy="284400"/>
            <a:chOff x="3562200" y="4514760"/>
            <a:chExt cx="2314800" cy="284400"/>
          </a:xfrm>
        </p:grpSpPr>
        <p:sp>
          <p:nvSpPr>
            <p:cNvPr id="418" name=""/>
            <p:cNvSpPr/>
            <p:nvPr/>
          </p:nvSpPr>
          <p:spPr>
            <a:xfrm flipH="1">
              <a:off x="4048200" y="4579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627000" y="475308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00680" y="4514760"/>
              <a:ext cx="110880" cy="11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62200" y="4681440"/>
              <a:ext cx="111240" cy="11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09600" y="3057480"/>
            <a:ext cx="3695760" cy="1779480"/>
            <a:chOff x="309600" y="3057480"/>
            <a:chExt cx="3695760" cy="1779480"/>
          </a:xfrm>
        </p:grpSpPr>
        <p:sp>
          <p:nvSpPr>
            <p:cNvPr id="423" name=""/>
            <p:cNvSpPr/>
            <p:nvPr/>
          </p:nvSpPr>
          <p:spPr>
            <a:xfrm>
              <a:off x="2176560" y="4130640"/>
              <a:ext cx="1422360" cy="706320"/>
            </a:xfrm>
            <a:custGeom>
              <a:avLst/>
              <a:gdLst/>
              <a:ahLst/>
              <a:rect l="l" t="t" r="r" b="b"/>
              <a:pathLst>
                <a:path w="896" h="445">
                  <a:moveTo>
                    <a:pt x="896" y="366"/>
                  </a:moveTo>
                  <a:cubicBezTo>
                    <a:pt x="806" y="405"/>
                    <a:pt x="716" y="445"/>
                    <a:pt x="567" y="384"/>
                  </a:cubicBezTo>
                  <a:cubicBezTo>
                    <a:pt x="418" y="323"/>
                    <a:pt x="209" y="16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79600" y="3984480"/>
              <a:ext cx="1625760" cy="567000"/>
            </a:xfrm>
            <a:custGeom>
              <a:avLst/>
              <a:gdLst/>
              <a:ahLst/>
              <a:rect l="l" t="t" r="r" b="b"/>
              <a:pathLst>
                <a:path w="1024" h="357">
                  <a:moveTo>
                    <a:pt x="1024" y="357"/>
                  </a:moveTo>
                  <a:cubicBezTo>
                    <a:pt x="817" y="332"/>
                    <a:pt x="610" y="307"/>
                    <a:pt x="439" y="247"/>
                  </a:cubicBezTo>
                  <a:cubicBezTo>
                    <a:pt x="268" y="187"/>
                    <a:pt x="134" y="9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9600" y="3057480"/>
              <a:ext cx="224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 our case the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rresponds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ent-Kung circu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37160" y="2744640"/>
            <a:ext cx="1093680" cy="2639520"/>
            <a:chOff x="5537160" y="2744640"/>
            <a:chExt cx="1093680" cy="2639520"/>
          </a:xfrm>
        </p:grpSpPr>
        <p:sp>
          <p:nvSpPr>
            <p:cNvPr id="427" name=""/>
            <p:cNvSpPr/>
            <p:nvPr/>
          </p:nvSpPr>
          <p:spPr>
            <a:xfrm>
              <a:off x="5580000" y="3367080"/>
              <a:ext cx="1015920" cy="957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13560" y="3629160"/>
              <a:ext cx="71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56120" y="306216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84880" y="305604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78440" y="431784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07200" y="432576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62480" y="27446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83320" y="27446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7640" y="50468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37160" y="503064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1x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803400" y="50148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2x1x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06400" y="502452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3x2x1x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12C-812F-4B97-89B9-0359A39BBA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4820400" y="1192320"/>
            <a:ext cx="949320" cy="3124080"/>
            <a:chOff x="4820400" y="1192320"/>
            <a:chExt cx="949320" cy="3124080"/>
          </a:xfrm>
        </p:grpSpPr>
        <p:sp>
          <p:nvSpPr>
            <p:cNvPr id="440" name=""/>
            <p:cNvSpPr/>
            <p:nvPr/>
          </p:nvSpPr>
          <p:spPr>
            <a:xfrm>
              <a:off x="5238720" y="1601640"/>
              <a:ext cx="0" cy="27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20400" y="1192320"/>
              <a:ext cx="949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g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Monotype Corsiva"/>
              </a:rPr>
              <a:t>0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(4) Circuit for Carry Calc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227960" y="1200240"/>
            <a:ext cx="2749680" cy="3124080"/>
            <a:chOff x="1227960" y="1200240"/>
            <a:chExt cx="2749680" cy="3124080"/>
          </a:xfrm>
        </p:grpSpPr>
        <p:sp>
          <p:nvSpPr>
            <p:cNvPr id="444" name=""/>
            <p:cNvSpPr/>
            <p:nvPr/>
          </p:nvSpPr>
          <p:spPr>
            <a:xfrm>
              <a:off x="3430440" y="1579680"/>
              <a:ext cx="0" cy="27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1227960" y="1200240"/>
              <a:ext cx="2749680" cy="3114720"/>
              <a:chOff x="1227960" y="1200240"/>
              <a:chExt cx="2749680" cy="3114720"/>
            </a:xfrm>
          </p:grpSpPr>
          <p:sp>
            <p:nvSpPr>
              <p:cNvPr id="446" name=""/>
              <p:cNvSpPr/>
              <p:nvPr/>
            </p:nvSpPr>
            <p:spPr>
              <a:xfrm>
                <a:off x="1625760" y="1600200"/>
                <a:ext cx="0" cy="27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69960" y="1886040"/>
                <a:ext cx="111240" cy="117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703160" y="1943280"/>
                <a:ext cx="1726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28320" y="1200240"/>
                <a:ext cx="949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, 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27960" y="1214280"/>
                <a:ext cx="949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g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, p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6703200" y="1200240"/>
            <a:ext cx="839880" cy="3509280"/>
            <a:chOff x="6703200" y="1200240"/>
            <a:chExt cx="839880" cy="3509280"/>
          </a:xfrm>
        </p:grpSpPr>
        <p:sp>
          <p:nvSpPr>
            <p:cNvPr id="452" name=""/>
            <p:cNvSpPr/>
            <p:nvPr/>
          </p:nvSpPr>
          <p:spPr>
            <a:xfrm>
              <a:off x="7075440" y="1593720"/>
              <a:ext cx="0" cy="27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03200" y="1200240"/>
              <a:ext cx="81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23720" y="4268880"/>
              <a:ext cx="819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856400" y="1878120"/>
            <a:ext cx="2225160" cy="2853360"/>
            <a:chOff x="4856400" y="1878120"/>
            <a:chExt cx="2225160" cy="2853360"/>
          </a:xfrm>
        </p:grpSpPr>
        <p:sp>
          <p:nvSpPr>
            <p:cNvPr id="456" name=""/>
            <p:cNvSpPr/>
            <p:nvPr/>
          </p:nvSpPr>
          <p:spPr>
            <a:xfrm>
              <a:off x="5189400" y="187812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295600" y="1935000"/>
              <a:ext cx="1785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56400" y="4290840"/>
              <a:ext cx="91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67040" y="3176640"/>
            <a:ext cx="2355840" cy="1546920"/>
            <a:chOff x="2867040" y="3176640"/>
            <a:chExt cx="2355840" cy="1546920"/>
          </a:xfrm>
        </p:grpSpPr>
        <p:sp>
          <p:nvSpPr>
            <p:cNvPr id="460" name=""/>
            <p:cNvSpPr/>
            <p:nvPr/>
          </p:nvSpPr>
          <p:spPr>
            <a:xfrm>
              <a:off x="3367080" y="317664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495600" y="3227400"/>
              <a:ext cx="172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67040" y="4282920"/>
              <a:ext cx="122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49600" y="3176640"/>
            <a:ext cx="4389120" cy="1539000"/>
            <a:chOff x="849600" y="3176640"/>
            <a:chExt cx="4389120" cy="1539000"/>
          </a:xfrm>
        </p:grpSpPr>
        <p:sp>
          <p:nvSpPr>
            <p:cNvPr id="464" name=""/>
            <p:cNvSpPr/>
            <p:nvPr/>
          </p:nvSpPr>
          <p:spPr>
            <a:xfrm>
              <a:off x="1568520" y="3176640"/>
              <a:ext cx="11088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68600" y="3214800"/>
              <a:ext cx="3570120" cy="369720"/>
            </a:xfrm>
            <a:custGeom>
              <a:avLst/>
              <a:gdLst/>
              <a:ahLst/>
              <a:rect l="l" t="t" r="r" b="b"/>
              <a:pathLst>
                <a:path w="2249" h="233">
                  <a:moveTo>
                    <a:pt x="2249" y="0"/>
                  </a:moveTo>
                  <a:cubicBezTo>
                    <a:pt x="1933" y="112"/>
                    <a:pt x="1618" y="225"/>
                    <a:pt x="1243" y="229"/>
                  </a:cubicBezTo>
                  <a:cubicBezTo>
                    <a:pt x="868" y="233"/>
                    <a:pt x="434" y="130"/>
                    <a:pt x="0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9600" y="4275000"/>
              <a:ext cx="1526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04960" y="5697360"/>
            <a:ext cx="2783520" cy="398880"/>
            <a:chOff x="804960" y="5697360"/>
            <a:chExt cx="2783520" cy="398880"/>
          </a:xfrm>
        </p:grpSpPr>
        <p:sp>
          <p:nvSpPr>
            <p:cNvPr id="468" name=""/>
            <p:cNvSpPr/>
            <p:nvPr/>
          </p:nvSpPr>
          <p:spPr>
            <a:xfrm>
              <a:off x="804960" y="5811840"/>
              <a:ext cx="11088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00960" y="5697360"/>
              <a:ext cx="23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rent-Kung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AB9-51DD-49F9-8447-50383F81D7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l Construction Scheme for P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Monotype Corsiva"/>
              </a:rPr>
              <a:t>0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(n)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664160" y="1576440"/>
            <a:ext cx="2004840" cy="3913200"/>
            <a:chOff x="4664160" y="1576440"/>
            <a:chExt cx="2004840" cy="3913200"/>
          </a:xfrm>
        </p:grpSpPr>
        <p:sp>
          <p:nvSpPr>
            <p:cNvPr id="472" name=""/>
            <p:cNvSpPr/>
            <p:nvPr/>
          </p:nvSpPr>
          <p:spPr>
            <a:xfrm>
              <a:off x="5065560" y="427032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23120" y="4262400"/>
              <a:ext cx="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86240" y="157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53080" y="2494080"/>
              <a:ext cx="1915920" cy="1770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n/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38880" y="189072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0360" y="1866960"/>
              <a:ext cx="3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014440" y="1913040"/>
              <a:ext cx="111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82320" y="1577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64160" y="15778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/2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11800" y="217332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39000" y="428472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91000" y="5302080"/>
              <a:ext cx="319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176560" y="1555920"/>
            <a:ext cx="1974960" cy="3912840"/>
            <a:chOff x="2176560" y="1555920"/>
            <a:chExt cx="1974960" cy="3912840"/>
          </a:xfrm>
        </p:grpSpPr>
        <p:sp>
          <p:nvSpPr>
            <p:cNvPr id="485" name=""/>
            <p:cNvSpPr/>
            <p:nvPr/>
          </p:nvSpPr>
          <p:spPr>
            <a:xfrm>
              <a:off x="3375000" y="426420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76560" y="2473200"/>
              <a:ext cx="1915920" cy="1770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n/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62360" y="187020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63840" y="1876320"/>
              <a:ext cx="324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35400" y="1878120"/>
              <a:ext cx="288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12600" y="155592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10040" y="158436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35280" y="213840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01920" y="424980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59120" y="424188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27360" y="5338800"/>
              <a:ext cx="318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332080" y="4543560"/>
            <a:ext cx="2733480" cy="465120"/>
            <a:chOff x="2332080" y="4543560"/>
            <a:chExt cx="2733480" cy="465120"/>
          </a:xfrm>
        </p:grpSpPr>
        <p:sp>
          <p:nvSpPr>
            <p:cNvPr id="497" name=""/>
            <p:cNvSpPr/>
            <p:nvPr/>
          </p:nvSpPr>
          <p:spPr>
            <a:xfrm flipH="1">
              <a:off x="3745080" y="4626000"/>
              <a:ext cx="13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03680" y="456408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32080" y="454356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0160" y="4626000"/>
              <a:ext cx="1611360" cy="196920"/>
            </a:xfrm>
            <a:custGeom>
              <a:avLst/>
              <a:gdLst/>
              <a:ahLst/>
              <a:rect l="l" t="t" r="r" b="b"/>
              <a:pathLst>
                <a:path w="1015" h="124">
                  <a:moveTo>
                    <a:pt x="1015" y="0"/>
                  </a:moveTo>
                  <a:cubicBezTo>
                    <a:pt x="816" y="57"/>
                    <a:pt x="617" y="114"/>
                    <a:pt x="448" y="119"/>
                  </a:cubicBezTo>
                  <a:cubicBezTo>
                    <a:pt x="279" y="124"/>
                    <a:pt x="139" y="76"/>
                    <a:pt x="0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24240" y="4611600"/>
              <a:ext cx="2641320" cy="397080"/>
            </a:xfrm>
            <a:custGeom>
              <a:avLst/>
              <a:gdLst/>
              <a:ahLst/>
              <a:rect l="l" t="t" r="r" b="b"/>
              <a:pathLst>
                <a:path w="1664" h="250">
                  <a:moveTo>
                    <a:pt x="1664" y="0"/>
                  </a:moveTo>
                  <a:cubicBezTo>
                    <a:pt x="1500" y="122"/>
                    <a:pt x="1337" y="244"/>
                    <a:pt x="1060" y="247"/>
                  </a:cubicBezTo>
                  <a:cubicBezTo>
                    <a:pt x="783" y="250"/>
                    <a:pt x="391" y="134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32160" y="457056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44C-C25D-4F4B-BA70-0CEDF41849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l Construction Scheme for P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Monotype Corsiva"/>
              </a:rPr>
              <a:t>1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(n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4" name=""/>
          <p:cNvSpPr/>
          <p:nvPr/>
        </p:nvSpPr>
        <p:spPr>
          <a:xfrm>
            <a:off x="3235320" y="2906640"/>
            <a:ext cx="1916280" cy="1770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n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56520" y="1392120"/>
            <a:ext cx="0" cy="492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1640" y="1400040"/>
            <a:ext cx="0" cy="492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62600" y="1407960"/>
            <a:ext cx="0" cy="492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41920" y="1393920"/>
            <a:ext cx="2479680" cy="1523880"/>
          </a:xfrm>
          <a:custGeom>
            <a:avLst/>
            <a:gdLst/>
            <a:ahLst/>
            <a:rect l="l" t="t" r="r" b="b"/>
            <a:pathLst>
              <a:path w="1672" h="960">
                <a:moveTo>
                  <a:pt x="1466" y="0"/>
                </a:moveTo>
                <a:cubicBezTo>
                  <a:pt x="1569" y="211"/>
                  <a:pt x="1672" y="423"/>
                  <a:pt x="1466" y="548"/>
                </a:cubicBezTo>
                <a:cubicBezTo>
                  <a:pt x="1260" y="673"/>
                  <a:pt x="464" y="680"/>
                  <a:pt x="232" y="749"/>
                </a:cubicBezTo>
                <a:cubicBezTo>
                  <a:pt x="0" y="818"/>
                  <a:pt x="38" y="889"/>
                  <a:pt x="7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94320" y="1379520"/>
            <a:ext cx="1752480" cy="1523880"/>
          </a:xfrm>
          <a:custGeom>
            <a:avLst/>
            <a:gdLst/>
            <a:ahLst/>
            <a:rect l="l" t="t" r="r" b="b"/>
            <a:pathLst>
              <a:path w="1113" h="960">
                <a:moveTo>
                  <a:pt x="1010" y="0"/>
                </a:moveTo>
                <a:cubicBezTo>
                  <a:pt x="1061" y="129"/>
                  <a:pt x="1113" y="259"/>
                  <a:pt x="1019" y="356"/>
                </a:cubicBezTo>
                <a:cubicBezTo>
                  <a:pt x="925" y="453"/>
                  <a:pt x="601" y="532"/>
                  <a:pt x="443" y="585"/>
                </a:cubicBezTo>
                <a:cubicBezTo>
                  <a:pt x="285" y="638"/>
                  <a:pt x="136" y="614"/>
                  <a:pt x="68" y="676"/>
                </a:cubicBezTo>
                <a:cubicBezTo>
                  <a:pt x="0" y="738"/>
                  <a:pt x="40" y="914"/>
                  <a:pt x="3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03800" y="1393920"/>
            <a:ext cx="1422360" cy="1509480"/>
          </a:xfrm>
          <a:custGeom>
            <a:avLst/>
            <a:gdLst/>
            <a:ahLst/>
            <a:rect l="l" t="t" r="r" b="b"/>
            <a:pathLst>
              <a:path w="896" h="951">
                <a:moveTo>
                  <a:pt x="754" y="0"/>
                </a:moveTo>
                <a:cubicBezTo>
                  <a:pt x="825" y="109"/>
                  <a:pt x="896" y="219"/>
                  <a:pt x="791" y="320"/>
                </a:cubicBezTo>
                <a:cubicBezTo>
                  <a:pt x="686" y="421"/>
                  <a:pt x="246" y="498"/>
                  <a:pt x="123" y="603"/>
                </a:cubicBezTo>
                <a:cubicBezTo>
                  <a:pt x="0" y="708"/>
                  <a:pt x="25" y="829"/>
                  <a:pt x="50" y="9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22400" y="1401840"/>
            <a:ext cx="0" cy="492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03360" y="1393920"/>
            <a:ext cx="1057320" cy="1509480"/>
          </a:xfrm>
          <a:custGeom>
            <a:avLst/>
            <a:gdLst/>
            <a:ahLst/>
            <a:rect l="l" t="t" r="r" b="b"/>
            <a:pathLst>
              <a:path w="739" h="951">
                <a:moveTo>
                  <a:pt x="68" y="0"/>
                </a:moveTo>
                <a:cubicBezTo>
                  <a:pt x="34" y="147"/>
                  <a:pt x="0" y="294"/>
                  <a:pt x="95" y="420"/>
                </a:cubicBezTo>
                <a:cubicBezTo>
                  <a:pt x="190" y="546"/>
                  <a:pt x="531" y="670"/>
                  <a:pt x="635" y="759"/>
                </a:cubicBezTo>
                <a:cubicBezTo>
                  <a:pt x="739" y="848"/>
                  <a:pt x="728" y="899"/>
                  <a:pt x="717" y="9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467080" y="1582560"/>
            <a:ext cx="3636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03360" y="173988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03560" y="1393920"/>
            <a:ext cx="615960" cy="1509480"/>
          </a:xfrm>
          <a:custGeom>
            <a:avLst/>
            <a:gdLst/>
            <a:ahLst/>
            <a:rect l="l" t="t" r="r" b="b"/>
            <a:pathLst>
              <a:path w="388" h="951">
                <a:moveTo>
                  <a:pt x="47" y="0"/>
                </a:moveTo>
                <a:cubicBezTo>
                  <a:pt x="23" y="67"/>
                  <a:pt x="0" y="135"/>
                  <a:pt x="47" y="237"/>
                </a:cubicBezTo>
                <a:cubicBezTo>
                  <a:pt x="94" y="339"/>
                  <a:pt x="274" y="493"/>
                  <a:pt x="331" y="612"/>
                </a:cubicBezTo>
                <a:cubicBezTo>
                  <a:pt x="388" y="731"/>
                  <a:pt x="387" y="841"/>
                  <a:pt x="386" y="9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213000" y="1503360"/>
            <a:ext cx="3636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1200" y="1733400"/>
            <a:ext cx="11088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643720" y="1627200"/>
            <a:ext cx="2044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81800" y="1727280"/>
            <a:ext cx="11088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283080" y="1641600"/>
            <a:ext cx="2458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13600" y="1720800"/>
            <a:ext cx="11088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066080" y="1655640"/>
            <a:ext cx="2030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26120" y="172080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16520" y="4673520"/>
            <a:ext cx="2106720" cy="1654200"/>
          </a:xfrm>
          <a:custGeom>
            <a:avLst/>
            <a:gdLst/>
            <a:ahLst/>
            <a:rect l="l" t="t" r="r" b="b"/>
            <a:pathLst>
              <a:path w="1400" h="1006">
                <a:moveTo>
                  <a:pt x="48" y="0"/>
                </a:moveTo>
                <a:cubicBezTo>
                  <a:pt x="24" y="88"/>
                  <a:pt x="0" y="177"/>
                  <a:pt x="76" y="229"/>
                </a:cubicBezTo>
                <a:cubicBezTo>
                  <a:pt x="152" y="281"/>
                  <a:pt x="309" y="267"/>
                  <a:pt x="505" y="311"/>
                </a:cubicBezTo>
                <a:cubicBezTo>
                  <a:pt x="701" y="355"/>
                  <a:pt x="1110" y="378"/>
                  <a:pt x="1255" y="494"/>
                </a:cubicBezTo>
                <a:cubicBezTo>
                  <a:pt x="1400" y="610"/>
                  <a:pt x="1387" y="808"/>
                  <a:pt x="1374" y="10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550200" y="5784840"/>
            <a:ext cx="43488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83240" y="5937120"/>
            <a:ext cx="11124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81640" y="4673520"/>
            <a:ext cx="1803240" cy="1654200"/>
          </a:xfrm>
          <a:custGeom>
            <a:avLst/>
            <a:gdLst/>
            <a:ahLst/>
            <a:rect l="l" t="t" r="r" b="b"/>
            <a:pathLst>
              <a:path w="1081" h="1070">
                <a:moveTo>
                  <a:pt x="112" y="0"/>
                </a:moveTo>
                <a:cubicBezTo>
                  <a:pt x="56" y="124"/>
                  <a:pt x="0" y="249"/>
                  <a:pt x="130" y="347"/>
                </a:cubicBezTo>
                <a:cubicBezTo>
                  <a:pt x="260" y="445"/>
                  <a:pt x="731" y="465"/>
                  <a:pt x="889" y="585"/>
                </a:cubicBezTo>
                <a:cubicBezTo>
                  <a:pt x="1047" y="705"/>
                  <a:pt x="1064" y="887"/>
                  <a:pt x="1081" y="10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874840" y="5778360"/>
            <a:ext cx="28908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07160" y="5931000"/>
            <a:ext cx="11088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66960" y="591984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1200" y="4673520"/>
            <a:ext cx="885600" cy="1654200"/>
          </a:xfrm>
          <a:custGeom>
            <a:avLst/>
            <a:gdLst/>
            <a:ahLst/>
            <a:rect l="l" t="t" r="r" b="b"/>
            <a:pathLst>
              <a:path w="576" h="1042">
                <a:moveTo>
                  <a:pt x="576" y="0"/>
                </a:moveTo>
                <a:cubicBezTo>
                  <a:pt x="571" y="134"/>
                  <a:pt x="566" y="268"/>
                  <a:pt x="485" y="375"/>
                </a:cubicBezTo>
                <a:cubicBezTo>
                  <a:pt x="404" y="482"/>
                  <a:pt x="173" y="529"/>
                  <a:pt x="92" y="640"/>
                </a:cubicBezTo>
                <a:cubicBezTo>
                  <a:pt x="11" y="751"/>
                  <a:pt x="5" y="896"/>
                  <a:pt x="0" y="10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862000" y="5726160"/>
            <a:ext cx="3906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09840" y="4673520"/>
            <a:ext cx="1328760" cy="1654200"/>
          </a:xfrm>
          <a:custGeom>
            <a:avLst/>
            <a:gdLst/>
            <a:ahLst/>
            <a:rect l="l" t="t" r="r" b="b"/>
            <a:pathLst>
              <a:path w="745" h="1042">
                <a:moveTo>
                  <a:pt x="722" y="0"/>
                </a:moveTo>
                <a:cubicBezTo>
                  <a:pt x="733" y="96"/>
                  <a:pt x="745" y="193"/>
                  <a:pt x="649" y="293"/>
                </a:cubicBezTo>
                <a:cubicBezTo>
                  <a:pt x="553" y="393"/>
                  <a:pt x="254" y="478"/>
                  <a:pt x="146" y="603"/>
                </a:cubicBezTo>
                <a:cubicBezTo>
                  <a:pt x="38" y="728"/>
                  <a:pt x="19" y="885"/>
                  <a:pt x="0" y="10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17760" y="4680000"/>
            <a:ext cx="1952640" cy="1654200"/>
          </a:xfrm>
          <a:custGeom>
            <a:avLst/>
            <a:gdLst/>
            <a:ahLst/>
            <a:rect l="l" t="t" r="r" b="b"/>
            <a:pathLst>
              <a:path w="745" h="1042">
                <a:moveTo>
                  <a:pt x="722" y="0"/>
                </a:moveTo>
                <a:cubicBezTo>
                  <a:pt x="733" y="96"/>
                  <a:pt x="745" y="193"/>
                  <a:pt x="649" y="293"/>
                </a:cubicBezTo>
                <a:cubicBezTo>
                  <a:pt x="553" y="393"/>
                  <a:pt x="254" y="478"/>
                  <a:pt x="146" y="603"/>
                </a:cubicBezTo>
                <a:cubicBezTo>
                  <a:pt x="38" y="728"/>
                  <a:pt x="19" y="885"/>
                  <a:pt x="0" y="10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44920" y="10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744240" y="108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97200" y="1073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35400" y="1073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30480" y="105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8440" y="105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11760" y="107316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8120" y="10796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21280" y="48880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73600" y="2681280"/>
            <a:ext cx="318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C0D-B6D9-41CE-B607-D457C9CBC5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Monotype Corsiva"/>
              </a:rPr>
              <a:t>0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(8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4200" y="806400"/>
            <a:ext cx="4492440" cy="5108400"/>
            <a:chOff x="754200" y="806400"/>
            <a:chExt cx="4492440" cy="5108400"/>
          </a:xfrm>
        </p:grpSpPr>
        <p:sp>
          <p:nvSpPr>
            <p:cNvPr id="547" name=""/>
            <p:cNvSpPr/>
            <p:nvPr/>
          </p:nvSpPr>
          <p:spPr>
            <a:xfrm>
              <a:off x="1838160" y="3500280"/>
              <a:ext cx="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4200" y="1709640"/>
              <a:ext cx="1915920" cy="1770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40000" y="110664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3200" y="35067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00760" y="3498840"/>
              <a:ext cx="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63880" y="812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98640" y="111276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2680" y="111456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30720" y="1730520"/>
              <a:ext cx="1915920" cy="1769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4)=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(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16520" y="1127160"/>
              <a:ext cx="32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478040" y="1103400"/>
              <a:ext cx="111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592080" y="1149480"/>
              <a:ext cx="111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16760" y="814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55640" y="843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88800" y="80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94960" y="820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59400" y="352116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79560" y="348624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36760" y="347832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322000" y="386244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1320" y="3800520"/>
              <a:ext cx="11088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09720" y="3780000"/>
              <a:ext cx="11088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57240" y="3833640"/>
              <a:ext cx="1771920" cy="225720"/>
            </a:xfrm>
            <a:custGeom>
              <a:avLst/>
              <a:gdLst/>
              <a:ahLst/>
              <a:rect l="l" t="t" r="r" b="b"/>
              <a:pathLst>
                <a:path w="1015" h="124">
                  <a:moveTo>
                    <a:pt x="1015" y="0"/>
                  </a:moveTo>
                  <a:cubicBezTo>
                    <a:pt x="816" y="57"/>
                    <a:pt x="617" y="114"/>
                    <a:pt x="448" y="119"/>
                  </a:cubicBezTo>
                  <a:cubicBezTo>
                    <a:pt x="279" y="124"/>
                    <a:pt x="139" y="76"/>
                    <a:pt x="0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52600" y="3848040"/>
              <a:ext cx="2190600" cy="455760"/>
            </a:xfrm>
            <a:custGeom>
              <a:avLst/>
              <a:gdLst/>
              <a:ahLst/>
              <a:rect l="l" t="t" r="r" b="b"/>
              <a:pathLst>
                <a:path w="1664" h="250">
                  <a:moveTo>
                    <a:pt x="1664" y="0"/>
                  </a:moveTo>
                  <a:cubicBezTo>
                    <a:pt x="1500" y="122"/>
                    <a:pt x="1337" y="244"/>
                    <a:pt x="1060" y="247"/>
                  </a:cubicBezTo>
                  <a:cubicBezTo>
                    <a:pt x="783" y="250"/>
                    <a:pt x="391" y="134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032360" y="1125360"/>
              <a:ext cx="3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95200" y="826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31600" y="814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1445760" y="1106640"/>
              <a:ext cx="111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90240" y="82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71960" y="3513240"/>
              <a:ext cx="0" cy="12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38200" y="3492360"/>
              <a:ext cx="0" cy="12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95320" y="3807000"/>
              <a:ext cx="111240" cy="117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80960" y="3828960"/>
              <a:ext cx="111240" cy="11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01880" y="3851280"/>
              <a:ext cx="2641320" cy="716040"/>
            </a:xfrm>
            <a:custGeom>
              <a:avLst/>
              <a:gdLst/>
              <a:ahLst/>
              <a:rect l="l" t="t" r="r" b="b"/>
              <a:pathLst>
                <a:path w="1664" h="451">
                  <a:moveTo>
                    <a:pt x="1664" y="0"/>
                  </a:moveTo>
                  <a:cubicBezTo>
                    <a:pt x="1583" y="222"/>
                    <a:pt x="1502" y="445"/>
                    <a:pt x="1225" y="448"/>
                  </a:cubicBezTo>
                  <a:cubicBezTo>
                    <a:pt x="948" y="451"/>
                    <a:pt x="474" y="235"/>
                    <a:pt x="0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360000" y="511596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6543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6200000">
              <a:off x="911160" y="505044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543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6200000">
              <a:off x="1369080" y="4978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43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1928160" y="490608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3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3314520" y="4877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3830760" y="48038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4353480" y="47664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4855680" y="4695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749920" y="1147680"/>
            <a:ext cx="30416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210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C2F-F622-4985-927F-69E9BE859E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cribing Stru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ock dia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s are represented by blocks interconnected by lines representing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1895400" y="3403440"/>
            <a:ext cx="944640" cy="108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1120" y="3403440"/>
            <a:ext cx="944640" cy="108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0040" y="3618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40480" y="4478400"/>
            <a:ext cx="858600" cy="6969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5760" y="420048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65760" y="3618000"/>
            <a:ext cx="20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40040" y="42004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420048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30560" y="5014800"/>
            <a:ext cx="259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20048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667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99080" y="4824360"/>
            <a:ext cx="41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2080" y="361800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431720" y="420048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2080" y="4838760"/>
            <a:ext cx="21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94240" y="420012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94240" y="420048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5760" y="34034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5760" y="4002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0600" y="4667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6960" y="340344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1000" y="460368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56840" y="3220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92040" y="38037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7560" y="46609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03200" y="468468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D53-CB26-49CF-B244-00D1BF683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>
            <a:off x="4879800" y="1546200"/>
            <a:ext cx="3924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84680" y="1422360"/>
            <a:ext cx="189000" cy="1481040"/>
          </a:xfrm>
          <a:custGeom>
            <a:avLst/>
            <a:gdLst/>
            <a:ahLst/>
            <a:rect l="l" t="t" r="r" b="b"/>
            <a:pathLst>
              <a:path w="119" h="933">
                <a:moveTo>
                  <a:pt x="119" y="0"/>
                </a:moveTo>
                <a:cubicBezTo>
                  <a:pt x="106" y="151"/>
                  <a:pt x="93" y="302"/>
                  <a:pt x="73" y="457"/>
                </a:cubicBezTo>
                <a:cubicBezTo>
                  <a:pt x="53" y="612"/>
                  <a:pt x="26" y="772"/>
                  <a:pt x="0" y="9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35680" y="1422360"/>
            <a:ext cx="704880" cy="1481040"/>
          </a:xfrm>
          <a:custGeom>
            <a:avLst/>
            <a:gdLst/>
            <a:ahLst/>
            <a:rect l="l" t="t" r="r" b="b"/>
            <a:pathLst>
              <a:path w="444" h="933">
                <a:moveTo>
                  <a:pt x="382" y="0"/>
                </a:moveTo>
                <a:cubicBezTo>
                  <a:pt x="413" y="114"/>
                  <a:pt x="444" y="228"/>
                  <a:pt x="391" y="347"/>
                </a:cubicBezTo>
                <a:cubicBezTo>
                  <a:pt x="338" y="466"/>
                  <a:pt x="124" y="615"/>
                  <a:pt x="62" y="713"/>
                </a:cubicBezTo>
                <a:cubicBezTo>
                  <a:pt x="0" y="811"/>
                  <a:pt x="8" y="872"/>
                  <a:pt x="16" y="9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Monotype Corsiva"/>
              </a:rPr>
              <a:t>1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(8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94" name=""/>
          <p:cNvSpPr/>
          <p:nvPr/>
        </p:nvSpPr>
        <p:spPr>
          <a:xfrm>
            <a:off x="3478320" y="2906640"/>
            <a:ext cx="1915920" cy="1770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0200" y="1401840"/>
            <a:ext cx="0" cy="4921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684760" y="1625760"/>
            <a:ext cx="3333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29320" y="1706400"/>
            <a:ext cx="11124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387160" y="5907240"/>
            <a:ext cx="42084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195880" y="5872320"/>
            <a:ext cx="52056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868560" y="5851440"/>
            <a:ext cx="665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5480" y="1136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77400" y="1114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87520" y="1114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09880" y="1128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2120" y="114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55680" y="1114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15800" y="113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598560" y="1135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03640" y="1422360"/>
            <a:ext cx="189000" cy="1481040"/>
          </a:xfrm>
          <a:custGeom>
            <a:avLst/>
            <a:gdLst/>
            <a:ahLst/>
            <a:rect l="l" t="t" r="r" b="b"/>
            <a:pathLst>
              <a:path w="119" h="933">
                <a:moveTo>
                  <a:pt x="0" y="0"/>
                </a:moveTo>
                <a:cubicBezTo>
                  <a:pt x="31" y="187"/>
                  <a:pt x="62" y="375"/>
                  <a:pt x="82" y="530"/>
                </a:cubicBezTo>
                <a:cubicBezTo>
                  <a:pt x="102" y="685"/>
                  <a:pt x="110" y="809"/>
                  <a:pt x="119" y="9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06520" y="1422360"/>
            <a:ext cx="1449360" cy="4905360"/>
          </a:xfrm>
          <a:custGeom>
            <a:avLst/>
            <a:gdLst/>
            <a:ahLst/>
            <a:rect l="l" t="t" r="r" b="b"/>
            <a:pathLst>
              <a:path w="913" h="3090">
                <a:moveTo>
                  <a:pt x="913" y="0"/>
                </a:moveTo>
                <a:cubicBezTo>
                  <a:pt x="601" y="337"/>
                  <a:pt x="290" y="674"/>
                  <a:pt x="145" y="1189"/>
                </a:cubicBezTo>
                <a:cubicBezTo>
                  <a:pt x="0" y="1704"/>
                  <a:pt x="22" y="2397"/>
                  <a:pt x="44" y="309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32440" y="1422360"/>
            <a:ext cx="595080" cy="4905360"/>
          </a:xfrm>
          <a:custGeom>
            <a:avLst/>
            <a:gdLst/>
            <a:ahLst/>
            <a:rect l="l" t="t" r="r" b="b"/>
            <a:pathLst>
              <a:path w="375" h="3090">
                <a:moveTo>
                  <a:pt x="128" y="0"/>
                </a:moveTo>
                <a:cubicBezTo>
                  <a:pt x="212" y="238"/>
                  <a:pt x="297" y="477"/>
                  <a:pt x="329" y="887"/>
                </a:cubicBezTo>
                <a:cubicBezTo>
                  <a:pt x="361" y="1297"/>
                  <a:pt x="375" y="2092"/>
                  <a:pt x="320" y="2459"/>
                </a:cubicBezTo>
                <a:cubicBezTo>
                  <a:pt x="265" y="2826"/>
                  <a:pt x="132" y="2958"/>
                  <a:pt x="0" y="309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90880" y="1422360"/>
            <a:ext cx="1709640" cy="4890960"/>
          </a:xfrm>
          <a:custGeom>
            <a:avLst/>
            <a:gdLst/>
            <a:ahLst/>
            <a:rect l="l" t="t" r="r" b="b"/>
            <a:pathLst>
              <a:path w="1077" h="3081">
                <a:moveTo>
                  <a:pt x="966" y="0"/>
                </a:moveTo>
                <a:cubicBezTo>
                  <a:pt x="1021" y="94"/>
                  <a:pt x="1077" y="188"/>
                  <a:pt x="948" y="320"/>
                </a:cubicBezTo>
                <a:cubicBezTo>
                  <a:pt x="819" y="452"/>
                  <a:pt x="334" y="484"/>
                  <a:pt x="189" y="795"/>
                </a:cubicBezTo>
                <a:cubicBezTo>
                  <a:pt x="44" y="1106"/>
                  <a:pt x="0" y="1804"/>
                  <a:pt x="79" y="2185"/>
                </a:cubicBezTo>
                <a:cubicBezTo>
                  <a:pt x="158" y="2566"/>
                  <a:pt x="411" y="2823"/>
                  <a:pt x="664" y="308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86320" y="4687920"/>
            <a:ext cx="270000" cy="1639800"/>
          </a:xfrm>
          <a:custGeom>
            <a:avLst/>
            <a:gdLst/>
            <a:ahLst/>
            <a:rect l="l" t="t" r="r" b="b"/>
            <a:pathLst>
              <a:path w="170" h="1033">
                <a:moveTo>
                  <a:pt x="170" y="0"/>
                </a:moveTo>
                <a:cubicBezTo>
                  <a:pt x="109" y="293"/>
                  <a:pt x="48" y="587"/>
                  <a:pt x="24" y="759"/>
                </a:cubicBezTo>
                <a:cubicBezTo>
                  <a:pt x="0" y="931"/>
                  <a:pt x="12" y="982"/>
                  <a:pt x="24" y="1033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091120" y="4673520"/>
            <a:ext cx="650880" cy="1668600"/>
          </a:xfrm>
          <a:custGeom>
            <a:avLst/>
            <a:gdLst/>
            <a:ahLst/>
            <a:rect l="l" t="t" r="r" b="b"/>
            <a:pathLst>
              <a:path w="410" h="1051">
                <a:moveTo>
                  <a:pt x="0" y="0"/>
                </a:moveTo>
                <a:cubicBezTo>
                  <a:pt x="65" y="119"/>
                  <a:pt x="130" y="239"/>
                  <a:pt x="192" y="311"/>
                </a:cubicBezTo>
                <a:cubicBezTo>
                  <a:pt x="254" y="383"/>
                  <a:pt x="340" y="307"/>
                  <a:pt x="375" y="430"/>
                </a:cubicBezTo>
                <a:cubicBezTo>
                  <a:pt x="410" y="553"/>
                  <a:pt x="406" y="802"/>
                  <a:pt x="402" y="1051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5680" y="4687920"/>
            <a:ext cx="1568520" cy="1639800"/>
          </a:xfrm>
          <a:custGeom>
            <a:avLst/>
            <a:gdLst/>
            <a:ahLst/>
            <a:rect l="l" t="t" r="r" b="b"/>
            <a:pathLst>
              <a:path w="988" h="1033">
                <a:moveTo>
                  <a:pt x="988" y="0"/>
                </a:moveTo>
                <a:cubicBezTo>
                  <a:pt x="894" y="135"/>
                  <a:pt x="800" y="270"/>
                  <a:pt x="658" y="384"/>
                </a:cubicBezTo>
                <a:cubicBezTo>
                  <a:pt x="516" y="498"/>
                  <a:pt x="247" y="578"/>
                  <a:pt x="137" y="686"/>
                </a:cubicBezTo>
                <a:cubicBezTo>
                  <a:pt x="27" y="794"/>
                  <a:pt x="13" y="913"/>
                  <a:pt x="0" y="1033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6680" y="4659480"/>
            <a:ext cx="2252520" cy="1668240"/>
          </a:xfrm>
          <a:custGeom>
            <a:avLst/>
            <a:gdLst/>
            <a:ahLst/>
            <a:rect l="l" t="t" r="r" b="b"/>
            <a:pathLst>
              <a:path w="1419" h="1051">
                <a:moveTo>
                  <a:pt x="1390" y="0"/>
                </a:moveTo>
                <a:cubicBezTo>
                  <a:pt x="1404" y="59"/>
                  <a:pt x="1419" y="119"/>
                  <a:pt x="1226" y="238"/>
                </a:cubicBezTo>
                <a:cubicBezTo>
                  <a:pt x="1033" y="357"/>
                  <a:pt x="433" y="578"/>
                  <a:pt x="229" y="713"/>
                </a:cubicBezTo>
                <a:cubicBezTo>
                  <a:pt x="25" y="848"/>
                  <a:pt x="12" y="949"/>
                  <a:pt x="0" y="1051"/>
                </a:cubicBezTo>
              </a:path>
            </a:pathLst>
          </a:cu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73560" y="6053040"/>
            <a:ext cx="11124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84680" y="6046920"/>
            <a:ext cx="11088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13000" y="6049800"/>
            <a:ext cx="11124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92680" y="169704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03640" y="171936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203360" y="1538280"/>
            <a:ext cx="3920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65480" y="1436760"/>
            <a:ext cx="662040" cy="1450800"/>
          </a:xfrm>
          <a:custGeom>
            <a:avLst/>
            <a:gdLst/>
            <a:ahLst/>
            <a:rect l="l" t="t" r="r" b="b"/>
            <a:pathLst>
              <a:path w="417" h="914">
                <a:moveTo>
                  <a:pt x="52" y="0"/>
                </a:moveTo>
                <a:cubicBezTo>
                  <a:pt x="26" y="24"/>
                  <a:pt x="0" y="49"/>
                  <a:pt x="61" y="201"/>
                </a:cubicBezTo>
                <a:cubicBezTo>
                  <a:pt x="122" y="353"/>
                  <a:pt x="269" y="633"/>
                  <a:pt x="417" y="9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11560" y="1697040"/>
            <a:ext cx="111240" cy="11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296880" y="1517760"/>
            <a:ext cx="39204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625-1B9C-4B9A-B718-814544F713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sign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560" y="94788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CLA adders of 4-bit, 8-bit, 16-bit, 32-bit, and 64-bit using structural VHDL mode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 behavioral model of Brent-Kung circu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2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1(32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03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64) using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2)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495-C4A3-4680-8FC5-C1619D9EC3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ierarchy of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9" name=""/>
          <p:cNvSpPr/>
          <p:nvPr/>
        </p:nvSpPr>
        <p:spPr>
          <a:xfrm>
            <a:off x="3056040" y="1332000"/>
            <a:ext cx="1900080" cy="97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_adder.v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327040" y="2146320"/>
            <a:ext cx="94284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27400" y="2843280"/>
            <a:ext cx="0" cy="11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82720" y="3967200"/>
            <a:ext cx="121932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2.v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53160" y="2146320"/>
            <a:ext cx="105876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11920" y="2800440"/>
            <a:ext cx="442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25880" y="3263760"/>
            <a:ext cx="2105280" cy="711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lf_adder.v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68720" y="4757760"/>
            <a:ext cx="121932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2.v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78200" y="3830760"/>
            <a:ext cx="60984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78200" y="426564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46760" y="4749840"/>
            <a:ext cx="121932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or2.v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7520" y="3757680"/>
            <a:ext cx="46512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62640" y="416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840" y="5616720"/>
            <a:ext cx="8951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y of models used in the full 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the lowest level, a behavioral description mus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800" y="1814400"/>
            <a:ext cx="0" cy="33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82160" y="1359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- top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3160" y="528480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- bottom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8D1-9258-4772-B977-DDC317641D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  of a Half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34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or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1: 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x, y=&gt;y, z=&gt;sum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1: 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x, y=&gt;y, z=&gt;carry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401760" y="4638600"/>
            <a:ext cx="83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may be a many levels of hierarchy in structu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ehavioral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015-66B3-4ED0-ADAE-0A23202EBC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latte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simulator loads the hierarchy of structural model, it replace each component by its behavioral descri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 is repeated at each level of hierarch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called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latte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hierarch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tening of the all hierarchy may result in a very complicated behavioral description of a very complex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may take too lo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ing hierarchy in a structural model is a way of managing very complex syste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s can be simulated in isol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945-097E-483B-A6CA-FAA3FAB32DC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rameterized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onstruct parameterized mode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use 5 ns delay for your 2-input and gates in your mod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s to developments in the technology, you would like to simulate your model using 1 ns  propagation delay for your 2-input and g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hard to change the delay of every 2-input gate delays manu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o be able to decide delay values at simulation time rather than design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ized models are useful in creating libraries of models that can be shared and reu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E0A-E90D-42C9-81A8-5CAE60A9C7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ic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38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EE.std_logic_1164.al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= 2n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z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xo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&lt;= (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y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298440" y="5070600"/>
            <a:ext cx="848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fault delay for xor2 gate is 2 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ate delay can be specified at the time of its use (during declaration or instantiation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14840" y="2017800"/>
            <a:ext cx="944640" cy="1261800"/>
          </a:xfrm>
          <a:custGeom>
            <a:avLst/>
            <a:gdLst/>
            <a:ahLst/>
            <a:rect l="l" t="t" r="r" b="b"/>
            <a:pathLst>
              <a:path w="595" h="795">
                <a:moveTo>
                  <a:pt x="0" y="64"/>
                </a:moveTo>
                <a:cubicBezTo>
                  <a:pt x="194" y="32"/>
                  <a:pt x="388" y="0"/>
                  <a:pt x="457" y="91"/>
                </a:cubicBezTo>
                <a:cubicBezTo>
                  <a:pt x="526" y="182"/>
                  <a:pt x="389" y="495"/>
                  <a:pt x="412" y="612"/>
                </a:cubicBezTo>
                <a:cubicBezTo>
                  <a:pt x="435" y="729"/>
                  <a:pt x="515" y="762"/>
                  <a:pt x="595" y="7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04040" y="36720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xor gate is defined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 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245-DD7F-46AD-8164-8F3C52991B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ic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9" name=""/>
          <p:cNvSpPr/>
          <p:nvPr/>
        </p:nvSpPr>
        <p:spPr>
          <a:xfrm>
            <a:off x="333360" y="1442880"/>
            <a:ext cx="8412120" cy="43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or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= 3 n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1: xor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ate_delay =&gt; 6 n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=&gt;x, y=&gt;y, z=&gt;s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1: and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=&gt;x, y=&gt;y, z=&gt;car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D3F-1D62-4FFE-A1F5-944880DF54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pecifying Generics Consta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component declara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generi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=3 n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por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; z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component instantiatio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1: xo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gate_delay =&gt; 6 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=&gt;x, y=&gt;y, z=&gt;sum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both are specified, the value provided in the component instanti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s precedenc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ither is specified, the default value defined in the entity is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B40-A844-445C-80C4-8FE44D83D5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Passing Generic Values through Hierarchy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1164.a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3ns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sum, 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lf_add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or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1: 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a, y=&gt;b, z=&gt;sum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: 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a, y=&gt;b, z=&gt;carry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0BC-2ECA-4BE4-87CD-07B8B27F2D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ll Adder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7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ssume that we have the description of half adders and or g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ually, we are not interested in the internal behavior of these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nnect them, what we need is the interface of each compon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15840" y="3902040"/>
            <a:ext cx="2576520" cy="1625760"/>
            <a:chOff x="915840" y="3902040"/>
            <a:chExt cx="2576520" cy="1625760"/>
          </a:xfrm>
        </p:grpSpPr>
        <p:sp>
          <p:nvSpPr>
            <p:cNvPr id="76" name=""/>
            <p:cNvSpPr/>
            <p:nvPr/>
          </p:nvSpPr>
          <p:spPr>
            <a:xfrm>
              <a:off x="1414440" y="3902040"/>
              <a:ext cx="1582920" cy="162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98800" y="5119560"/>
              <a:ext cx="48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5280" y="4241880"/>
              <a:ext cx="48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5840" y="5154480"/>
              <a:ext cx="48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276800"/>
              <a:ext cx="48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4600" y="4087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4320" y="49514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6000" y="4052880"/>
              <a:ext cx="69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22280" y="485784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30640" y="4106880"/>
            <a:ext cx="2592360" cy="1265400"/>
            <a:chOff x="5030640" y="4106880"/>
            <a:chExt cx="2592360" cy="1265400"/>
          </a:xfrm>
        </p:grpSpPr>
        <p:sp>
          <p:nvSpPr>
            <p:cNvPr id="86" name=""/>
            <p:cNvSpPr/>
            <p:nvPr/>
          </p:nvSpPr>
          <p:spPr>
            <a:xfrm>
              <a:off x="5348160" y="4106880"/>
              <a:ext cx="1787760" cy="126540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40" y="15"/>
                  </a:moveTo>
                  <a:cubicBezTo>
                    <a:pt x="35" y="23"/>
                    <a:pt x="25" y="28"/>
                    <a:pt x="12" y="30"/>
                  </a:cubicBezTo>
                  <a:lnTo>
                    <a:pt x="12" y="30"/>
                  </a:lnTo>
                  <a:lnTo>
                    <a:pt x="0" y="30"/>
                  </a:lnTo>
                  <a:cubicBezTo>
                    <a:pt x="8" y="21"/>
                    <a:pt x="8" y="10"/>
                    <a:pt x="0" y="0"/>
                  </a:cubicBezTo>
                  <a:lnTo>
                    <a:pt x="0" y="0"/>
                  </a:lnTo>
                  <a:lnTo>
                    <a:pt x="12" y="0"/>
                  </a:lnTo>
                  <a:cubicBezTo>
                    <a:pt x="25" y="2"/>
                    <a:pt x="35" y="8"/>
                    <a:pt x="40" y="15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038560" y="5116320"/>
              <a:ext cx="4874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30640" y="4365720"/>
              <a:ext cx="48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79640" y="41688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9000" y="49039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35920" y="4743360"/>
              <a:ext cx="48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67560" y="454824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84840" y="5651640"/>
            <a:ext cx="84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mponent, signal and ports of compon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n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C6B-4E27-428C-927B-6D003ECC5F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Passing Generic Values through Hierarchy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381880" cy="11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1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 =&gt; 6 n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=&gt; in1, b =&gt; in2, sum =&gt; s1, carry=&gt;s2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268200" y="2797200"/>
            <a:ext cx="3984840" cy="14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1: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: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68680" y="2790720"/>
            <a:ext cx="3984840" cy="14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1: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1: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86400" y="4919760"/>
            <a:ext cx="4362480" cy="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or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2ns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);--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000" y="4941720"/>
            <a:ext cx="4130640" cy="7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2ns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)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25760" y="1465200"/>
            <a:ext cx="209520" cy="1465200"/>
          </a:xfrm>
          <a:custGeom>
            <a:avLst/>
            <a:gdLst/>
            <a:ahLst/>
            <a:rect l="l" t="t" r="r" b="b"/>
            <a:pathLst>
              <a:path w="132" h="923">
                <a:moveTo>
                  <a:pt x="27" y="0"/>
                </a:moveTo>
                <a:cubicBezTo>
                  <a:pt x="79" y="206"/>
                  <a:pt x="132" y="413"/>
                  <a:pt x="128" y="567"/>
                </a:cubicBezTo>
                <a:cubicBezTo>
                  <a:pt x="124" y="721"/>
                  <a:pt x="62" y="822"/>
                  <a:pt x="0" y="92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68600" y="1465200"/>
            <a:ext cx="4165560" cy="1552680"/>
          </a:xfrm>
          <a:custGeom>
            <a:avLst/>
            <a:gdLst/>
            <a:ahLst/>
            <a:rect l="l" t="t" r="r" b="b"/>
            <a:pathLst>
              <a:path w="2624" h="978">
                <a:moveTo>
                  <a:pt x="0" y="0"/>
                </a:moveTo>
                <a:cubicBezTo>
                  <a:pt x="751" y="202"/>
                  <a:pt x="1502" y="404"/>
                  <a:pt x="1939" y="567"/>
                </a:cubicBezTo>
                <a:cubicBezTo>
                  <a:pt x="2376" y="730"/>
                  <a:pt x="2500" y="854"/>
                  <a:pt x="2624" y="97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56880" y="2490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99280" y="2228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57240" y="1900080"/>
            <a:ext cx="349200" cy="1001880"/>
          </a:xfrm>
          <a:custGeom>
            <a:avLst/>
            <a:gdLst/>
            <a:ahLst/>
            <a:rect l="l" t="t" r="r" b="b"/>
            <a:pathLst>
              <a:path w="220" h="631">
                <a:moveTo>
                  <a:pt x="220" y="0"/>
                </a:moveTo>
                <a:cubicBezTo>
                  <a:pt x="220" y="0"/>
                  <a:pt x="110" y="315"/>
                  <a:pt x="0" y="631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20840" y="1900080"/>
            <a:ext cx="6415200" cy="1247760"/>
          </a:xfrm>
          <a:custGeom>
            <a:avLst/>
            <a:gdLst/>
            <a:ahLst/>
            <a:rect l="l" t="t" r="r" b="b"/>
            <a:pathLst>
              <a:path w="4041" h="786">
                <a:moveTo>
                  <a:pt x="0" y="0"/>
                </a:moveTo>
                <a:cubicBezTo>
                  <a:pt x="503" y="105"/>
                  <a:pt x="1006" y="211"/>
                  <a:pt x="1600" y="283"/>
                </a:cubicBezTo>
                <a:cubicBezTo>
                  <a:pt x="2194" y="355"/>
                  <a:pt x="3159" y="346"/>
                  <a:pt x="3566" y="430"/>
                </a:cubicBezTo>
                <a:cubicBezTo>
                  <a:pt x="3973" y="514"/>
                  <a:pt x="4007" y="650"/>
                  <a:pt x="4041" y="78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06200" y="2295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7000" y="2289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6240" y="3990960"/>
            <a:ext cx="261720" cy="971640"/>
          </a:xfrm>
          <a:custGeom>
            <a:avLst/>
            <a:gdLst/>
            <a:ahLst/>
            <a:rect l="l" t="t" r="r" b="b"/>
            <a:pathLst>
              <a:path w="165" h="612">
                <a:moveTo>
                  <a:pt x="0" y="0"/>
                </a:moveTo>
                <a:cubicBezTo>
                  <a:pt x="0" y="0"/>
                  <a:pt x="82" y="306"/>
                  <a:pt x="165" y="6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75480" y="437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108400" y="3294000"/>
            <a:ext cx="1785960" cy="1790640"/>
          </a:xfrm>
          <a:custGeom>
            <a:avLst/>
            <a:gdLst/>
            <a:ahLst/>
            <a:rect l="l" t="t" r="r" b="b"/>
            <a:pathLst>
              <a:path w="1125" h="1128">
                <a:moveTo>
                  <a:pt x="0" y="0"/>
                </a:moveTo>
                <a:cubicBezTo>
                  <a:pt x="379" y="377"/>
                  <a:pt x="759" y="754"/>
                  <a:pt x="942" y="941"/>
                </a:cubicBezTo>
                <a:cubicBezTo>
                  <a:pt x="1125" y="1128"/>
                  <a:pt x="1111" y="1126"/>
                  <a:pt x="1097" y="1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80800" y="441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2520" y="587232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eneric value coming from the upper level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y overrides the other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9840" y="7016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_adder.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48000" y="246204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lf_adder.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22480" y="45813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or2.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766640" y="45878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2.v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510-D6E9-4B7C-A886-25B78FB10B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-input AND Ga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03040" y="990360"/>
            <a:ext cx="8715600" cy="40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:natural:=2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n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g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out: std_logic :=‘1’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out := ‘1’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on an input signal transition it must be set to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out := and_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(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out = ‘0’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loop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z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= and_ou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292320" y="5248440"/>
            <a:ext cx="5179320" cy="10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:integer:=2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_g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C19-8007-4471-AAE4-88CE565980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other_gen_e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other_gen_e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other_gen_e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omponent declaration for the gat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d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:natural:=5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n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:integer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)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, s2, s3, s4: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: std_logic_vector(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b: std_logic_vector(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: std_logic_vector(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d: std_logic_vector(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omponent instantiations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1: or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6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d, s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1: and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 =&gt; 10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c, s3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2: and_g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a, s4)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size mismatch; but still leg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o2: or_gate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(sb, s2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illeg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4A7-5912-47B9-802A-23C3E2C300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-bit Regi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90000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_re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sitiv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2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, enable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d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n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q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n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)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_re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generic_re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&lt;=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&lt;= d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if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_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278280" y="607392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e statem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 &lt;=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1A3-91AC-4623-998E-389B99C23B6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Trace of the Operation of a 2-bit Register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304920" y="1062000"/>
            <a:ext cx="8381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F3E-C4CE-41E1-8DD5-C697D6741D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onent Instantiation &amp; Synthesi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al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to instantiate specific components enables us to use previously synthesized and optimized implementation of common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implementation may be provided by the vendors, other design groups, or by yourself from a previous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ance critical components may be manually placed and routed to a specific target de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ual place-and-routing is time-consum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ors may take time to manually place and route key components such as adders/subtractors, shifters, counters, etc. and they provide those components in design libr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8E6-9CF2-4FDA-B19C-0B0ED1FC78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re Generat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AD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you select and then configure the components of your cho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D tool will then generate a synthesizeable model of this component and corresponding VHDL mod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D tools generally do a good job of producing models that will generate highly optimized implementations for the target FPGA de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re Generato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LogiBLO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Xilinx Foundation are such too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0D9-ABB7-4782-9BB8-ECC6D869DB5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re Genera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147-059E-4717-88BE-30697A31CD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re Genera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03C-F9C6-4852-BDBE-6472C3569A1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Xilinx Foundation LogiBL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372-2DEA-4A64-A570-4604BCB6BDD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necting Compon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ly labeling components to distinguish among multiple instances of the same compon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of signals connecting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y how signals are connected to ports of compon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8B3-91A4-4C85-85A0-7547CB9E4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Xilinx Foundation LogiBL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C02-2A9D-490F-AFD5-CF8C7A00DD8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Xilinx Foundation LogiBL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F87-BC02-4E98-925F-B5C0289BD2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ddsub8.vhi Fi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LogiBLOX ADD_SUB Module "addsub8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Created by LogiBLOX version E.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on Sun Nov 02 17:37:55 200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Attribu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MODTYPE = ADD_SU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BUS_WIDTH = 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OPTYPE = ADD_SU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REGISTERED = N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ENCODING = SIGN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   STYLE = MAX_SPE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B7B-88E7-4A5C-AC67-981A4EE7DA4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ddsub8.vhi Fi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Component Declar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onent addsub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T(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_SUB: IN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_IN: IN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: IN std_logic_vector(7 DOWNTO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: IN std_logic_vector(7 DOWNTO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: OUT std_logic_vector(7 DOWNTO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FL: OUT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_OUT: OUT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Component Instanti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ance_name : addsub8 port ma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DD_SUB =&gt; ,C_IN =&gt; , A =&gt; , B =&gt; , SUM =&gt; , OVFL =&gt; ,C_OUT =&gt; 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CBD-0851-4EBC-91C3-09A3B7AB59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Xilinx Foundation LogiBL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ave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ince we do not have the license, LogiBLOX will only provide the model in EDF 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previous example, EDF format is saved in addsub8.EDO fi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4EF-B4D7-4D3B-B2DC-4F280D08F7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n Adder using addsub8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arry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a, b ,c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 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CarryOut, OverFlow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_ar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sub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DD_SUB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B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SU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OVFL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C_O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_adder : addsub8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ADD_SUB =&gt; ‘1’, C_IN =&gt; CarryIn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A =&gt; a, B =&gt; b,  SUM =&gt; c,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OVFL =&gt; OverFlow, C_OUT =&gt; CarryOut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_arc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3ED-C142-486B-AC2E-2C649E16FB5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n-Chip Oscilla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C4000 chips have an on-chip oscill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 generated from 8-MHz c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MHz, 500 KHz, 16 KHz, 490 Hz, 15 H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use the oscill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SC4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F8M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F500k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F15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SC4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low skew lines for distribution of global signals such as clo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; 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SC4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EF2-6C38-4FB7-8265-A54EE09F41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Distribu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y_clock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phi1, phi2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y_clock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y_clock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SC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we will use the on-chip oscilla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F8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8 MHz clo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F500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500 KHz clo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F15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15 Hz clo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F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O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ocal_F15, local_phi2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1: OSC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F15 =&gt; local_F15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1: BUF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 =&gt; local_F15, O =&gt; phi1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2: BUF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 =&gt; local_phi2, O =&gt; phi2)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al_phi2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al_F15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phi2 is the complement of phi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866-5397-4497-B706-450AA08DBD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Distribu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EDF-5347-4874-B474-D49F5A07EBA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lobal Set/Reset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obal set/reset signals throughput the ch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skew on chip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flip-flop can be configured to use set or reset functionality, but not bo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UP component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ARTU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GS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ARTU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synthesis the placement and routing of signals ensures that the reset signal will be connected to global set/reset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BA2-62B4-4F61-B811-078E3DF3886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0440" y="990720"/>
            <a:ext cx="8382240" cy="51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1, in2,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sum, c_o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sum, 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alf_add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_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r_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, s3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1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in1, y=&gt;in2, sum=&gt;s1, carry=&gt;s3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s1, y=&gt;c_in, sum=&gt;sum, carry=&gt;s2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1: or_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s2, y=&gt;s3, z=&gt;c_out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 of a Ful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11800" y="2757600"/>
            <a:ext cx="1854360" cy="1552320"/>
            <a:chOff x="4411800" y="2757600"/>
            <a:chExt cx="1854360" cy="1552320"/>
          </a:xfrm>
        </p:grpSpPr>
        <p:sp>
          <p:nvSpPr>
            <p:cNvPr id="99" name=""/>
            <p:cNvSpPr/>
            <p:nvPr/>
          </p:nvSpPr>
          <p:spPr>
            <a:xfrm>
              <a:off x="4411800" y="2757600"/>
              <a:ext cx="247680" cy="155232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40320 h 1552320"/>
                <a:gd name="textAreaBottom" fmla="*/ 1512000 h 155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16280" y="3152880"/>
              <a:ext cx="16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on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ecla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33760" y="4205160"/>
            <a:ext cx="1810080" cy="703800"/>
            <a:chOff x="4433760" y="4205160"/>
            <a:chExt cx="1810080" cy="703800"/>
          </a:xfrm>
        </p:grpSpPr>
        <p:sp>
          <p:nvSpPr>
            <p:cNvPr id="102" name=""/>
            <p:cNvSpPr/>
            <p:nvPr/>
          </p:nvSpPr>
          <p:spPr>
            <a:xfrm>
              <a:off x="4433760" y="4432320"/>
              <a:ext cx="262080" cy="376200"/>
            </a:xfrm>
            <a:custGeom>
              <a:avLst/>
              <a:gdLst>
                <a:gd name="textAreaLeft" fmla="*/ 0 w 262080"/>
                <a:gd name="textAreaRight" fmla="*/ 94680 w 262080"/>
                <a:gd name="textAreaTop" fmla="*/ 9720 h 376200"/>
                <a:gd name="textAreaBottom" fmla="*/ 36648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3960" y="4205160"/>
              <a:ext cx="16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g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ecla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379280" y="3786120"/>
            <a:ext cx="1684800" cy="2073240"/>
            <a:chOff x="7379280" y="3786120"/>
            <a:chExt cx="1684800" cy="2073240"/>
          </a:xfrm>
        </p:grpSpPr>
        <p:sp>
          <p:nvSpPr>
            <p:cNvPr id="105" name=""/>
            <p:cNvSpPr/>
            <p:nvPr/>
          </p:nvSpPr>
          <p:spPr>
            <a:xfrm>
              <a:off x="7664400" y="4946760"/>
              <a:ext cx="276120" cy="912600"/>
            </a:xfrm>
            <a:custGeom>
              <a:avLst/>
              <a:gdLst>
                <a:gd name="textAreaLeft" fmla="*/ 0 w 276120"/>
                <a:gd name="textAreaRight" fmla="*/ 99720 w 276120"/>
                <a:gd name="textAreaTop" fmla="*/ 23760 h 912600"/>
                <a:gd name="textAreaBottom" fmla="*/ 888840 h 91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9280" y="3786120"/>
              <a:ext cx="168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on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nstanti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at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40600" y="4775040"/>
              <a:ext cx="349200" cy="595440"/>
            </a:xfrm>
            <a:custGeom>
              <a:avLst/>
              <a:gdLst/>
              <a:ahLst/>
              <a:rect l="l" t="t" r="r" b="b"/>
              <a:pathLst>
                <a:path w="220" h="375">
                  <a:moveTo>
                    <a:pt x="0" y="375"/>
                  </a:moveTo>
                  <a:cubicBezTo>
                    <a:pt x="64" y="337"/>
                    <a:pt x="128" y="300"/>
                    <a:pt x="165" y="238"/>
                  </a:cubicBezTo>
                  <a:cubicBezTo>
                    <a:pt x="202" y="176"/>
                    <a:pt x="211" y="88"/>
                    <a:pt x="22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B33-45F8-4059-9EA0-58A560065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lobal Set/Reset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560" y="860400"/>
            <a:ext cx="8381880" cy="53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rtup_ex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lk, reset, x, y,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i1, phi2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rtup_exm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rtup_ex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RTU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declare the STARTUP compon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S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15 Hz clo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1: STARTU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SR =&gt; reset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k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et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 &lt;= ‘0’; s1 &lt;= ‘0’; s2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: s1 &lt;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2: s2 &lt;= 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3: w &lt;= 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9A5-E9A0-4137-8BEB-C11814A5689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85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l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560" y="847800"/>
            <a:ext cx="8381880" cy="54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ntity_nam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rch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onent1-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mponent1-name 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onent2-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mponent2-name 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ternal signal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 type:=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-- label each component and connect its ports to signals or entity por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1: component1-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ort=&gt;signal, ..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bel2: component2-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ort=&gt;signal, ...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current signal assignment-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current signal assignment-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-1: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-2:..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ch_nam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633-A363-459C-93C7-5DE74437658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t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al models are based on component instant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design may have large number of component instant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esign may have a very regular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bit register from D flip-fl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be convenient to have a tool that automatically generates many number of component instances in an easy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ool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n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4C1-51C0-4102-B27D-1240FB22F91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-bit Regi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din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qou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, clock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q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f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t0: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=&gt;din(0), q=&gt;qout(0), clock=&gt;clo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bit1: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=&gt;din(1), q=&gt;qout(1), clock=&gt;clo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bit2: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=&gt;din(2), q=&gt;qout(2), clock=&gt;clo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bit3: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=&gt;din(3), q=&gt;qout(3), clock=&gt;clock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443-CC51-4134-BCEB-83EEFF49036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-bit Register with Generat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i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ur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=16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din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n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clock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qou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n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, clock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q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f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eg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n’ran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g: 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in(i), clock, qout(i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gene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E17-9185-4DEA-B378-F11EEB4FA01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1285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33000" y="799920"/>
            <a:ext cx="8513640" cy="56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ways to model digital circ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entity may have more than one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ull adder using a half add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-1: behavioral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-2: structural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architecture is to be us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figur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icitly associate an architecture with a compon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cess is known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 instance of the component to an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187-9E89-488D-888B-1FF84F62EDE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Role of Configu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40" name=""/>
          <p:cNvSpPr/>
          <p:nvPr/>
        </p:nvSpPr>
        <p:spPr>
          <a:xfrm>
            <a:off x="3338640" y="1030320"/>
            <a:ext cx="1495440" cy="59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68600" y="1959120"/>
            <a:ext cx="30621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52320" y="2303640"/>
            <a:ext cx="7653240" cy="1804680"/>
            <a:chOff x="652320" y="2303640"/>
            <a:chExt cx="7653240" cy="1804680"/>
          </a:xfrm>
        </p:grpSpPr>
        <p:sp>
          <p:nvSpPr>
            <p:cNvPr id="743" name=""/>
            <p:cNvSpPr/>
            <p:nvPr/>
          </p:nvSpPr>
          <p:spPr>
            <a:xfrm>
              <a:off x="652320" y="3773520"/>
              <a:ext cx="751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25800" y="3425760"/>
              <a:ext cx="4092480" cy="6825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76920" y="2627280"/>
              <a:ext cx="812880" cy="928800"/>
            </a:xfrm>
            <a:custGeom>
              <a:avLst/>
              <a:gdLst/>
              <a:ahLst/>
              <a:rect l="l" t="t" r="r" b="b"/>
              <a:pathLst>
                <a:path w="512" h="585">
                  <a:moveTo>
                    <a:pt x="0" y="585"/>
                  </a:moveTo>
                  <a:cubicBezTo>
                    <a:pt x="7" y="423"/>
                    <a:pt x="15" y="261"/>
                    <a:pt x="100" y="164"/>
                  </a:cubicBezTo>
                  <a:cubicBezTo>
                    <a:pt x="185" y="67"/>
                    <a:pt x="348" y="33"/>
                    <a:pt x="5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07720" y="2303640"/>
              <a:ext cx="17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31920" y="4919760"/>
            <a:ext cx="3547800" cy="1011240"/>
            <a:chOff x="331920" y="4919760"/>
            <a:chExt cx="3547800" cy="1011240"/>
          </a:xfrm>
        </p:grpSpPr>
        <p:sp>
          <p:nvSpPr>
            <p:cNvPr id="748" name=""/>
            <p:cNvSpPr/>
            <p:nvPr/>
          </p:nvSpPr>
          <p:spPr>
            <a:xfrm>
              <a:off x="331920" y="5530680"/>
              <a:ext cx="987120" cy="392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7360" y="5522760"/>
              <a:ext cx="987480" cy="392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92600" y="5538960"/>
              <a:ext cx="98712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70040" y="4919760"/>
              <a:ext cx="134928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04560" y="4935600"/>
              <a:ext cx="7164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08320" y="4935600"/>
              <a:ext cx="10587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432320" y="4941720"/>
            <a:ext cx="3548160" cy="1011240"/>
            <a:chOff x="4432320" y="4941720"/>
            <a:chExt cx="3548160" cy="1011240"/>
          </a:xfrm>
        </p:grpSpPr>
        <p:sp>
          <p:nvSpPr>
            <p:cNvPr id="755" name=""/>
            <p:cNvSpPr/>
            <p:nvPr/>
          </p:nvSpPr>
          <p:spPr>
            <a:xfrm>
              <a:off x="4432320" y="5553000"/>
              <a:ext cx="98748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57760" y="5545080"/>
              <a:ext cx="98748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93000" y="5560920"/>
              <a:ext cx="987480" cy="392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arch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870440" y="4941720"/>
              <a:ext cx="134928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205680" y="4957920"/>
              <a:ext cx="7128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08720" y="4957920"/>
              <a:ext cx="105876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1616040" y="2278080"/>
            <a:ext cx="1330200" cy="2649600"/>
            <a:chOff x="1616040" y="2278080"/>
            <a:chExt cx="1330200" cy="2649600"/>
          </a:xfrm>
        </p:grpSpPr>
        <p:sp>
          <p:nvSpPr>
            <p:cNvPr id="762" name=""/>
            <p:cNvSpPr/>
            <p:nvPr/>
          </p:nvSpPr>
          <p:spPr>
            <a:xfrm>
              <a:off x="1616040" y="4535640"/>
              <a:ext cx="1219320" cy="39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2147760" y="2278080"/>
              <a:ext cx="798480" cy="22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3846600" y="2903400"/>
            <a:ext cx="3089160" cy="2046600"/>
            <a:chOff x="3846600" y="2903400"/>
            <a:chExt cx="3089160" cy="2046600"/>
          </a:xfrm>
        </p:grpSpPr>
        <p:sp>
          <p:nvSpPr>
            <p:cNvPr id="765" name=""/>
            <p:cNvSpPr/>
            <p:nvPr/>
          </p:nvSpPr>
          <p:spPr>
            <a:xfrm>
              <a:off x="5716440" y="4557600"/>
              <a:ext cx="1219320" cy="392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46600" y="2903400"/>
              <a:ext cx="2365200" cy="16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094-7E71-4E95-A7A2-9940013220A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8" name=""/>
          <p:cNvSpPr/>
          <p:nvPr/>
        </p:nvSpPr>
        <p:spPr>
          <a:xfrm>
            <a:off x="2643120" y="2452680"/>
            <a:ext cx="1611360" cy="13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299320" y="3294000"/>
            <a:ext cx="2831400" cy="1966680"/>
            <a:chOff x="2299320" y="3294000"/>
            <a:chExt cx="2831400" cy="1966680"/>
          </a:xfrm>
        </p:grpSpPr>
        <p:sp>
          <p:nvSpPr>
            <p:cNvPr id="770" name=""/>
            <p:cNvSpPr/>
            <p:nvPr/>
          </p:nvSpPr>
          <p:spPr>
            <a:xfrm flipH="1">
              <a:off x="3904560" y="4352760"/>
              <a:ext cx="11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299320" y="3294000"/>
              <a:ext cx="2831400" cy="1966680"/>
              <a:chOff x="2299320" y="3294000"/>
              <a:chExt cx="2831400" cy="1966680"/>
            </a:xfrm>
          </p:grpSpPr>
          <p:sp>
            <p:nvSpPr>
              <p:cNvPr id="772" name=""/>
              <p:cNvSpPr/>
              <p:nvPr/>
            </p:nvSpPr>
            <p:spPr>
              <a:xfrm>
                <a:off x="5036760" y="3294000"/>
                <a:ext cx="0" cy="10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20840" y="4078080"/>
                <a:ext cx="812520" cy="812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200000">
                <a:off x="3787920" y="4661280"/>
                <a:ext cx="158760" cy="144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080520" y="41893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09720" y="419868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933720" y="4744800"/>
                <a:ext cx="68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58760" y="453060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68600" y="4890960"/>
                <a:ext cx="8820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12880" y="499248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714040" y="5122800"/>
                <a:ext cx="79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322720" y="489240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299320" y="452916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Q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693880" y="4736880"/>
                <a:ext cx="42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809280" y="2478240"/>
            <a:ext cx="1854720" cy="862560"/>
            <a:chOff x="809280" y="2478240"/>
            <a:chExt cx="1854720" cy="862560"/>
          </a:xfrm>
        </p:grpSpPr>
        <p:sp>
          <p:nvSpPr>
            <p:cNvPr id="786" name=""/>
            <p:cNvSpPr/>
            <p:nvPr/>
          </p:nvSpPr>
          <p:spPr>
            <a:xfrm>
              <a:off x="1306800" y="269892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27320" y="312912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7720" y="2478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9280" y="29419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257720" y="2565360"/>
            <a:ext cx="1821240" cy="398880"/>
            <a:chOff x="4257720" y="2565360"/>
            <a:chExt cx="1821240" cy="398880"/>
          </a:xfrm>
        </p:grpSpPr>
        <p:sp>
          <p:nvSpPr>
            <p:cNvPr id="791" name=""/>
            <p:cNvSpPr/>
            <p:nvPr/>
          </p:nvSpPr>
          <p:spPr>
            <a:xfrm>
              <a:off x="4257720" y="272088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79440" y="256536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253040" y="2927520"/>
            <a:ext cx="821880" cy="398880"/>
            <a:chOff x="4253040" y="2927520"/>
            <a:chExt cx="821880" cy="398880"/>
          </a:xfrm>
        </p:grpSpPr>
        <p:sp>
          <p:nvSpPr>
            <p:cNvPr id="794" name=""/>
            <p:cNvSpPr/>
            <p:nvPr/>
          </p:nvSpPr>
          <p:spPr>
            <a:xfrm>
              <a:off x="4253040" y="3294000"/>
              <a:ext cx="76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89040" y="29275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5044320" y="3581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94640" y="37180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830240" y="3546360"/>
            <a:ext cx="1296360" cy="814320"/>
            <a:chOff x="1830240" y="3546360"/>
            <a:chExt cx="1296360" cy="814320"/>
          </a:xfrm>
        </p:grpSpPr>
        <p:sp>
          <p:nvSpPr>
            <p:cNvPr id="799" name=""/>
            <p:cNvSpPr/>
            <p:nvPr/>
          </p:nvSpPr>
          <p:spPr>
            <a:xfrm flipH="1" flipV="1">
              <a:off x="1830240" y="3555720"/>
              <a:ext cx="144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6360" y="354636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850400" y="4360680"/>
              <a:ext cx="12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22440" y="928800"/>
            <a:ext cx="5065560" cy="1450800"/>
            <a:chOff x="622440" y="928800"/>
            <a:chExt cx="5065560" cy="1450800"/>
          </a:xfrm>
        </p:grpSpPr>
        <p:sp>
          <p:nvSpPr>
            <p:cNvPr id="803" name=""/>
            <p:cNvSpPr/>
            <p:nvPr/>
          </p:nvSpPr>
          <p:spPr>
            <a:xfrm>
              <a:off x="622440" y="928800"/>
              <a:ext cx="506556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rchitec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gate_level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comb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62240" y="1335240"/>
              <a:ext cx="1787400" cy="1044360"/>
            </a:xfrm>
            <a:custGeom>
              <a:avLst/>
              <a:gdLst/>
              <a:ahLst/>
              <a:rect l="l" t="t" r="r" b="b"/>
              <a:pathLst>
                <a:path w="1126" h="658">
                  <a:moveTo>
                    <a:pt x="1126" y="658"/>
                  </a:moveTo>
                  <a:cubicBezTo>
                    <a:pt x="747" y="612"/>
                    <a:pt x="368" y="567"/>
                    <a:pt x="184" y="457"/>
                  </a:cubicBezTo>
                  <a:cubicBezTo>
                    <a:pt x="0" y="347"/>
                    <a:pt x="10" y="173"/>
                    <a:pt x="2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181320" y="1647720"/>
            <a:ext cx="5778360" cy="731880"/>
            <a:chOff x="3181320" y="1647720"/>
            <a:chExt cx="5778360" cy="731880"/>
          </a:xfrm>
        </p:grpSpPr>
        <p:sp>
          <p:nvSpPr>
            <p:cNvPr id="806" name=""/>
            <p:cNvSpPr/>
            <p:nvPr/>
          </p:nvSpPr>
          <p:spPr>
            <a:xfrm>
              <a:off x="3894120" y="1647720"/>
              <a:ext cx="506556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rchitec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low_power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comb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81320" y="1698480"/>
              <a:ext cx="766800" cy="681120"/>
            </a:xfrm>
            <a:custGeom>
              <a:avLst/>
              <a:gdLst/>
              <a:ahLst/>
              <a:rect l="l" t="t" r="r" b="b"/>
              <a:pathLst>
                <a:path w="483" h="429">
                  <a:moveTo>
                    <a:pt x="108" y="429"/>
                  </a:moveTo>
                  <a:cubicBezTo>
                    <a:pt x="54" y="269"/>
                    <a:pt x="0" y="110"/>
                    <a:pt x="62" y="55"/>
                  </a:cubicBezTo>
                  <a:cubicBezTo>
                    <a:pt x="124" y="0"/>
                    <a:pt x="303" y="50"/>
                    <a:pt x="483" y="1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25440" y="3411360"/>
            <a:ext cx="5065560" cy="3227400"/>
            <a:chOff x="325440" y="3411360"/>
            <a:chExt cx="5065560" cy="3227400"/>
          </a:xfrm>
        </p:grpSpPr>
        <p:sp>
          <p:nvSpPr>
            <p:cNvPr id="809" name=""/>
            <p:cNvSpPr/>
            <p:nvPr/>
          </p:nvSpPr>
          <p:spPr>
            <a:xfrm>
              <a:off x="325440" y="6059520"/>
              <a:ext cx="506556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rchitec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behavioral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comb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01800" y="3411360"/>
              <a:ext cx="1753920" cy="2583000"/>
            </a:xfrm>
            <a:custGeom>
              <a:avLst/>
              <a:gdLst/>
              <a:ahLst/>
              <a:rect l="l" t="t" r="r" b="b"/>
              <a:pathLst>
                <a:path w="1105" h="1627">
                  <a:moveTo>
                    <a:pt x="1105" y="0"/>
                  </a:moveTo>
                  <a:cubicBezTo>
                    <a:pt x="715" y="358"/>
                    <a:pt x="326" y="716"/>
                    <a:pt x="163" y="987"/>
                  </a:cubicBezTo>
                  <a:cubicBezTo>
                    <a:pt x="0" y="1258"/>
                    <a:pt x="63" y="1442"/>
                    <a:pt x="127" y="162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865680" y="3440160"/>
            <a:ext cx="5065560" cy="2314440"/>
            <a:chOff x="3865680" y="3440160"/>
            <a:chExt cx="5065560" cy="2314440"/>
          </a:xfrm>
        </p:grpSpPr>
        <p:sp>
          <p:nvSpPr>
            <p:cNvPr id="812" name=""/>
            <p:cNvSpPr/>
            <p:nvPr/>
          </p:nvSpPr>
          <p:spPr>
            <a:xfrm>
              <a:off x="3865680" y="5175360"/>
              <a:ext cx="506556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rchitec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high_spee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comb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25760" y="3440160"/>
              <a:ext cx="2813400" cy="1727280"/>
            </a:xfrm>
            <a:custGeom>
              <a:avLst/>
              <a:gdLst/>
              <a:ahLst/>
              <a:rect l="l" t="t" r="r" b="b"/>
              <a:pathLst>
                <a:path w="1772" h="1088">
                  <a:moveTo>
                    <a:pt x="0" y="46"/>
                  </a:moveTo>
                  <a:cubicBezTo>
                    <a:pt x="595" y="23"/>
                    <a:pt x="1190" y="0"/>
                    <a:pt x="1481" y="174"/>
                  </a:cubicBezTo>
                  <a:cubicBezTo>
                    <a:pt x="1772" y="348"/>
                    <a:pt x="1759" y="718"/>
                    <a:pt x="1746" y="108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E22-73A1-4D56-AC20-04972212F95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fault Binding Ru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n entity, whose name is the same as the component name is found, then this entity is bound to the compon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a component can be bound to an entity with a different na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this, ports of the entity m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ose of compon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, ports of entity must map to those of the compon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re are multiple architectures for the entity, th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last compiled architecture is u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A97-0504-43CE-B678-9316E7E2C45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Specific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ame of the library that contains the entity is giv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a library name corresponds to a directory in most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efault working direc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ame of the architecture is u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lf_adder(behavio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lf_adder(struct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only entity is specified but no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st compiled architecture i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s of the same type may use different architec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may even bind to different entit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4CF-2DAF-49B5-ADD1-A615D3D4FB4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instances of a component have identical input port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not a problem; since the port name is associated with a specific instance through a unique lab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nents that are going to be used are declared within the declarative region of the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ual description must be placed somewhere that CAD tools can locate: e.g. working directory, a library, or in some directory whose path is in the search path of CAD too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518-571D-42BD-AE14-09FF19176D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Specifica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33000" y="990720"/>
            <a:ext cx="8381880" cy="520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WER; -- a new libra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 IEEE.std_logic_1164.a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in1, in2, c_in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sum, c_o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sum_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lf_add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r_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generi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: Time := 2 ns);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_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, s3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436-2819-49D5-9E2A-BCC0540D0E1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Specifica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in1, in2, c_in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sum, c_o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, s3: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onfiguration specif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1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.half_adder(behavioral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.half_adder(structural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1: or_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WER.lpo2(behaviora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l1=&gt;x, l2=&gt;y, Z=&gt;z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1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in1, y=&gt;in2, sum=&gt;s1, carry=&gt;s2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H2: half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s1, y=&gt;c_in, sum=&gt;sum, carry=&gt;s2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1: or_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s2, y=&gt;s3, z=&gt;c_out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266720" y="1027080"/>
            <a:ext cx="3641040" cy="2239920"/>
            <a:chOff x="4266720" y="1027080"/>
            <a:chExt cx="3641040" cy="2239920"/>
          </a:xfrm>
        </p:grpSpPr>
        <p:sp>
          <p:nvSpPr>
            <p:cNvPr id="823" name=""/>
            <p:cNvSpPr/>
            <p:nvPr/>
          </p:nvSpPr>
          <p:spPr>
            <a:xfrm rot="5400000">
              <a:off x="4440600" y="2918520"/>
              <a:ext cx="174600" cy="52236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13320 h 522360"/>
                <a:gd name="textAreaBottom" fmla="*/ 50904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3320" y="1230480"/>
              <a:ext cx="1495440" cy="1817640"/>
            </a:xfrm>
            <a:custGeom>
              <a:avLst/>
              <a:gdLst/>
              <a:ahLst/>
              <a:rect l="l" t="t" r="r" b="b"/>
              <a:pathLst>
                <a:path w="942" h="1145">
                  <a:moveTo>
                    <a:pt x="0" y="1145"/>
                  </a:moveTo>
                  <a:cubicBezTo>
                    <a:pt x="206" y="1100"/>
                    <a:pt x="413" y="1055"/>
                    <a:pt x="503" y="889"/>
                  </a:cubicBezTo>
                  <a:cubicBezTo>
                    <a:pt x="593" y="723"/>
                    <a:pt x="467" y="296"/>
                    <a:pt x="540" y="148"/>
                  </a:cubicBezTo>
                  <a:cubicBezTo>
                    <a:pt x="613" y="0"/>
                    <a:pt x="777" y="1"/>
                    <a:pt x="942" y="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00720" y="102708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ibrary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941720" y="1571760"/>
            <a:ext cx="2642760" cy="1672920"/>
            <a:chOff x="4941720" y="1571760"/>
            <a:chExt cx="2642760" cy="1672920"/>
          </a:xfrm>
        </p:grpSpPr>
        <p:sp>
          <p:nvSpPr>
            <p:cNvPr id="827" name=""/>
            <p:cNvSpPr/>
            <p:nvPr/>
          </p:nvSpPr>
          <p:spPr>
            <a:xfrm rot="5400000">
              <a:off x="5427360" y="2584080"/>
              <a:ext cx="174600" cy="114624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29880 h 1146240"/>
                <a:gd name="textAreaBottom" fmla="*/ 1116360 h 11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29240" y="1800360"/>
              <a:ext cx="436680" cy="1204920"/>
            </a:xfrm>
            <a:custGeom>
              <a:avLst/>
              <a:gdLst/>
              <a:ahLst/>
              <a:rect l="l" t="t" r="r" b="b"/>
              <a:pathLst>
                <a:path w="275" h="759">
                  <a:moveTo>
                    <a:pt x="0" y="759"/>
                  </a:moveTo>
                  <a:cubicBezTo>
                    <a:pt x="4" y="561"/>
                    <a:pt x="9" y="364"/>
                    <a:pt x="55" y="237"/>
                  </a:cubicBezTo>
                  <a:cubicBezTo>
                    <a:pt x="101" y="110"/>
                    <a:pt x="188" y="55"/>
                    <a:pt x="275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18920" y="1571760"/>
              <a:ext cx="146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tity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197400" y="2108160"/>
            <a:ext cx="2220840" cy="1144800"/>
            <a:chOff x="6197400" y="2108160"/>
            <a:chExt cx="2220840" cy="1144800"/>
          </a:xfrm>
        </p:grpSpPr>
        <p:sp>
          <p:nvSpPr>
            <p:cNvPr id="831" name=""/>
            <p:cNvSpPr/>
            <p:nvPr/>
          </p:nvSpPr>
          <p:spPr>
            <a:xfrm rot="5400000">
              <a:off x="6813720" y="2461320"/>
              <a:ext cx="174960" cy="1407960"/>
            </a:xfrm>
            <a:custGeom>
              <a:avLst/>
              <a:gdLst>
                <a:gd name="textAreaLeft" fmla="*/ 111960 w 174960"/>
                <a:gd name="textAreaRight" fmla="*/ 175320 w 174960"/>
                <a:gd name="textAreaTop" fmla="*/ 36720 h 1407960"/>
                <a:gd name="textAreaBottom" fmla="*/ 1371240 h 14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34160" y="2496960"/>
              <a:ext cx="247680" cy="551160"/>
            </a:xfrm>
            <a:custGeom>
              <a:avLst/>
              <a:gdLst/>
              <a:ahLst/>
              <a:rect l="l" t="t" r="r" b="b"/>
              <a:pathLst>
                <a:path w="156" h="347">
                  <a:moveTo>
                    <a:pt x="101" y="347"/>
                  </a:moveTo>
                  <a:cubicBezTo>
                    <a:pt x="50" y="266"/>
                    <a:pt x="0" y="186"/>
                    <a:pt x="9" y="128"/>
                  </a:cubicBezTo>
                  <a:cubicBezTo>
                    <a:pt x="18" y="70"/>
                    <a:pt x="87" y="35"/>
                    <a:pt x="15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56920" y="2108160"/>
              <a:ext cx="156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rchitecture 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368960" y="3846600"/>
            <a:ext cx="3974400" cy="2266560"/>
            <a:chOff x="4368960" y="3846600"/>
            <a:chExt cx="3974400" cy="2266560"/>
          </a:xfrm>
        </p:grpSpPr>
        <p:sp>
          <p:nvSpPr>
            <p:cNvPr id="835" name=""/>
            <p:cNvSpPr/>
            <p:nvPr/>
          </p:nvSpPr>
          <p:spPr>
            <a:xfrm>
              <a:off x="4368960" y="3846600"/>
              <a:ext cx="1828800" cy="1973160"/>
            </a:xfrm>
            <a:custGeom>
              <a:avLst/>
              <a:gdLst/>
              <a:ahLst/>
              <a:rect l="l" t="t" r="r" b="b"/>
              <a:pathLst>
                <a:path w="1152" h="1243">
                  <a:moveTo>
                    <a:pt x="1152" y="0"/>
                  </a:moveTo>
                  <a:cubicBezTo>
                    <a:pt x="932" y="59"/>
                    <a:pt x="713" y="119"/>
                    <a:pt x="521" y="283"/>
                  </a:cubicBezTo>
                  <a:cubicBezTo>
                    <a:pt x="329" y="447"/>
                    <a:pt x="0" y="827"/>
                    <a:pt x="0" y="987"/>
                  </a:cubicBezTo>
                  <a:cubicBezTo>
                    <a:pt x="0" y="1147"/>
                    <a:pt x="260" y="1195"/>
                    <a:pt x="521" y="124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02280" y="5470560"/>
              <a:ext cx="32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tity name is different than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he component na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A8A-94AE-4270-8D94-25B0881EE3E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specification is part of the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be placed in the architectur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we want to change the architecture for a component, then the architecture using the entity using this component must be edited and recompi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declaration provide configuration information as separate design un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tion information is saved in a different file  (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vh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 binding is pos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ndings can be performed after the architecture body has been writt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780-DAFE-4372-AA6A-54A69EAB19C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Declara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47400" y="1746000"/>
            <a:ext cx="8381880" cy="44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nfig_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ull_ad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1: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half_adder(behavioral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2: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half_adder(structural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1: or_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WER.lpo2(behavior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ate_delay=&gt;gate_dela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l1=&gt;x, l2=&gt;y, Z=&gt;z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nfigura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fig_A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349920" y="124632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fig.v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66A-A755-492E-BA48-73A8E7736CF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 Bench for Ful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25080" y="860400"/>
            <a:ext cx="84265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ben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bench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ben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in1, in2,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, c_ou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ll_add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, y, z, w, v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1: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configur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config_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1: ful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z, w, v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&lt;= '0'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4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&lt;= '0'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,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40 ns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6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 &lt;= '0'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 ns,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 ns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0 ns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40 ns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0 ns,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60 ns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7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in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362520" y="615312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st_bench.v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D14-ECA6-4A63-B954-E0663EE25B8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of Ful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118-50B7-44D0-89F5-DDE5FC78854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Sim Windo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D51-9199-49B6-9982-3E30970080A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r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specifications are not always supported for synthesi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case, default binding rules app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CD8-4FC8-40A9-9DFB-4080EAA8D50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uctural Model of a State Machin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-serial ad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411360" y="1509840"/>
            <a:ext cx="1611360" cy="133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67560" y="2351160"/>
            <a:ext cx="2831760" cy="1966680"/>
            <a:chOff x="3067560" y="2351160"/>
            <a:chExt cx="2831760" cy="1966680"/>
          </a:xfrm>
        </p:grpSpPr>
        <p:sp>
          <p:nvSpPr>
            <p:cNvPr id="114" name=""/>
            <p:cNvSpPr/>
            <p:nvPr/>
          </p:nvSpPr>
          <p:spPr>
            <a:xfrm flipH="1">
              <a:off x="4673520" y="3409920"/>
              <a:ext cx="11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67560" y="2351160"/>
              <a:ext cx="2831760" cy="1966680"/>
              <a:chOff x="3067560" y="2351160"/>
              <a:chExt cx="2831760" cy="1966680"/>
            </a:xfrm>
          </p:grpSpPr>
          <p:sp>
            <p:nvSpPr>
              <p:cNvPr id="116" name=""/>
              <p:cNvSpPr/>
              <p:nvPr/>
            </p:nvSpPr>
            <p:spPr>
              <a:xfrm>
                <a:off x="5805360" y="2351160"/>
                <a:ext cx="0" cy="10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9440" y="3135240"/>
                <a:ext cx="812880" cy="812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4556880" y="3718440"/>
                <a:ext cx="158760" cy="14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49480" y="32464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78680" y="32558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02320" y="3801960"/>
                <a:ext cx="68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427360" y="358776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l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37200" y="3948120"/>
                <a:ext cx="8856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81480" y="40496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483000" y="4179960"/>
                <a:ext cx="79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91320" y="394956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67560" y="358632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Q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462480" y="379404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914480" y="5019840"/>
            <a:ext cx="668520" cy="66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783400" y="5056200"/>
            <a:ext cx="668160" cy="668160"/>
            <a:chOff x="5783400" y="5056200"/>
            <a:chExt cx="668160" cy="668160"/>
          </a:xfrm>
        </p:grpSpPr>
        <p:sp>
          <p:nvSpPr>
            <p:cNvPr id="131" name=""/>
            <p:cNvSpPr/>
            <p:nvPr/>
          </p:nvSpPr>
          <p:spPr>
            <a:xfrm>
              <a:off x="5783400" y="5056200"/>
              <a:ext cx="668160" cy="66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3160" y="514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25760" y="4473720"/>
            <a:ext cx="3367080" cy="677880"/>
            <a:chOff x="2525760" y="4473720"/>
            <a:chExt cx="3367080" cy="677880"/>
          </a:xfrm>
        </p:grpSpPr>
        <p:sp>
          <p:nvSpPr>
            <p:cNvPr id="134" name=""/>
            <p:cNvSpPr/>
            <p:nvPr/>
          </p:nvSpPr>
          <p:spPr>
            <a:xfrm>
              <a:off x="2525760" y="4811760"/>
              <a:ext cx="3367080" cy="339840"/>
            </a:xfrm>
            <a:custGeom>
              <a:avLst/>
              <a:gdLst/>
              <a:ahLst/>
              <a:rect l="l" t="t" r="r" b="b"/>
              <a:pathLst>
                <a:path w="2121" h="214">
                  <a:moveTo>
                    <a:pt x="0" y="214"/>
                  </a:moveTo>
                  <a:cubicBezTo>
                    <a:pt x="317" y="110"/>
                    <a:pt x="634" y="6"/>
                    <a:pt x="987" y="3"/>
                  </a:cubicBezTo>
                  <a:cubicBezTo>
                    <a:pt x="1340" y="0"/>
                    <a:pt x="1730" y="97"/>
                    <a:pt x="2121" y="1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5920" y="447372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/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525760" y="5514840"/>
            <a:ext cx="3409920" cy="757800"/>
            <a:chOff x="2525760" y="5514840"/>
            <a:chExt cx="3409920" cy="757800"/>
          </a:xfrm>
        </p:grpSpPr>
        <p:sp>
          <p:nvSpPr>
            <p:cNvPr id="137" name=""/>
            <p:cNvSpPr/>
            <p:nvPr/>
          </p:nvSpPr>
          <p:spPr>
            <a:xfrm>
              <a:off x="2525760" y="5514840"/>
              <a:ext cx="3409920" cy="341280"/>
            </a:xfrm>
            <a:custGeom>
              <a:avLst/>
              <a:gdLst/>
              <a:ahLst/>
              <a:rect l="l" t="t" r="r" b="b"/>
              <a:pathLst>
                <a:path w="2139" h="160">
                  <a:moveTo>
                    <a:pt x="2139" y="82"/>
                  </a:moveTo>
                  <a:cubicBezTo>
                    <a:pt x="1745" y="121"/>
                    <a:pt x="1352" y="160"/>
                    <a:pt x="996" y="146"/>
                  </a:cubicBezTo>
                  <a:cubicBezTo>
                    <a:pt x="640" y="132"/>
                    <a:pt x="320" y="6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2280" y="587376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77520" y="1535040"/>
            <a:ext cx="1854720" cy="862560"/>
            <a:chOff x="1577520" y="1535040"/>
            <a:chExt cx="1854720" cy="862560"/>
          </a:xfrm>
        </p:grpSpPr>
        <p:sp>
          <p:nvSpPr>
            <p:cNvPr id="140" name=""/>
            <p:cNvSpPr/>
            <p:nvPr/>
          </p:nvSpPr>
          <p:spPr>
            <a:xfrm>
              <a:off x="2075040" y="175572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5560" y="218592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5960" y="15350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7520" y="1998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025960" y="1622520"/>
            <a:ext cx="1821240" cy="398880"/>
            <a:chOff x="5025960" y="1622520"/>
            <a:chExt cx="1821240" cy="398880"/>
          </a:xfrm>
        </p:grpSpPr>
        <p:sp>
          <p:nvSpPr>
            <p:cNvPr id="145" name=""/>
            <p:cNvSpPr/>
            <p:nvPr/>
          </p:nvSpPr>
          <p:spPr>
            <a:xfrm>
              <a:off x="5025960" y="17780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7680" y="16225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021280" y="1984320"/>
            <a:ext cx="822240" cy="398880"/>
            <a:chOff x="5021280" y="1984320"/>
            <a:chExt cx="822240" cy="398880"/>
          </a:xfrm>
        </p:grpSpPr>
        <p:sp>
          <p:nvSpPr>
            <p:cNvPr id="148" name=""/>
            <p:cNvSpPr/>
            <p:nvPr/>
          </p:nvSpPr>
          <p:spPr>
            <a:xfrm>
              <a:off x="5021280" y="235116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57640" y="19843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0800" y="4692600"/>
            <a:ext cx="1193400" cy="1192320"/>
            <a:chOff x="6400800" y="4692600"/>
            <a:chExt cx="1193400" cy="1192320"/>
          </a:xfrm>
        </p:grpSpPr>
        <p:sp>
          <p:nvSpPr>
            <p:cNvPr id="151" name=""/>
            <p:cNvSpPr/>
            <p:nvPr/>
          </p:nvSpPr>
          <p:spPr>
            <a:xfrm>
              <a:off x="6400800" y="4692600"/>
              <a:ext cx="471600" cy="1192320"/>
            </a:xfrm>
            <a:custGeom>
              <a:avLst/>
              <a:gdLst/>
              <a:ahLst/>
              <a:rect l="l" t="t" r="r" b="b"/>
              <a:pathLst>
                <a:path w="297" h="751">
                  <a:moveTo>
                    <a:pt x="0" y="308"/>
                  </a:moveTo>
                  <a:cubicBezTo>
                    <a:pt x="78" y="154"/>
                    <a:pt x="157" y="0"/>
                    <a:pt x="201" y="61"/>
                  </a:cubicBezTo>
                  <a:cubicBezTo>
                    <a:pt x="245" y="122"/>
                    <a:pt x="297" y="595"/>
                    <a:pt x="265" y="673"/>
                  </a:cubicBezTo>
                  <a:cubicBezTo>
                    <a:pt x="233" y="751"/>
                    <a:pt x="121" y="639"/>
                    <a:pt x="9" y="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79960" y="4741920"/>
              <a:ext cx="714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/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/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3320" y="4613400"/>
            <a:ext cx="1230480" cy="1191960"/>
            <a:chOff x="733320" y="4613400"/>
            <a:chExt cx="1230480" cy="1191960"/>
          </a:xfrm>
        </p:grpSpPr>
        <p:sp>
          <p:nvSpPr>
            <p:cNvPr id="154" name=""/>
            <p:cNvSpPr/>
            <p:nvPr/>
          </p:nvSpPr>
          <p:spPr>
            <a:xfrm flipH="1">
              <a:off x="1492200" y="4613400"/>
              <a:ext cx="471600" cy="1191960"/>
            </a:xfrm>
            <a:custGeom>
              <a:avLst/>
              <a:gdLst/>
              <a:ahLst/>
              <a:rect l="l" t="t" r="r" b="b"/>
              <a:pathLst>
                <a:path w="297" h="751">
                  <a:moveTo>
                    <a:pt x="0" y="308"/>
                  </a:moveTo>
                  <a:cubicBezTo>
                    <a:pt x="78" y="154"/>
                    <a:pt x="157" y="0"/>
                    <a:pt x="201" y="61"/>
                  </a:cubicBezTo>
                  <a:cubicBezTo>
                    <a:pt x="245" y="122"/>
                    <a:pt x="297" y="595"/>
                    <a:pt x="265" y="673"/>
                  </a:cubicBezTo>
                  <a:cubicBezTo>
                    <a:pt x="233" y="751"/>
                    <a:pt x="121" y="639"/>
                    <a:pt x="9" y="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320" y="4676760"/>
              <a:ext cx="714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0/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1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812560" y="26384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63240" y="27748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98840" y="2603520"/>
            <a:ext cx="1296360" cy="814320"/>
            <a:chOff x="2598840" y="2603520"/>
            <a:chExt cx="1296360" cy="814320"/>
          </a:xfrm>
        </p:grpSpPr>
        <p:sp>
          <p:nvSpPr>
            <p:cNvPr id="159" name=""/>
            <p:cNvSpPr/>
            <p:nvPr/>
          </p:nvSpPr>
          <p:spPr>
            <a:xfrm flipH="1" flipV="1">
              <a:off x="2598840" y="2612880"/>
              <a:ext cx="144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04960" y="2603520"/>
              <a:ext cx="77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619000" y="3417840"/>
              <a:ext cx="12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779-5688-43FF-A97B-47C7AEF20B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it Seria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019160"/>
            <a:ext cx="8381880" cy="494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ia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ial_add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ia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z, 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mb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,clk, 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f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1: 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=&gt;x, y=&gt;y, c_in=&gt;s1, z=&gt;z, carry=&gt;s2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1: 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=&gt;s2, clk=&gt;clk, R=&gt;reset, Q=&gt;s1, Qb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&gt;open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87600" y="3192480"/>
            <a:ext cx="2160360" cy="1830240"/>
            <a:chOff x="3387600" y="3192480"/>
            <a:chExt cx="2160360" cy="1830240"/>
          </a:xfrm>
        </p:grpSpPr>
        <p:sp>
          <p:nvSpPr>
            <p:cNvPr id="165" name=""/>
            <p:cNvSpPr/>
            <p:nvPr/>
          </p:nvSpPr>
          <p:spPr>
            <a:xfrm>
              <a:off x="3387600" y="3759120"/>
              <a:ext cx="1344600" cy="1263600"/>
            </a:xfrm>
            <a:custGeom>
              <a:avLst/>
              <a:gdLst/>
              <a:ahLst/>
              <a:rect l="l" t="t" r="r" b="b"/>
              <a:pathLst>
                <a:path w="847" h="796">
                  <a:moveTo>
                    <a:pt x="15" y="796"/>
                  </a:moveTo>
                  <a:cubicBezTo>
                    <a:pt x="7" y="782"/>
                    <a:pt x="0" y="769"/>
                    <a:pt x="33" y="732"/>
                  </a:cubicBezTo>
                  <a:cubicBezTo>
                    <a:pt x="66" y="695"/>
                    <a:pt x="99" y="652"/>
                    <a:pt x="216" y="576"/>
                  </a:cubicBezTo>
                  <a:cubicBezTo>
                    <a:pt x="333" y="500"/>
                    <a:pt x="632" y="371"/>
                    <a:pt x="737" y="275"/>
                  </a:cubicBezTo>
                  <a:cubicBezTo>
                    <a:pt x="842" y="179"/>
                    <a:pt x="844" y="89"/>
                    <a:pt x="84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8440" y="3192480"/>
              <a:ext cx="18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ort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he 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773520" y="3330720"/>
            <a:ext cx="3980160" cy="1662120"/>
            <a:chOff x="3773520" y="3330720"/>
            <a:chExt cx="3980160" cy="1662120"/>
          </a:xfrm>
        </p:grpSpPr>
        <p:sp>
          <p:nvSpPr>
            <p:cNvPr id="168" name=""/>
            <p:cNvSpPr/>
            <p:nvPr/>
          </p:nvSpPr>
          <p:spPr>
            <a:xfrm>
              <a:off x="3773520" y="3759120"/>
              <a:ext cx="2220840" cy="1233720"/>
            </a:xfrm>
            <a:custGeom>
              <a:avLst/>
              <a:gdLst/>
              <a:ahLst/>
              <a:rect l="l" t="t" r="r" b="b"/>
              <a:pathLst>
                <a:path w="1399" h="777">
                  <a:moveTo>
                    <a:pt x="0" y="777"/>
                  </a:moveTo>
                  <a:cubicBezTo>
                    <a:pt x="206" y="729"/>
                    <a:pt x="413" y="682"/>
                    <a:pt x="604" y="603"/>
                  </a:cubicBezTo>
                  <a:cubicBezTo>
                    <a:pt x="795" y="524"/>
                    <a:pt x="1010" y="403"/>
                    <a:pt x="1143" y="302"/>
                  </a:cubicBezTo>
                  <a:cubicBezTo>
                    <a:pt x="1276" y="201"/>
                    <a:pt x="1337" y="100"/>
                    <a:pt x="1399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67080" y="3330720"/>
              <a:ext cx="168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ignal or 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on the e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53880" y="6032520"/>
            <a:ext cx="77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cannot assume that port names are un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429240" y="5514840"/>
            <a:ext cx="1726200" cy="1089000"/>
            <a:chOff x="6429240" y="5514840"/>
            <a:chExt cx="1726200" cy="1089000"/>
          </a:xfrm>
        </p:grpSpPr>
        <p:sp>
          <p:nvSpPr>
            <p:cNvPr id="172" name=""/>
            <p:cNvSpPr/>
            <p:nvPr/>
          </p:nvSpPr>
          <p:spPr>
            <a:xfrm>
              <a:off x="6743880" y="5514840"/>
              <a:ext cx="658800" cy="741600"/>
            </a:xfrm>
            <a:custGeom>
              <a:avLst/>
              <a:gdLst/>
              <a:ahLst/>
              <a:rect l="l" t="t" r="r" b="b"/>
              <a:pathLst>
                <a:path w="415" h="467">
                  <a:moveTo>
                    <a:pt x="415" y="0"/>
                  </a:moveTo>
                  <a:cubicBezTo>
                    <a:pt x="238" y="103"/>
                    <a:pt x="62" y="206"/>
                    <a:pt x="31" y="284"/>
                  </a:cubicBezTo>
                  <a:cubicBezTo>
                    <a:pt x="0" y="362"/>
                    <a:pt x="116" y="414"/>
                    <a:pt x="232" y="46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9240" y="62355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not conn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CEC-3E16-48A5-BA0B-E97C8207D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2-02T05:44:54Z</dcterms:modified>
  <cp:revision>4222</cp:revision>
  <dc:subject/>
  <dc:title>PowerPoint Presentation</dc:title>
</cp:coreProperties>
</file>