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1BE-F754-4947-ADE1-69A6865C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612-EE66-41C5-84F8-4100BFA0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D36-C113-4216-A06E-679BA011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A89-0CF5-4FDC-AA74-4B7F2AA7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753-A743-4DF7-BE58-BF84F201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F1A-1CED-49BB-B583-DCA5526A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19E-F38A-41CE-94BE-744B5C3F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920-B9E8-4677-B1E0-9D554E46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772-57FD-4F88-86E8-CA70B0DF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4D4-3E8C-460F-A7FC-8B6787D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B9B-7047-416D-8F53-447B23F5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4AA-784E-448A-A0BE-79D8324F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128E-6D84-474A-AC50-9992F0147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235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asic I/O   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D85-2C43-4341-BFDB-8D6C0485E7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Implicit File Ope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declare a file type in the architecture declarative reg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egerFile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f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eger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implicitly open a file in file declar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_in: IntegerFile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_mo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s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my_file.txt”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other declara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body of process; reading and writing files and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performing computation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termin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implicitly causes a call to FILE_CLO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E75-6F7B-4ACA-9DE5-0C6C3EC011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ading &amp; Writing Fi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andard VHDL sub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A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; valu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yp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RIT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; valu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yp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NDFIL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oolean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ad/write functions can be used after the file is open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guage supports reading and writing from files of the predefined types of the 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other types, you need to write your own I/O procedures built on these basic procedu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637-DB4F-4EAF-AE76-188DFEC86A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1987 I/O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199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file: tex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_mo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inputdata.txt”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file: tex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_mo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outputdata.txt”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198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file: tex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inputdata.txt”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file: tex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outputdata.txt”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A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; valu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yp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RIT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; valu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yp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NDFIL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oolean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explici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OP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CL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10F-2568-4006-8CFF-B9880D5348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o9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o93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o9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egerFile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f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ege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_out: IntegerFileTyp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tatus: FILE_OPEN_STATUS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= 0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_open(fstatus, data_out, “myfile.txt”, write_mode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data_out, count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count := count + 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2AB-8268-4D81-8371-BEE664218E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Package TEXTIO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andard package supported by all VHDL simulato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provides a standard set of file types, data types, and I/O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XTIO is in the library STD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ibrary STD does not have to be explicitly declar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packages must be declared in order to use the package cont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TD.textio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735-1A60-4B3F-9068-455FCB03B6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Package TEXTIO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file typ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age provides the procedures for reading and writing the predefined types of the language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, inte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Appendix F in the textboo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al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A LINE is a pointer to a str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N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cc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RING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A file of variable-length ASCII recor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EX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file 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RING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ADLIN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: TEXT; 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NE);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AD(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; valu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it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RITELIN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: TEXT; 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N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RITE(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; valu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it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399-4415-4F70-8F8A-57FCB54C4E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XTIO  Mechanis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rve as a buffer area for reading and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cedures access and operate on this buf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overloaded and define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_ve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line(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cedures move the contents of this buffer to and from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types are similar to pointers in Pascal and C langua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special file handles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are defined in the package TEXT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784-8C85-448D-A56B-4CEB11AACA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XTIO: </a:t>
            </a:r>
            <a:r>
              <a:rPr b="0" lang="en-US" sz="4000" spc="-1" strike="noStrike">
                <a:solidFill>
                  <a:srgbClr val="ff3300"/>
                </a:solidFill>
                <a:latin typeface="Courier New"/>
              </a:rPr>
              <a:t>input</a:t>
            </a: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 and </a:t>
            </a:r>
            <a:r>
              <a:rPr b="0" lang="en-US" sz="4000" spc="-1" strike="noStrike">
                <a:solidFill>
                  <a:srgbClr val="ff3300"/>
                </a:solidFill>
                <a:latin typeface="Courier New"/>
              </a:rPr>
              <a:t>output</a:t>
            </a: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special predefined file hand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utpu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re mapped to th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std_inpu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_outpu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the host environment that is the console window of the VHDL simulato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PUT: TEX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READ_MO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“STD_INPUT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UTPUT: TEX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WRITE_MO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“STD_OUTPUT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F7C-42A3-40F2-9A4D-A28B0F7B2C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TEXTIO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.textio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ormatted_i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matted_i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file: tex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_status: FILE_OPEN_STATU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: integer := 5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value: bit_vector(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 := x”6”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f: LINE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buffer between the program and f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_open(fstatus, outfile, “myfile.txt”, write_mode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C8B-CACB-4D6E-9C94-3AB0727185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TEXTIO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_open(f_status, outfile, “myfile.txt”, write_mode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1: write(buf, string'("This is an example of formatted IO"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2: writeline(outfile, buf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3: write(buf, string'("The first parameter is="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4: write(buf, count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5: write(buf, ' '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6: write(buf, string'("The second parameter is="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7: write(buf, value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8: writeline(outfile, buf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9: write(buf, string'(“... and so on"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10: writeline(outfile, buf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11: file_close(outfile)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562-6BAC-44B7-A3F7-F254E0D0E6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asic I/O and Its Applica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a special type that serve as an interface between the VHDL programs and the host environ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file objects are created, read, written and used within VHDL sim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et it 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input and output cannot be synthes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O operations do not refer to I/O pins of FPGA c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83A-4D89-4AC6-B9B6-900E6CFFB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delSim Note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mon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ca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 (L, "hello")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 (L, "010111"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cause the following er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: Subprogram "WRITE" is ambigu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TextIO packag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ocedure is overloaded for the typ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IT_VE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WRITE(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NE; VALU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_VECTOR; JUSTIFIED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IDE:= RIGHT; FIELD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WIDTH := 0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WRITE(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NE; VALU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TRING; JUSTIFIED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IDE:= RIGHT; FIELD: in WIDTH := 0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05E-4DB2-4BB1-BF9B-6C7E153C50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delSim Not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hello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ld be interpreted as a string or a 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the following syntax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 (L, string’("hello")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 (L, bit_vector’(" 010111 ")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296-9FDF-4A2A-8B83-CC6B1FEFC6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utput of The Prog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can be accessed by onl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oced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le “myfile.txt” will cont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an example of formatted 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first parameter is=5 The second parameter is=01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and so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wri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“STD_OUTPUT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ead of “myfile.txt” then the output will be written to simulator console (ModelSim’s Main Window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STD_OUTPUT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be in capital le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2F0-DD69-447A-A6C2-C28043C0CD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Yet Another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.textio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ormatted_io_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ormatted_io_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rocess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file, outfile: text; 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two fi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_status: FILE_OPEN_STATU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f_in, buf_out: LINE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buffers between the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   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program and f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: intege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_open(f_status, infile, "STD_INPUT", read_mode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_open(f_status, outfile, "STD_OUTPUT", write_mode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8F3-9831-41C8-8F93-03DB9A53D6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Yet Another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: write(buf_out, string'("This is an exampl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formatted IO"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2: writeline(outfile, buf_ou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3: write(buf_out, string'("Enter the parameter"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4: writeline(outfile, buf_ou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5: readline(infile, buf_in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6: read(buf_in, coun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7: write(buf_out, string'("The parameter is="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8: write(buf_out, coun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9: writeline(outfile, buf_out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0: file_close(outfile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2FE-A2A3-4F48-901D-3CB91A8FE9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Yet Another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3DD-0476-4BD1-B0AB-DE7C549932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se of STD_OUTPU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66D-179B-433D-A9CD-DFFF96FCF2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D_INPUT and STD_OUTPU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.textio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ormatted_io_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ormatted_io_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rocess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: intege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f_in, buf_out: LINE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buffers between the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   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program and f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2B1-6B48-4286-A577-0B5A8DADFE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D_INPUT and STD_OUTPU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: intege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f_out, buf_in: LINE;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: write(buf_out, string'("This is an example of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formatted IO"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2: writeline(output, buf_ou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3: write(buf_out, string'("Enter the parameter"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4: writeline(output, buf_ou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5: readline(input, buf_in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6: read(buf_in, coun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7: write(buf_out, string'("The parameter is="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8: write(buf_out, coun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9: writeline(output, buf_out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ECE-0612-4B19-AED6-89DFAAD9DF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aling with </a:t>
            </a:r>
            <a:r>
              <a:rPr b="0" lang="en-US" sz="3600" spc="-1" strike="noStrike">
                <a:solidFill>
                  <a:srgbClr val="ff3300"/>
                </a:solidFill>
                <a:latin typeface="Courier New"/>
              </a:rPr>
              <a:t>std_logic_vector</a:t>
            </a:r>
            <a:endParaRPr b="0" lang="en-US" sz="36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.textio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assi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d_v1d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: text; v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_v1d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: text; v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ack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assio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bod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assi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ackage bod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assio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63160" y="495288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i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o create a package that contains procedure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le reading and writing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logic_ve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s in a human-readable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3E4-DADE-44B2-8083-57B67E3B23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 Benches with File Objec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ben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programs for testing VHDL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ical test ben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s test inputs from a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es them to the VHDL model under t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records model outputs for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DB8-2841-4DEE-93DC-E89B60E13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assio Packag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837720"/>
            <a:ext cx="891540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bod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assi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d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d_v1d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: text; v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uf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ne;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: charact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dline(f, buf)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complete line is read into buffer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bu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’r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d(buf, c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X’ =&gt; v(i) := ‘X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U’ =&gt; v(i) := ‘U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Z’ =&gt; v(i) := ‘Z’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0’ =&gt; v(i) := ‘0’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1’ =&gt; v(i) := ‘1’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-’ =&gt; v(i) := ‘-’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W’ =&gt; v(i) := ‘W’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H’ =&gt; v(i) := ‘H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L’ =&gt; v(i) := ‘L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othe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&gt; v(i) :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end loo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d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d_v1d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ackage bod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assio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DB3-943C-4C85-9B6F-5DC244B63F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assio Packag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kage bod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lassio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procedur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ite_v1d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: text; v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d_logic_vec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f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line; variab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: character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’rang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(i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whe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‘X’ =&gt; write(buf, ‘X’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‘U’ =&gt; write(buf, ‘U’)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‘Z’ =&gt; write(buf, ‘Z’)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‘0’ =&gt; write(buf, character’(‘0’))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‘1’ =&gt; write(buf, character’(‘1’))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‘-’ =&gt; write(buf, ‘-’)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‘W’ =&gt; write(buf, ‘W’)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‘H’ =&gt; write(buf, ‘H’)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‘L’ =&gt; write(buf, ‘L’)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en other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=&gt; write(buf, character’(‘0’)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end loop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iteline(f, buf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end procedur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ite_v1d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package bod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lassio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727-8066-4D8B-984E-488888F85E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assio Packag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55D-EB1F-42B8-8C1A-CE40D3DE87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sing the Classio Packag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.textio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ORK.classio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the package classio has been compiled in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                  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the working direct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eck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ss 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fi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file: TEX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d_mode is “infile.txt”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file: TEX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_mode is “outfile.txt”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heck: std_logic_vector(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 := x”0008”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no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endfile(infile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d_v1d(infile, check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write_v1d(outfile, check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file_close(outfile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F45-F56B-4AE5-B3CD-C8985C0325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Output of the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2BA-0A6E-49D3-87AC-A22A3EF061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ading File Names From Conso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.textio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ile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ile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hefile: tex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f_out, buf_in: LIN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name: string(1 to 1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_status: FILE_OPEN_STATU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6C0-AEF8-424D-96DD-61E0E972B2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ading File Names From Conso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(buf_out, string'("Enter file name:")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line(output, buf_out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line(input, buf_in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(buf_in, fnam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open(f_status, thefile, fname, read_mod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line(thefile, buf_i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line(output, buf_i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427-04E3-4807-9E7E-1EE8C8254E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ading File Names From Conso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FA6-ACF0-4E49-88C3-03476CDBEF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bench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testing strateg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93800" indent="-390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the unit in a test fr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93800" indent="-390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it a set of inputs whose corresponding output values are kn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93800" indent="-390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e the outputs of the unit and compare them against the given output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wha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93800" indent="-3906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del is operating as design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93800" indent="-3906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itself is correc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ing during simulation will save a lot of manufacturing effor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3DE-9918-4B1D-819B-300B7D9AFF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bench Model in VHD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simulators provide some tools to construct testbench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VHDL itself is very expressive to construct such testbenc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ong with the component under test, the units that are generating the input stimulus and comparing the outputs can also be written in VHD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Modules in a testben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.vh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er.vh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bench.vh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E3F-E6EC-4186-8C68-EB57A370FE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asic I/O Opera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of a file o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s what sort of data is stored i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anything: integer, string, real number, std_logic_vector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types of basic oper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laration of a file and its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ning and closing a file of a specified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and writing a fi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DFB-D4BF-443A-8B94-F366AB99FD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47920" y="1981080"/>
            <a:ext cx="6476760" cy="3657600"/>
            <a:chOff x="1447920" y="1981080"/>
            <a:chExt cx="6476760" cy="3657600"/>
          </a:xfrm>
        </p:grpSpPr>
        <p:sp>
          <p:nvSpPr>
            <p:cNvPr id="121" name=""/>
            <p:cNvSpPr/>
            <p:nvPr/>
          </p:nvSpPr>
          <p:spPr>
            <a:xfrm>
              <a:off x="1447920" y="1981080"/>
              <a:ext cx="6476760" cy="3657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52578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testbench.vh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7920" y="19810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estbe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bench Model in VHD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86200" y="2895480"/>
            <a:ext cx="1295280" cy="1295640"/>
            <a:chOff x="3886200" y="2895480"/>
            <a:chExt cx="1295280" cy="1295640"/>
          </a:xfrm>
        </p:grpSpPr>
        <p:sp>
          <p:nvSpPr>
            <p:cNvPr id="126" name=""/>
            <p:cNvSpPr/>
            <p:nvPr/>
          </p:nvSpPr>
          <p:spPr>
            <a:xfrm>
              <a:off x="3886200" y="38098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41911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3276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6200" y="2895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200400" y="1386000"/>
            <a:ext cx="1523880" cy="1433520"/>
            <a:chOff x="3200400" y="1386000"/>
            <a:chExt cx="1523880" cy="1433520"/>
          </a:xfrm>
        </p:grpSpPr>
        <p:sp>
          <p:nvSpPr>
            <p:cNvPr id="131" name=""/>
            <p:cNvSpPr/>
            <p:nvPr/>
          </p:nvSpPr>
          <p:spPr>
            <a:xfrm>
              <a:off x="3886200" y="1676520"/>
              <a:ext cx="241200" cy="1143000"/>
            </a:xfrm>
            <a:custGeom>
              <a:avLst/>
              <a:gdLst/>
              <a:ahLst/>
              <a:rect l="l" t="t" r="r" b="b"/>
              <a:pathLst>
                <a:path w="152" h="720">
                  <a:moveTo>
                    <a:pt x="0" y="720"/>
                  </a:moveTo>
                  <a:cubicBezTo>
                    <a:pt x="68" y="636"/>
                    <a:pt x="136" y="552"/>
                    <a:pt x="144" y="432"/>
                  </a:cubicBezTo>
                  <a:cubicBezTo>
                    <a:pt x="152" y="312"/>
                    <a:pt x="100" y="156"/>
                    <a:pt x="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0400" y="13860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utput po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733920" y="4191120"/>
            <a:ext cx="1523880" cy="2197080"/>
            <a:chOff x="3733920" y="4191120"/>
            <a:chExt cx="1523880" cy="2197080"/>
          </a:xfrm>
        </p:grpSpPr>
        <p:sp>
          <p:nvSpPr>
            <p:cNvPr id="134" name=""/>
            <p:cNvSpPr/>
            <p:nvPr/>
          </p:nvSpPr>
          <p:spPr>
            <a:xfrm>
              <a:off x="3886200" y="4191120"/>
              <a:ext cx="457200" cy="1828800"/>
            </a:xfrm>
            <a:custGeom>
              <a:avLst/>
              <a:gdLst/>
              <a:ahLst/>
              <a:rect l="l" t="t" r="r" b="b"/>
              <a:pathLst>
                <a:path w="288" h="1152">
                  <a:moveTo>
                    <a:pt x="0" y="0"/>
                  </a:moveTo>
                  <a:cubicBezTo>
                    <a:pt x="96" y="216"/>
                    <a:pt x="192" y="432"/>
                    <a:pt x="240" y="624"/>
                  </a:cubicBezTo>
                  <a:cubicBezTo>
                    <a:pt x="288" y="816"/>
                    <a:pt x="288" y="984"/>
                    <a:pt x="288" y="11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33920" y="6019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put po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181480" y="2590920"/>
            <a:ext cx="2210040" cy="1981080"/>
            <a:chOff x="5181480" y="2590920"/>
            <a:chExt cx="2210040" cy="1981080"/>
          </a:xfrm>
        </p:grpSpPr>
        <p:sp>
          <p:nvSpPr>
            <p:cNvPr id="137" name=""/>
            <p:cNvSpPr/>
            <p:nvPr/>
          </p:nvSpPr>
          <p:spPr>
            <a:xfrm>
              <a:off x="5257800" y="2590920"/>
              <a:ext cx="2133720" cy="19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Mod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under t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81480" y="373392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411480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1480" y="2819520"/>
              <a:ext cx="152640" cy="1522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81480" y="3200400"/>
              <a:ext cx="152640" cy="1522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38680" y="419112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odel.vh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828800" y="2590920"/>
            <a:ext cx="2057400" cy="1981080"/>
            <a:chOff x="1828800" y="2590920"/>
            <a:chExt cx="2057400" cy="1981080"/>
          </a:xfrm>
        </p:grpSpPr>
        <p:sp>
          <p:nvSpPr>
            <p:cNvPr id="144" name=""/>
            <p:cNvSpPr/>
            <p:nvPr/>
          </p:nvSpPr>
          <p:spPr>
            <a:xfrm>
              <a:off x="1828800" y="2590920"/>
              <a:ext cx="1981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57400" y="344484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Te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28195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3200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3733920"/>
              <a:ext cx="152280" cy="1522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4114800"/>
              <a:ext cx="152280" cy="1522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4191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ster.vh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411-B250-4B19-B6F8-72074A5F5A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Testing a D Flip-Flop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h_df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, s, d, clock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q, qbar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h_df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h_df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, s, clock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 = ‘0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&lt;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ns; qbar &lt;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n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 = ‘0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 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&lt;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ns; qbar &lt;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n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ising_edge(clock)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&lt;= 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ns; qbar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n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3D5-4223-459C-9993-0DF4E27E9B5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flipV="1">
            <a:off x="6761160" y="2158920"/>
            <a:ext cx="0" cy="33926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27680" y="2158560"/>
            <a:ext cx="9720" cy="34038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029120" y="2158560"/>
            <a:ext cx="0" cy="33987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843280"/>
            <a:ext cx="701028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159000" y="2158560"/>
            <a:ext cx="7920" cy="33987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940280" y="2158920"/>
            <a:ext cx="6480" cy="34099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ample Test Pattern on D Flip-Flop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384200" y="2158920"/>
            <a:ext cx="19080" cy="3402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923760" y="3511080"/>
            <a:ext cx="7077240" cy="1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290680" y="2158920"/>
            <a:ext cx="0" cy="3408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7800" y="307188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200" y="2409840"/>
            <a:ext cx="6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41400" y="4214880"/>
            <a:ext cx="705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3080" y="5562720"/>
            <a:ext cx="7027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" y="44496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2920" y="381960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387440" y="3794040"/>
            <a:ext cx="6483240" cy="420840"/>
            <a:chOff x="1387440" y="3794040"/>
            <a:chExt cx="6483240" cy="420840"/>
          </a:xfrm>
        </p:grpSpPr>
        <p:sp>
          <p:nvSpPr>
            <p:cNvPr id="170" name=""/>
            <p:cNvSpPr/>
            <p:nvPr/>
          </p:nvSpPr>
          <p:spPr>
            <a:xfrm>
              <a:off x="2286000" y="4214880"/>
              <a:ext cx="17589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044960" y="3794040"/>
              <a:ext cx="3825720" cy="12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387440" y="3806640"/>
              <a:ext cx="898560" cy="12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0" y="3819600"/>
              <a:ext cx="0" cy="395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3807000"/>
              <a:ext cx="0" cy="395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941400" y="4832280"/>
            <a:ext cx="7059600" cy="23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87440" y="4459320"/>
            <a:ext cx="6438960" cy="401760"/>
            <a:chOff x="1387440" y="4459320"/>
            <a:chExt cx="6438960" cy="401760"/>
          </a:xfrm>
        </p:grpSpPr>
        <p:sp>
          <p:nvSpPr>
            <p:cNvPr id="177" name=""/>
            <p:cNvSpPr/>
            <p:nvPr/>
          </p:nvSpPr>
          <p:spPr>
            <a:xfrm>
              <a:off x="1387440" y="4459320"/>
              <a:ext cx="493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23040" y="4460760"/>
              <a:ext cx="0" cy="3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323040" y="4856040"/>
              <a:ext cx="150336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868400" y="55767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21400" y="5557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6200" y="5557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74240" y="5557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50480" y="5557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78640" y="555768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7880" y="2192040"/>
            <a:ext cx="0" cy="33922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35880" y="564984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403280" y="2409480"/>
            <a:ext cx="6264360" cy="438480"/>
            <a:chOff x="1403280" y="2409480"/>
            <a:chExt cx="6264360" cy="438480"/>
          </a:xfrm>
        </p:grpSpPr>
        <p:sp>
          <p:nvSpPr>
            <p:cNvPr id="189" name=""/>
            <p:cNvSpPr/>
            <p:nvPr/>
          </p:nvSpPr>
          <p:spPr>
            <a:xfrm>
              <a:off x="3168720" y="2452680"/>
              <a:ext cx="873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041720" y="2817720"/>
              <a:ext cx="90504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59000" y="2452680"/>
              <a:ext cx="0" cy="395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03280" y="2446200"/>
              <a:ext cx="90648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0" y="2448000"/>
              <a:ext cx="0" cy="395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41720" y="2435400"/>
              <a:ext cx="0" cy="395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09760" y="2843280"/>
              <a:ext cx="852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37400" y="2433600"/>
              <a:ext cx="0" cy="395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948200" y="2433240"/>
              <a:ext cx="9064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40280" y="2452680"/>
              <a:ext cx="0" cy="395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67280" y="2830320"/>
              <a:ext cx="9064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3880" y="2422440"/>
              <a:ext cx="0" cy="395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761160" y="2409480"/>
              <a:ext cx="9064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92040" y="5102280"/>
            <a:ext cx="7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425600" y="3116160"/>
            <a:ext cx="6400800" cy="420840"/>
            <a:chOff x="1425600" y="3116160"/>
            <a:chExt cx="6400800" cy="420840"/>
          </a:xfrm>
        </p:grpSpPr>
        <p:sp>
          <p:nvSpPr>
            <p:cNvPr id="204" name=""/>
            <p:cNvSpPr/>
            <p:nvPr/>
          </p:nvSpPr>
          <p:spPr>
            <a:xfrm flipV="1">
              <a:off x="1425600" y="3511080"/>
              <a:ext cx="1317600" cy="11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3116160"/>
              <a:ext cx="0" cy="3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1280" y="3511440"/>
              <a:ext cx="1359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40280" y="3133800"/>
              <a:ext cx="0" cy="3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3200" y="3133800"/>
              <a:ext cx="838080" cy="7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1280" y="3133800"/>
              <a:ext cx="0" cy="3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54680" y="3141720"/>
              <a:ext cx="1369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3141720"/>
              <a:ext cx="0" cy="3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24480" y="3514680"/>
              <a:ext cx="1501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384200" y="5153040"/>
            <a:ext cx="6442200" cy="407520"/>
            <a:chOff x="1384200" y="5153040"/>
            <a:chExt cx="6442200" cy="407520"/>
          </a:xfrm>
        </p:grpSpPr>
        <p:sp>
          <p:nvSpPr>
            <p:cNvPr id="214" name=""/>
            <p:cNvSpPr/>
            <p:nvPr/>
          </p:nvSpPr>
          <p:spPr>
            <a:xfrm flipV="1">
              <a:off x="2671920" y="5547960"/>
              <a:ext cx="266220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4120" y="5153040"/>
              <a:ext cx="0" cy="3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5181480"/>
              <a:ext cx="249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84200" y="5410080"/>
              <a:ext cx="1287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71920" y="5410080"/>
              <a:ext cx="0" cy="13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120-FEFF-4ABB-B699-BE25241F8A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Simple Test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.textio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ORK.classio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ynch_dff_test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, s, d, clock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q, qba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ynch_dff_test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ynch_dff_test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_proces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 &lt;= '1', '0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0 n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0 n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ock_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AA0-AA0E-4357-B82D-70D4AC3FD6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Simple Test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synch_dff_te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o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file: TEX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_m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infile.txt”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file: TEX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_m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outfile.txt”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f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sg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0):=“This vector failed!”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eck: std_logic_vector(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o_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B3E-BF1B-4D92-BE8D-B03A169030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Simple Test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while 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endfile(infile)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_v1d(infile, check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r &lt;= check(4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s &lt;= check(3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d &lt;= check(2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0 n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q /= check(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bar /= check(0)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buf, msg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writeline(outfile, buf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write_v1d(outfile, check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file_close(outfil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o_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053-0FCD-48C8-B12F-241026D98C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 for Testbenc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ORK.classio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ynch_dff_testben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ynch_dff_testben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ynch_df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, s, d, clock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 q, qba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ynch_df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ynch_dff_test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, s, d, clock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q, qba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ynch_dff_test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1: asynch_dff_test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ORK.asynch_dff_test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1: asynch_df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ORK.asynch_dff(beh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b_set, tb_reset, tb_d, tb_q, tb_qbar, tb_clk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1: asynch_dff_test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r=&gt;tb_reset, s=&gt;tb_se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d=&gt;tb_d, clock=&gt;tb_clk, q=&gt;tb_q, qbar=&gt;tb_qbar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1: asynch_df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=&gt;tb_reset, s=&gt;tb_set, d=&gt;tb_d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clock=&gt;tb_clk, q=&gt;tb_q, qbar=&gt;tb_qbar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026-DD18-44C8-9A83-26FB9280EB1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 Vecto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ile.txt conta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0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10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0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et set d q qb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bench will write into outfile.t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 vector failed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0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 vector failed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701-B098-4460-B629-336F0CCE50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 Results for Testbenc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DFC-B70E-48EC-9961-1CA46DBA3A2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Better Test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 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s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endfile(infile)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_v1d(infile, check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r &lt;= check(4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s &lt;= check(3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d &lt;= check(2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0 n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q /= check(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bar /= check(0)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buf, msg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writeline(outfile, buf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write_v1d(outfile, check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file_close(outfil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o_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ABA-17BD-4D4F-8659-C4FD098AB5F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ile Declara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X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 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tring; -- ASC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 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teger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rst types of files contain ASCII characters, that form human readable tex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cond can store sequence of integers that are stored in binary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predefined types of the language and can be found in the package STAND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teger_file: INTF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_file: TEX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91E-1514-422E-AEAE-056CC83274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Better Test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B12-3EDF-4DE9-B44E-B2330CF4B2F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er with ASSERT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o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file: TEXT open read_mode is "infile.txt“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heck: std_logic_vector(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wait 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n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no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endfile(infile)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read_v1d(infile, check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r &lt;= check(4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s &lt;= check(3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d &lt;= check(2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0 n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check(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Qbar = check(0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Test Vector failed!“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ver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RROR;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o_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602-6420-4BCA-AB9A-ECA2F97026B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or Conso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2EF-8049-4A62-976F-CAFC713B3EF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bench Overvie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estbench is a structural model with two compon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under t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nents in tester mod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es to generate wavefo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statements to read test vectors from input files and apply them to the model under t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statements to record the outputs that are produced by the model under test in response to the test ve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0F7-92F8-4703-906E-011B74FC4A1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bench Templat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ib1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ib2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b1.package_name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b2.package_name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st_bench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end entity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ch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st_bench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ster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put signal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; output signal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ster_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el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put signal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; output signal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ype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el_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nal signals : type:=initializatio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1: tester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ort=&gt;signal1, ..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1: model_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ort=&gt;signal1, ..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ch_nam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6FB-7949-44C2-8646-09F6ED7C3FA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ther Ways to Create Testbench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ular Approach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bench for 3-bit cou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514600"/>
            <a:ext cx="83818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package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neric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: integer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igned(n-1 downto 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03E-2FE8-49CF-AC88-726A23AB236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abular Approac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eee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eee.std_logic_arith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neric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: integer)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igned(n-1 downto 0)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clock, reset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 = '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 &lt;=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=&gt; '0'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ising_edge(clock)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 &lt;= count +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756-D626-46BB-BD1F-3C9857E3E94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er for the Counter 1/5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arith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test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test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:integer:=6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, reset: in std_logi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count: inout signed(n-1 downto 0)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, reset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: signed(2 downto 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st_vect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rec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: signed(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rec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331-A2D9-4B7E-8C25-7DB828BED25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er for the Counter 2/5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est_vector_arra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a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gt;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est_vecto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st_vectors: test_vector_array := (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reset the coun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1', count =&gt; "0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1', count =&gt; "0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0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clock the counter several ti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00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00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01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01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01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01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1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1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10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10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A93-5D94-4BD9-A4CB-3D6C2C75879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er for the Counter 3/5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11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11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11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11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0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0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00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00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01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reset the coun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1', count =&gt; "0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1', count =&gt; "0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00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clock the counter several ti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00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001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1', reset =&gt; '0', count =&gt; "010"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 =&gt; '0', reset =&gt; '0', count =&gt; "010"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E4B-87A4-413D-B10A-94F838E95D7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ile Declara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XT is also a predefined type in the package TEXT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learn more about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l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_fi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put_fi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 thought of pointers to files contains sequences of integers and characters, respective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also being called as file hand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609-AF0C-42FE-BB3A-34447717F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er for the Counter 4/5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instantiate counter under te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UT: count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neric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3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=&gt;clock, reset=&gt;reset, count=&gt;count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apply test vectors and check res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erif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ector: test_vecto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s: Boolean:=fals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est_vectors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get vector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ector := test_vectors(i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schedule vector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 &lt;= vector.clock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 &lt;= vector.rese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wait for circuit to sett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0 n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6C1-44E8-4F60-9719-59BFC3A48BC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ester for the Counter 5/5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check output vec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 /= vector.cou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counter mulfunctioning"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s := tru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assert reports on fa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ert no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rr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Test vectors failed.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verity no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rr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Test vectors passed.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ver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t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AC6-3091-4F0B-9BC8-9E0425A9CF1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 Resul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572-2713-4BDF-8EDC-305B063B94E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or Conso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1EE-0D3D-4B37-A281-0B278109990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cord Data Typ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object of a record type is composed of elements of the same or different ty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analogou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ype in 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_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ran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U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co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integ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ritical_delay :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no_inputs      : pin_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no_outpu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pin_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recor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nd_comp:modul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nd_component:=(50, 20 ns, 3, 2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46C-DAAD-42C7-921C-6A30D8EB198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cord Data Typ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nd_comp: modul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nd_generic: modul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nd_generic &lt;= nand_comp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nd_comp.no_inputs := 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005-7B6D-4E9D-B1D3-A93C7A23778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rray Data Typ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object of an array type consists of elements of the same typ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RESS_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63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ATA_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7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27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_word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CODE_MATRI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positiv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, natu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atu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g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eger’high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sitiv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g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eger’high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027-8E03-4FB4-A0AA-B7F5D5312C2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rray Data Typ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OM_ADDR: ROM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RES_BUS: ADDRESS_WORD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CODER: DECODE_MATRIX;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defer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CODE_VALUE: DECODE_MATRIX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M_ADDR(5) := “01000101”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ODE_VALUE := DECODER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RESS_BUS(8 to 15) &lt;= x”ff”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constrained Array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specify the number of elements when we declare objects of unconstrained array typ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type declaration may also specify the dimens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_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eger range&lt;&gt;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RESS_WORD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9C0-C575-478D-8522-B13B22F3100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rray Data Typ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_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eger range&lt;&gt;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RESS_WORD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ack_type(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63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p_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dd, sub, mul, div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p_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gt;, op_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gt;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im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AST_STK: STACK_TYPE(-127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27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LU_TIMING: TIMING: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ADD, SUB, MU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((10 ns, 20 ns, 45 ns), 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AD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(20 ns, 15 ns, 40 ns), 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SU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(45 ns, 40 ns, 30 ns));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MU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79C-6809-4DAA-9D9D-6DEA4A237D0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rray Data Typ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IT_VECTO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wo predefined one-dimensional unconstrained array ty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essage: string(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7):= “Hello, VHDL World”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x_bus: bit_vector(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5) := o”37”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_code: bit_vector := (‘0’, ‘1’, ‘1’, ‘1’, ‘0’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constrained array of an unconstrained arr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or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tu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&gt;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_fi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tu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&gt;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t_vector(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7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2B2-021E-4FD5-B4AE-000CA817D22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pening and Closing Fi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declaration, files must be opened prior to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use the files must be clo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procedures for opening and closing fi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OPE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File_Nam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Open_Ki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OPEN_KIND:=READ_MOD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OPEN(File_Statu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OPEN_STATU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File_Nam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Open_Ki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OPEN_KIND:=READ_MODE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CLOS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B86-D693-472D-8F7D-1C9ACA469C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ing Litera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-dimensional array of characters i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ring liter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a tes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ke is detected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“”ready”” entered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objects can be assigned with string liter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_VE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RROR_MESSAGE: string(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9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_message := “Fatal Error: ABORT!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bus_value: bit_vector(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3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S_VALUE := “1101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A56-3F46-412B-A3BF-B7776236083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ing Litera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ype of a string literal can also be explicitly stat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lified express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(L, BIT_VECTOR’(“1110001”)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INT’(‘1’, N); -- ambigu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INT’(character’(‘1’), N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t String Liter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”FF0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”00_0011_1101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”327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”FF_F0_AB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4F5-8BDC-40CF-81CF-62DBD46F811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ring Literals: Assign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different ways to assign values to an array o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p_codes: bit_vector(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5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_codes := “01001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_codes := (‘0’, ‘1’, ‘0’, ‘0’, ‘1’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_codes := (2 =&gt; ‘1’, 5 =&gt; ‘1’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codes :=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E79-04C4-41F7-9A13-77394359784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ype Convers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allows for very restricted type cast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 := INTEGER(polywidth * 1.5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conversion is allowed between closely related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integer and re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array types that have the same dimensions whose index types are closely related and element types are the s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other type conversion is done through user-defined fun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3AE-B1FE-4741-8AD7-D23C69EAF5A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ype Conversion Examp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igne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atura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lt;&gt;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_vec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atura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&gt;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CR: signed(0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A: bit_vector(0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CR &lt;= EMA; 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-- ille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CR &lt;= signed(EM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l_sig: real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_a, int_b: integer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l_sig &lt;= real(int_a)/real(int_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D7B-9C37-4D34-AC51-A99D7B3B6FA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ccess Typ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ers to dynamically allocat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 of some other typ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_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ran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U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co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integ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ritical_delay :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no_inputs      : pin_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no_outpu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pin_typ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recor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T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cc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UL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y do not point to an object, they have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1ptr, mod2ptr: ptr; -- default valu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1ptr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ULE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93E-E879-476D-859A-2AE2DB6F97D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ccess Typ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bjects can be created dynamic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1ptr, mod2ptr: ptr; -- default valu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1ptr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UL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1ptr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ULE’(25, 10 ns, 4, 9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&amp; mis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1ptr.size, mod1ptr.critical_dly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allocate(mod1ptr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1ptr := mod2ptr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itvec_pt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cc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t_vector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tvec1: bitvec_ptr :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t_vector(“1001”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2ptr :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ULE’(critical_dly=&gt;10 ns, no_inputs=&gt;2, no_outputs=&gt;3, size=&gt;100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954-FC64-46F4-84EE-7F9D184EE90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perato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ical opera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ssocia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nd, or, xor, xn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n-associat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nd, n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; -- ille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, /=, &lt;, &lt;=, &gt;, &gt;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_vector(‘0’, ‘1’, ‘1’) &lt; bit_vector((‘1’, ‘0’, ‘1’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V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‘U’, ‘0’, ‘1’, ‘Z’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VL’(‘U’) &lt; MVL’(‘Z’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HDL” &lt; “VHDL92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r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308-5925-41F1-87B6-01CEB0B4B08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perato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ift Opera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l, srl, sla, sra, rol, r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010” sll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0101000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010” srl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0001001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010” sla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0101000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010” sra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1111001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010” rol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0101010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010” ror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0101001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010” ror -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0101010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01010” rol -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0101001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644-D44F-4342-BBC1-8C9368621C6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perato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ithme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, -, &amp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’ &amp; ‘1’ is “01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’ &amp; ‘A’ &amp; ‘T’ is “C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, /, mod, r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B = A – (A/B)*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B = A – B*N –- for some integer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, 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D54-8129-4926-A51D-ACEAC57104C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pening and Closing Fi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file_handle: FILE_TYPE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- pointer to the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Nam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- name of the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_Ki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OPEN_KIND:=READ_MOD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- in which mode the file is to be open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pening modes for a fi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_MODE --  default 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_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ND_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Statu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_OPEN_STATU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- the result of the procedure FILE_OPEN.  Four valu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N_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US_ERR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ME_ERR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_ERR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4BE-1DE8-48DE-AA20-DB01D26C3F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ias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lias declares an alternate names for all or part of a named i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provides a convenient shorthand for items that have long n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br>
              <a:rPr sz="2400"/>
            </a:b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S: bit_vector (31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068480" y="3824280"/>
            <a:ext cx="912600" cy="824040"/>
            <a:chOff x="1068480" y="3824280"/>
            <a:chExt cx="912600" cy="824040"/>
          </a:xfrm>
        </p:grpSpPr>
        <p:sp>
          <p:nvSpPr>
            <p:cNvPr id="297" name=""/>
            <p:cNvSpPr/>
            <p:nvPr/>
          </p:nvSpPr>
          <p:spPr>
            <a:xfrm>
              <a:off x="1143000" y="4191120"/>
              <a:ext cx="8380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19320" y="3824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8480" y="3900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906560" y="3900600"/>
            <a:ext cx="1674720" cy="747720"/>
            <a:chOff x="1906560" y="3900600"/>
            <a:chExt cx="1674720" cy="747720"/>
          </a:xfrm>
        </p:grpSpPr>
        <p:sp>
          <p:nvSpPr>
            <p:cNvPr id="301" name=""/>
            <p:cNvSpPr/>
            <p:nvPr/>
          </p:nvSpPr>
          <p:spPr>
            <a:xfrm>
              <a:off x="1981080" y="4191120"/>
              <a:ext cx="1600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ex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06560" y="3900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581280" y="3824280"/>
            <a:ext cx="3505320" cy="824040"/>
            <a:chOff x="3581280" y="3824280"/>
            <a:chExt cx="3505320" cy="824040"/>
          </a:xfrm>
        </p:grpSpPr>
        <p:sp>
          <p:nvSpPr>
            <p:cNvPr id="304" name=""/>
            <p:cNvSpPr/>
            <p:nvPr/>
          </p:nvSpPr>
          <p:spPr>
            <a:xfrm>
              <a:off x="3581280" y="4191120"/>
              <a:ext cx="35053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ntis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3080" y="3868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32360" y="382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144800" y="5119560"/>
            <a:ext cx="1598400" cy="824040"/>
            <a:chOff x="1144800" y="5119560"/>
            <a:chExt cx="1598400" cy="824040"/>
          </a:xfrm>
        </p:grpSpPr>
        <p:sp>
          <p:nvSpPr>
            <p:cNvPr id="308" name=""/>
            <p:cNvSpPr/>
            <p:nvPr/>
          </p:nvSpPr>
          <p:spPr>
            <a:xfrm>
              <a:off x="1295280" y="51195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144800" y="5195880"/>
              <a:ext cx="1598400" cy="747720"/>
              <a:chOff x="1144800" y="5195880"/>
              <a:chExt cx="1598400" cy="747720"/>
            </a:xfrm>
          </p:grpSpPr>
          <p:sp>
            <p:nvSpPr>
              <p:cNvPr id="310" name=""/>
              <p:cNvSpPr/>
              <p:nvPr/>
            </p:nvSpPr>
            <p:spPr>
              <a:xfrm>
                <a:off x="1219320" y="5486400"/>
                <a:ext cx="152388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urier New"/>
                  </a:rPr>
                  <a:t>op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4800" y="51958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4876920" y="5119560"/>
            <a:ext cx="2286000" cy="824040"/>
            <a:chOff x="4876920" y="5119560"/>
            <a:chExt cx="2286000" cy="824040"/>
          </a:xfrm>
        </p:grpSpPr>
        <p:sp>
          <p:nvSpPr>
            <p:cNvPr id="313" name=""/>
            <p:cNvSpPr/>
            <p:nvPr/>
          </p:nvSpPr>
          <p:spPr>
            <a:xfrm>
              <a:off x="4876920" y="5486400"/>
              <a:ext cx="22860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ff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78360" y="5119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08680" y="5119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581280" y="5119560"/>
            <a:ext cx="1295640" cy="824040"/>
            <a:chOff x="3581280" y="5119560"/>
            <a:chExt cx="1295640" cy="824040"/>
          </a:xfrm>
        </p:grpSpPr>
        <p:sp>
          <p:nvSpPr>
            <p:cNvPr id="317" name=""/>
            <p:cNvSpPr/>
            <p:nvPr/>
          </p:nvSpPr>
          <p:spPr>
            <a:xfrm>
              <a:off x="3657600" y="5486400"/>
              <a:ext cx="12193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81280" y="5119560"/>
              <a:ext cx="4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43200" y="5119560"/>
            <a:ext cx="914400" cy="824040"/>
            <a:chOff x="2743200" y="5119560"/>
            <a:chExt cx="914400" cy="824040"/>
          </a:xfrm>
        </p:grpSpPr>
        <p:sp>
          <p:nvSpPr>
            <p:cNvPr id="320" name=""/>
            <p:cNvSpPr/>
            <p:nvPr/>
          </p:nvSpPr>
          <p:spPr>
            <a:xfrm>
              <a:off x="2743200" y="548640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45000" y="5119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673-7B04-4A70-8402-4EC39789E77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ias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S: bit_vector (31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lia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ign: bit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S(31);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lia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exponent: bit_vector(7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0)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S(30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23);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lia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antissa: bit_vector(22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0)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S(22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lia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opcode: bit_vector(0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4)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S(31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27);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lia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g: bit_vector(2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0)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S(26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24);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lia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ase: bit_vector(4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0)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S(23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19);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lia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offset: bit_vector(18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0)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S(18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0E7-DC3B-436D-96D3-3C732064E0D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declare a file type in the architecture declarative reg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egerFile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f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eger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_in: IntegerFileType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declare the file hand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status: file_open_status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declare fil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              -- status variable of file_open_status typ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other declar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_open(fstatus, datain, “myfile.txt”, read_mod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body of process; reading and writing files and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performing computation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termin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implicitly causes a call to FILE_CLO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B74-DC7A-4958-9628-01835E2BCF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2-19T05:52:54Z</dcterms:modified>
  <cp:revision>5121</cp:revision>
  <dc:subject/>
  <dc:title>PowerPoint Presentation</dc:title>
</cp:coreProperties>
</file>