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B0E-C813-4568-8171-F7D41EF0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35E-902D-4583-9265-8EAEBCE9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A08-9050-4E8F-A57A-88029F99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841-318F-45B3-BE7D-BE21AF48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F9B-A786-47A4-A3C5-15A9CAED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1C2-A887-4963-AD4A-A83DC30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B54-8FF3-49FF-AEC1-C525910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1D4-E06D-4C38-990C-FCD1AEEE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3E0-F6E5-4E2D-8EBE-437435E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C50-246F-498B-B911-1989C85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30E-D4E1-4010-8364-0B8552A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F61-8845-47C8-BE1D-5C9B1EB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9B75-6C11-44E9-B56C-06E63DA45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8008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asic Language Concepts: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6000" y="41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47A-81CD-4A50-807E-BBB5D190EC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Entity Descrip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6" name=""/>
          <p:cNvSpPr/>
          <p:nvPr/>
        </p:nvSpPr>
        <p:spPr>
          <a:xfrm>
            <a:off x="919080" y="1414440"/>
            <a:ext cx="862200" cy="1292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70840" y="2266200"/>
            <a:ext cx="226800" cy="1332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2440" y="295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352160" y="270648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76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800" y="2352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8560" y="173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4520" y="2316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6200" y="2684520"/>
            <a:ext cx="1479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8280" y="8319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345680" y="1074240"/>
            <a:ext cx="3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70080" y="1270080"/>
            <a:ext cx="1476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154944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32040" y="216684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5160" y="15699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0920" y="212256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2400" y="1460520"/>
            <a:ext cx="5828040" cy="12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_f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, Clk, R, 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, Qbar     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_f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08640" y="3743280"/>
            <a:ext cx="1804680" cy="457200"/>
          </a:xfrm>
          <a:prstGeom prst="flowChartManualOperation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40440" y="3742560"/>
            <a:ext cx="430200" cy="30492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8080" y="32097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21280" y="32097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8920" y="4200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4048200"/>
            <a:ext cx="536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30880" y="3867120"/>
            <a:ext cx="53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40440" y="4105440"/>
            <a:ext cx="536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9720" y="28130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33000" y="28130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5440" y="4265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99360" y="38037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45320" y="35449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96640" y="390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" y="4836960"/>
            <a:ext cx="742608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U3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3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  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3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  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, Z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3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2BB-5B06-4EF1-9329-1E1A107F0A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Describing Behavior: Architecture Construct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3338280"/>
            <a:ext cx="8381880" cy="27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signal assignment state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cription of events on the signals in left-hand-side (LHS) in terms of events on the signals in right-hand-side (RH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 of propagation del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: signal values are time-value pai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206880" y="1258920"/>
            <a:ext cx="5937120" cy="13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1960" y="1258920"/>
            <a:ext cx="1709640" cy="1433520"/>
          </a:xfrm>
          <a:prstGeom prst="rect">
            <a:avLst/>
          </a:prstGeom>
          <a:solidFill>
            <a:srgbClr val="ffff91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0920" y="147780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50880" y="1389240"/>
            <a:ext cx="52092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98680" y="138924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3560" y="1581120"/>
            <a:ext cx="325440" cy="1440"/>
          </a:xfrm>
          <a:custGeom>
            <a:avLst/>
            <a:gdLst/>
            <a:ahLst/>
            <a:rect l="l" t="t" r="r" b="b"/>
            <a:pathLst>
              <a:path w="205" h="0">
                <a:moveTo>
                  <a:pt x="0" y="0"/>
                </a:moveTo>
                <a:lnTo>
                  <a:pt x="115" y="0"/>
                </a:lnTo>
                <a:lnTo>
                  <a:pt x="115" y="0"/>
                </a:lnTo>
                <a:lnTo>
                  <a:pt x="2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8360" y="2354400"/>
            <a:ext cx="782640" cy="191880"/>
          </a:xfrm>
          <a:custGeom>
            <a:avLst/>
            <a:gdLst/>
            <a:ahLst/>
            <a:rect l="l" t="t" r="r" b="b"/>
            <a:pathLst>
              <a:path w="493" h="121">
                <a:moveTo>
                  <a:pt x="0" y="0"/>
                </a:moveTo>
                <a:lnTo>
                  <a:pt x="246" y="0"/>
                </a:lnTo>
                <a:moveTo>
                  <a:pt x="0" y="121"/>
                </a:moveTo>
                <a:lnTo>
                  <a:pt x="246" y="121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1128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1128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1128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1128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51000" y="2457360"/>
            <a:ext cx="338040" cy="1800"/>
          </a:xfrm>
          <a:custGeom>
            <a:avLst/>
            <a:gdLst/>
            <a:ahLst/>
            <a:rect l="l" t="t" r="r" b="b"/>
            <a:pathLst>
              <a:path w="213" h="0">
                <a:moveTo>
                  <a:pt x="0" y="0"/>
                </a:moveTo>
                <a:lnTo>
                  <a:pt x="123" y="0"/>
                </a:lnTo>
                <a:lnTo>
                  <a:pt x="123" y="0"/>
                </a:lnTo>
                <a:lnTo>
                  <a:pt x="2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" y="12589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12600" y="23256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3200" y="1411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73200" y="2249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5080" y="142704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3880" y="2546280"/>
            <a:ext cx="10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82600" y="235440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2600" y="147960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53880" y="1477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21880" y="168444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240" y="1684440"/>
            <a:ext cx="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720" y="249408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F66-CDC3-4A65-912A-4C3A5CCCC4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Architecture Construct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01760"/>
            <a:ext cx="5937120" cy="189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VHDL 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claratio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scription of behavior here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762360"/>
            <a:ext cx="5937120" cy="189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VHDL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claratio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scription of behavior here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AF4-3D31-41C9-A16A-A7C206023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current Assignment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assignment operato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peration of digital systems is inherently concur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components of a circuit can be simultaneously operating and concurrently driving distinct signals to new val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signal assignment statements are executed concurrently in simulated time and referred to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urrent signal assignment statements (CSA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538-A15E-4768-B8C9-6DEAAE516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ple CA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4944600"/>
            <a:ext cx="838188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transition occurs at the right side of the assignment statement, the expression is evaluated and the assignment is scheduled to be performed at a future time determined by the time value afte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wo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90440" y="1041480"/>
            <a:ext cx="5937480" cy="370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sum, carr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current_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ncurrent_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2040" y="1484280"/>
            <a:ext cx="271296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ual order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 of signals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time does not proceed from one statement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D2-659D-4AE9-951B-85E8EC471D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ple CA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4" name=""/>
          <p:cNvSpPr/>
          <p:nvPr/>
        </p:nvSpPr>
        <p:spPr>
          <a:xfrm>
            <a:off x="2276640" y="1930320"/>
            <a:ext cx="361800" cy="779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370160" y="1819440"/>
            <a:ext cx="15840" cy="3332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9640" y="25653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75000" y="183960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082960"/>
            <a:ext cx="11034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65280" y="208908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26000" y="20700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280" y="2941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7560" y="2063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43480" y="2081160"/>
            <a:ext cx="110304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465280" y="255276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06920" y="256068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94640" y="206208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711760" y="207324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1960" y="3443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960" y="42559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3920" y="2957400"/>
            <a:ext cx="2147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68680" y="3789360"/>
            <a:ext cx="214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19680" y="4211640"/>
            <a:ext cx="238464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0120" y="5153040"/>
            <a:ext cx="7272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4568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57360" y="4649400"/>
            <a:ext cx="1086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75000" y="4227480"/>
            <a:ext cx="10936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1680" y="515772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541680" y="182844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32320" y="20970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0320" y="20970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32320" y="29415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32320" y="3443400"/>
            <a:ext cx="2179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815160" y="253692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18560" y="203508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592520" y="182844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710320" y="1843200"/>
            <a:ext cx="0" cy="33192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781680" y="1833120"/>
            <a:ext cx="0" cy="33195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918560" y="1819440"/>
            <a:ext cx="0" cy="33192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1760" y="29574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9680" y="2957400"/>
            <a:ext cx="2148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18560" y="29574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749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93920" y="3749760"/>
            <a:ext cx="107136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6000" y="4649760"/>
            <a:ext cx="107136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73360" y="37537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0600" y="37411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7000" y="466236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78800" y="463320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78800" y="4655880"/>
            <a:ext cx="11397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97680" y="464184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97680" y="513396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14600" y="1819440"/>
            <a:ext cx="18108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1446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252520"/>
            <a:ext cx="457200" cy="1295640"/>
          </a:xfrm>
          <a:custGeom>
            <a:avLst/>
            <a:gdLst/>
            <a:ahLst/>
            <a:rect l="l" t="t" r="r" b="b"/>
            <a:pathLst>
              <a:path w="288" h="816">
                <a:moveTo>
                  <a:pt x="0" y="0"/>
                </a:moveTo>
                <a:cubicBezTo>
                  <a:pt x="96" y="52"/>
                  <a:pt x="192" y="104"/>
                  <a:pt x="240" y="240"/>
                </a:cubicBezTo>
                <a:cubicBezTo>
                  <a:pt x="288" y="376"/>
                  <a:pt x="288" y="596"/>
                  <a:pt x="288" y="8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354816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0"/>
                </a:moveTo>
                <a:cubicBezTo>
                  <a:pt x="36" y="96"/>
                  <a:pt x="72" y="192"/>
                  <a:pt x="144" y="240"/>
                </a:cubicBezTo>
                <a:cubicBezTo>
                  <a:pt x="216" y="288"/>
                  <a:pt x="324" y="288"/>
                  <a:pt x="432" y="28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70280" y="3548160"/>
            <a:ext cx="635040" cy="1447560"/>
          </a:xfrm>
          <a:custGeom>
            <a:avLst/>
            <a:gdLst/>
            <a:ahLst/>
            <a:rect l="l" t="t" r="r" b="b"/>
            <a:pathLst>
              <a:path w="400" h="912">
                <a:moveTo>
                  <a:pt x="16" y="0"/>
                </a:moveTo>
                <a:cubicBezTo>
                  <a:pt x="8" y="212"/>
                  <a:pt x="0" y="424"/>
                  <a:pt x="64" y="576"/>
                </a:cubicBezTo>
                <a:cubicBezTo>
                  <a:pt x="128" y="728"/>
                  <a:pt x="336" y="856"/>
                  <a:pt x="400" y="91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12120" y="5172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97240" y="5148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65360" y="5148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31320" y="5148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98000" y="5148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41000" y="5148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105-B969-4874-95AE-CDCED99513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Librari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aries are repositories for frequently used design ent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bra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use identifies a library we want to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gical name (IEEE in the example) usually map to a directory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irectory contains various design units that have been previously compil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cka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one such design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ay contain definition of types, functions, or proced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use determines which packages will be accessed in the librar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2D9-E09B-4688-A1F2-634E9D979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EEE Libra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651-0629-45DB-82B4-BE1EE1E42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 of a Full Adder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1346040"/>
            <a:ext cx="52056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06720" y="134604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19320" y="26542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19320" y="26542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19320" y="26542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19320" y="265428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3440" y="1206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1441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31840" y="2287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3960" y="1444680"/>
            <a:ext cx="116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93960" y="1649520"/>
            <a:ext cx="116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38120" y="146844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7760" y="1539720"/>
            <a:ext cx="93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4760" y="144144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62560" y="144144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54360" y="21780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54360" y="21780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4360" y="21780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54360" y="21780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66920" y="144468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6920" y="273060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19200" y="164448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9200" y="293040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81400" y="1598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22640" y="1398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2478240"/>
            <a:ext cx="266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15397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287440"/>
            <a:ext cx="59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17880" y="14940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99000" y="257796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29080" y="286380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64120" y="237348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67160" y="23734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7160" y="2654280"/>
            <a:ext cx="27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275904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086360" y="1731600"/>
            <a:ext cx="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86360" y="173196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41720" y="243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35680" y="1635120"/>
            <a:ext cx="120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4040" y="254952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35680" y="2066760"/>
            <a:ext cx="6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05480" y="2568600"/>
            <a:ext cx="6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9520" y="1251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62080" y="4067280"/>
            <a:ext cx="5937120" cy="189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VHDL 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f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claratio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place description of behavior here 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flo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AEE-DDD0-44AA-8AD9-ED5CF0F4C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 of a Ful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ll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, c_in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sum, c_out   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ull_adder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f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clar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, s3: std_ulogi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ate_dela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: s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(in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2: s2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(c_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3: s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(in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: su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(s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_in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: car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(s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ate_dela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flo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A7B-51D7-430F-AD1D-0719D76F2D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tiv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VHDL models of digital systems for the purpose of simula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ck start in building useful simulation mod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e set of language constructs for describing attributes of digital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, events, propagation delays, concurrency, and wave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65F-267B-4C1C-8C3F-CC97F7E77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 of a Full Add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845640"/>
            <a:ext cx="83818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an be declared to be of a specific type. Its value is set at the start of the simulation and cannot be changed during 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only predefined physical type of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51080" y="2506680"/>
            <a:ext cx="8257320" cy="37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I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rang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implementation_defin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;                -- femtosec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s  = 1000 fs;     -- picosec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s  = 1000 ps;     -- nano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  = 1000 ns;     -- micro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  = 1000 fu;     -- milli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 = 1000 ms;     -- sec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60 sec;      -- minu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r  = 60 min;      -- hou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uni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_LENG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 f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HIG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AE6-C135-4FBD-81AA-AABA4589E2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19560" y="982800"/>
            <a:ext cx="1778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6240" y="19188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veform of Full Adder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997520" y="90468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877160" y="88236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61120" y="89208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589200" y="90468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147760" y="890640"/>
            <a:ext cx="7920" cy="563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71760" y="15652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882880" y="92376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84720" y="117000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86800" y="19033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65920" y="1135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93720" y="2300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93720" y="29322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36560" y="41911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52560" y="5454720"/>
            <a:ext cx="20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5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out = s2 +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7160" y="2502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70120" y="11779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7320" y="157464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79880" y="114696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13560" y="116208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98960" y="1170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26160" y="15667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8720" y="113904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49960" y="117000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35720" y="11779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157464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5480" y="114696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70680" y="1170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578400" y="2282760"/>
            <a:ext cx="1423800" cy="15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9880" y="188604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16640" y="189396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75200" y="1901880"/>
            <a:ext cx="143352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29240" y="2298600"/>
            <a:ext cx="1416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53400" y="1878120"/>
            <a:ext cx="936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5480" y="1889280"/>
            <a:ext cx="739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2440" y="2925720"/>
            <a:ext cx="7146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89400" y="2513160"/>
            <a:ext cx="9720" cy="4190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08680" y="2526480"/>
            <a:ext cx="936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94080" y="2535120"/>
            <a:ext cx="7146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1280" y="2932200"/>
            <a:ext cx="214164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2534400"/>
            <a:ext cx="936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86880" y="2513160"/>
            <a:ext cx="936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72280" y="2513160"/>
            <a:ext cx="7146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77160" y="2917800"/>
            <a:ext cx="7081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84360" y="35258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0080" y="4800600"/>
            <a:ext cx="24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4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 = s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_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74720" y="61437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7560" y="62024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66040" y="61866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50400" y="61866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63200" y="6188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98320" y="6188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02840" y="6183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96640" y="6183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2520" y="54784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06840" y="547848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03800" y="5051520"/>
            <a:ext cx="9360" cy="40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2720" y="5064840"/>
            <a:ext cx="972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08480" y="507348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35680" y="5470560"/>
            <a:ext cx="21412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76960" y="5072760"/>
            <a:ext cx="972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00920" y="5064840"/>
            <a:ext cx="9720" cy="40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72280" y="506556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91560" y="5484960"/>
            <a:ext cx="70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1080" y="6132600"/>
            <a:ext cx="1420920" cy="11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573480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49920" y="5756400"/>
            <a:ext cx="1436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7600" y="572688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2000" y="6132600"/>
            <a:ext cx="1436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93720" y="48020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311720" y="923760"/>
            <a:ext cx="0" cy="5235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29400" y="95220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438960" y="88704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6680" y="2865600"/>
            <a:ext cx="17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1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 = in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7600" y="3537000"/>
            <a:ext cx="174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 = s1 · 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2000" y="4176720"/>
            <a:ext cx="17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 = in1 · 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94240" y="3106800"/>
            <a:ext cx="93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7320" y="310680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94280" y="3106800"/>
            <a:ext cx="93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18040" y="353376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9680" y="353376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16640" y="3114720"/>
            <a:ext cx="972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7280" y="3114720"/>
            <a:ext cx="73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139160" y="3121200"/>
            <a:ext cx="73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61320" y="3106800"/>
            <a:ext cx="936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75720" y="352584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599320" y="887040"/>
            <a:ext cx="0" cy="5235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91720" y="6159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5920" y="6151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79840" y="1867680"/>
            <a:ext cx="9360" cy="405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8400" y="1876320"/>
            <a:ext cx="1433520" cy="1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78200" y="116208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63600" y="1170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0800" y="15667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7760" y="113904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46520" y="2932200"/>
            <a:ext cx="7873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47760" y="2932200"/>
            <a:ext cx="7146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7280" y="353376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05040" y="310680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74960" y="480528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94240" y="480528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05240" y="480852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08680" y="479736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29400" y="4392720"/>
            <a:ext cx="936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29400" y="440676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34280" y="4406040"/>
            <a:ext cx="9360" cy="419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29240" y="479736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40600" y="4800600"/>
            <a:ext cx="75564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72480" y="4789440"/>
            <a:ext cx="761760" cy="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19440" y="419112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19640" y="419112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2200" y="377208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27600" y="378540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8680" y="378936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4080" y="4194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34280" y="4194000"/>
            <a:ext cx="741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72280" y="4194000"/>
            <a:ext cx="714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69240" y="3789360"/>
            <a:ext cx="936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94640" y="380376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75720" y="3807000"/>
            <a:ext cx="71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0" y="6132240"/>
            <a:ext cx="1636560" cy="46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-33840" y="5470200"/>
            <a:ext cx="1636920" cy="46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-65520" y="4803480"/>
            <a:ext cx="1636920" cy="46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-14760" y="4194000"/>
            <a:ext cx="1636920" cy="50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-65520" y="3536640"/>
            <a:ext cx="1636920" cy="46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-52920" y="2925360"/>
            <a:ext cx="1636920" cy="468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95880" y="1335240"/>
            <a:ext cx="711000" cy="2017440"/>
          </a:xfrm>
          <a:custGeom>
            <a:avLst/>
            <a:gdLst/>
            <a:ahLst/>
            <a:rect l="l" t="t" r="r" b="b"/>
            <a:pathLst>
              <a:path w="448" h="1271">
                <a:moveTo>
                  <a:pt x="0" y="0"/>
                </a:moveTo>
                <a:cubicBezTo>
                  <a:pt x="62" y="57"/>
                  <a:pt x="125" y="114"/>
                  <a:pt x="165" y="256"/>
                </a:cubicBezTo>
                <a:cubicBezTo>
                  <a:pt x="205" y="398"/>
                  <a:pt x="191" y="681"/>
                  <a:pt x="238" y="850"/>
                </a:cubicBezTo>
                <a:cubicBezTo>
                  <a:pt x="285" y="1019"/>
                  <a:pt x="366" y="1145"/>
                  <a:pt x="448" y="127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45080" y="2598840"/>
            <a:ext cx="347760" cy="2001600"/>
          </a:xfrm>
          <a:custGeom>
            <a:avLst/>
            <a:gdLst/>
            <a:ahLst/>
            <a:rect l="l" t="t" r="r" b="b"/>
            <a:pathLst>
              <a:path w="219" h="1261">
                <a:moveTo>
                  <a:pt x="0" y="0"/>
                </a:moveTo>
                <a:cubicBezTo>
                  <a:pt x="0" y="292"/>
                  <a:pt x="0" y="585"/>
                  <a:pt x="36" y="795"/>
                </a:cubicBezTo>
                <a:cubicBezTo>
                  <a:pt x="72" y="1005"/>
                  <a:pt x="145" y="1133"/>
                  <a:pt x="219" y="12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1280" y="3279600"/>
            <a:ext cx="696960" cy="725760"/>
          </a:xfrm>
          <a:custGeom>
            <a:avLst/>
            <a:gdLst/>
            <a:ahLst/>
            <a:rect l="l" t="t" r="r" b="b"/>
            <a:pathLst>
              <a:path w="439" h="457">
                <a:moveTo>
                  <a:pt x="0" y="0"/>
                </a:moveTo>
                <a:cubicBezTo>
                  <a:pt x="23" y="136"/>
                  <a:pt x="46" y="272"/>
                  <a:pt x="119" y="348"/>
                </a:cubicBezTo>
                <a:cubicBezTo>
                  <a:pt x="192" y="424"/>
                  <a:pt x="315" y="440"/>
                  <a:pt x="439" y="4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551-6F03-4444-B0D3-35CCF64851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ctivities at 15 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)       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 (no event)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xpressions evaluated because of this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: s1 = in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)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3: s3 = in1 · in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 not take the evaluated values immediately. Instead, they are scheduled to take the evaluated values at 20 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express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: s2 = s1 · c_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4: sum = s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_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 the current valu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ich is 1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heduled even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executed at 20 ns, which is itself an event and triggers other even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60A-9F8B-46D8-B699-551DE625B4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current Assignment Ru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 of simulation tim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tatements with event occurring at the current time on signal in the RHS of the signal assignment are evaluat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future events that are generated from the execution of these statements are then schedu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time is advanced to the time of next ev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repe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can specify events, delays, and concur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rder of execution of the statements depends on the flow of val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C8B-8C34-4CB9-B709-8A0A7933A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ation of Signal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ized declaration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: std_ulogic:=‘0’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itialization is not necessa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form of concurrent signal assignmen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nal &lt;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ue 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ime 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gnal has a history of values over time: wavefor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HS is referred to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aveform el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-value pair is referred to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we specify multiple waveform elements?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&lt;= (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y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y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) after 15 n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transactions will be gener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st of all the current transactions pending on a signal i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ri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the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r is essentially a waveform on the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9E9-4855-4362-A8DF-ECB7FFA543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ementation of Signal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actions that have not been occurred in simulation i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jected output wavefo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ying wave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a single waveform elemen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&lt;= ‘0’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0 ns, 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 ns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40 ns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790560" y="3576240"/>
            <a:ext cx="7920" cy="1474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525680" y="3576600"/>
            <a:ext cx="0" cy="1108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7520" y="4668840"/>
            <a:ext cx="44863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14320" y="4670280"/>
            <a:ext cx="711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230560" y="3576600"/>
            <a:ext cx="0" cy="1108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941560" y="3576600"/>
            <a:ext cx="6480" cy="1092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652920" y="3576600"/>
            <a:ext cx="0" cy="1108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370400" y="3576600"/>
            <a:ext cx="0" cy="1108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5680" y="4054320"/>
            <a:ext cx="711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30560" y="4667400"/>
            <a:ext cx="711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48040" y="4680000"/>
            <a:ext cx="711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2920" y="4054320"/>
            <a:ext cx="711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525680" y="4054320"/>
            <a:ext cx="0" cy="61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230560" y="4038480"/>
            <a:ext cx="0" cy="61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668760" y="4038480"/>
            <a:ext cx="0" cy="61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363920" y="4038480"/>
            <a:ext cx="0" cy="61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74760" y="4686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99800" y="4686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11160" y="4686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81400" y="46497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33520" y="4668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5480" y="52642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waveforms must be ordered in increa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7800" y="5850000"/>
            <a:ext cx="688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&lt;= ‘0’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0 ns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 n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 ns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40 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FBD-FC7F-47C9-A02F-E4CEB866A1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ved Signal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8160" y="547200"/>
            <a:ext cx="8955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assum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one driver for a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real devices, there may be multiple drivers for a signal, e.g. busses, wired logi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‘0’,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 ns,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 ns,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40 ns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 ns,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 ns,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40 n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hared signal must be of special typ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ol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uses resolution function to resolve driver confli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resolved version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ulogic_v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may define new resolved types, but he must also provide an implementation of resolution fun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3C9-E00E-450C-8535-FDE71038C7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ULOGI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ulog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U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Uninitializ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X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orcing unkn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0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orcing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1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orcing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High imped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Weak un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Weak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Weak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’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don’t c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OLVED std_u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OLV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name of resolution fun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6C0-C3D9-4A46-8BB2-AAA323CBBE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ved Signal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5460840"/>
            <a:ext cx="838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579600" y="1535040"/>
            <a:ext cx="12776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’ @ 1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49320" y="1535040"/>
            <a:ext cx="127800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’ @ 5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127320" y="1535040"/>
            <a:ext cx="127800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’ @ 2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04440" y="20844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600" y="2862360"/>
            <a:ext cx="127764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’ @ 2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49320" y="2855880"/>
            <a:ext cx="127800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’ @ 5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7320" y="2862360"/>
            <a:ext cx="12780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’ @ 4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5240" y="34146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51120" y="4017960"/>
            <a:ext cx="127800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’ @ 2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9120" y="4017960"/>
            <a:ext cx="12776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’ @ 1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77560" y="457344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0480" y="2692440"/>
            <a:ext cx="1698480" cy="11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luti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05320" y="1752480"/>
            <a:ext cx="965160" cy="93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05320" y="3146400"/>
            <a:ext cx="96516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06760" y="3597120"/>
            <a:ext cx="963720" cy="72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68960" y="3262320"/>
            <a:ext cx="3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30120" y="2992320"/>
            <a:ext cx="89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AAD-DD4B-43E4-AE15-E461C05961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ved Signals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RED_OR(inputs: bit_vecto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range lo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puts(j)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1’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nd loop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0’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RED_O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olved_bi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RED_OR bit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resolved_bit signal is associated with resolu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function WIRED_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F68-3C0C-43ED-8F7C-0A66DB2089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ystems are about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is the basic part of any HD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 VHDL object type: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may take values such as 1, 0, Z, X, L, 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think of signal type as representative of 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i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digital system in its simplest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are different from var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an associa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ime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gnal receives a value at a specific point in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retains this value until it receives another value at a point in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A21-0698-4DDC-ABE3-AEA16B629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ditional Signal Assign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861480"/>
            <a:ext cx="83818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to-1, 8-bit M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376200" y="1433520"/>
            <a:ext cx="8381880" cy="466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x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0, in1, in2, in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S0, S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Z   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x4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x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in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0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0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0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0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“00000000”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9600" y="615456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at does the last statement 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E69-8E8A-4DEA-880E-6CCDB99822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4-to-1, 8-bit MU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162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event on input signa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0-in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control signa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0, S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cause a change in the value of the output 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is happens, all four conditions are checked and appropriate one is evalu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 in the RHS are evaluated in the order they app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what i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iority 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previous example, only one condition holds; thus the order does not mat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ome models, priority is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105-E307-4776-A460-D11EB58F4F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iority Behavi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to-2 priority enco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376200" y="1390680"/>
            <a:ext cx="8381880" cy="40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ority_enco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0, S1, S2, S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Z   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iority_encoder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iority_enco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= “00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0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1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0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2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1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3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”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6200" y="5532480"/>
            <a:ext cx="83818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1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model is a combinational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9AF-C156-4737-822B-04256E32A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naffected Keyword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3290760"/>
            <a:ext cx="8381880" cy="32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antic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2 = ‘1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bo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0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 the value of the output signal does not chan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model represents a sequential circu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aff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word is only supported in VHDL 199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265400"/>
            <a:ext cx="83818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= “00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0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01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1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naffected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 S2 = ‘1’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11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3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00”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FC9-7AEF-4CA0-A6E4-ECC9B9388A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lected Signal  Assignment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662040"/>
            <a:ext cx="838188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er file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-only register file with two reading por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147600" y="1709640"/>
            <a:ext cx="8839080" cy="45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ister_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addr1, addr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eg_out_1, reg_out_2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gister_fi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gister_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0,reg2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:=x”12345678”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1,reg3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:=x”abcdef00”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EC6-32AD-4AD3-81FC-0E6DA7B270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71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lected Signal  Assignment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47600" y="4736880"/>
            <a:ext cx="85392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imilar to case statement in 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hoices are evaluated; only one must be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ed choices must cover all the possibi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y do we need others in the last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147600" y="698400"/>
            <a:ext cx="8839080" cy="400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_out_1 &lt;= reg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2(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_out_2 &lt;= reg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1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reg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 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7600" y="5343480"/>
            <a:ext cx="83818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186-BE39-4CCF-A9D7-ADE140B183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Note in Portabilit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0,reg2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std_logic_vector(3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:=x”12345678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ome old simulators, hexadecimal values must be converted to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unc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_stdlogicvector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vailable in std_logic_1164 pack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0,reg2: std_logic_vector(3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: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_stdlogicvector(x”12345678”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D vendors offer many type conversion functions with different names in pack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kinds of packages are usually in IEEE libra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IEEE libra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6CB-CD85-4B6B-B605-160978B367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s with CSA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Schema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each component (e.g. gate)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lay el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a schematic interconnecting all the components. Uniquely label each compon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the input signals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put por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the output signals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por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remaining signals are internal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ociate a type with each input, output, and internal signals (e.g. std_log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hat each input port, output port, and internal signal are labeled with a unique 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BD0-883A-4230-95F5-D0101E7FC64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729560" y="1758960"/>
            <a:ext cx="566640" cy="2593800"/>
          </a:xfrm>
          <a:prstGeom prst="rect">
            <a:avLst/>
          </a:prstGeom>
          <a:solidFill>
            <a:srgbClr val="d86c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1758960"/>
            <a:ext cx="566640" cy="2593800"/>
          </a:xfrm>
          <a:prstGeom prst="rect">
            <a:avLst/>
          </a:prstGeom>
          <a:solidFill>
            <a:srgbClr val="d86c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n Example Schemati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 element model of a digital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442800" y="1843200"/>
            <a:ext cx="246240" cy="21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2800" y="2212920"/>
            <a:ext cx="246240" cy="21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2800" y="3940200"/>
            <a:ext cx="246240" cy="21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38280" y="1773360"/>
            <a:ext cx="914400" cy="853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38280" y="3513240"/>
            <a:ext cx="914400" cy="853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70440" y="3513240"/>
            <a:ext cx="914400" cy="853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70440" y="1785960"/>
            <a:ext cx="914400" cy="853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75440" y="3513240"/>
            <a:ext cx="914400" cy="853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81840" y="1852560"/>
            <a:ext cx="2462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81840" y="3835440"/>
            <a:ext cx="2462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9040" y="197496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9040" y="231624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9040" y="404352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74600" y="2316240"/>
            <a:ext cx="0" cy="14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74600" y="371628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52680" y="197496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52680" y="231624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84840" y="1974960"/>
            <a:ext cx="29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52680" y="404352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4840" y="404352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9840" y="3940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38640" y="2316240"/>
            <a:ext cx="0" cy="14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38640" y="37162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000" y="197496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2000" y="371628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8320" y="4367160"/>
            <a:ext cx="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11840" y="436716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00320" y="435276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975040" y="4157640"/>
            <a:ext cx="363600" cy="11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14000" y="47181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80D-1D01-4CF5-8811-63A80C2227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Template for VHDL with CSA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52" name=""/>
          <p:cNvSpPr/>
          <p:nvPr/>
        </p:nvSpPr>
        <p:spPr>
          <a:xfrm>
            <a:off x="147600" y="927000"/>
            <a:ext cx="8839080" cy="529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brary-name-1, library-name-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brary-name-1.package-name.all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brary-name-2.package-name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utput signa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_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ch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clare internal sign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you may have multiple signals of different typ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al-signal-1: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al-signal-2: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pecify value of each signal as a function other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al-signal-1 &lt;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imple, conditional, or selected CS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al-signal-2 &lt;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imple, conditional, or selected C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-signal-1 &lt;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imple, conditional, or selected CS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-signal-2 &lt;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imple, conditional, or selected CS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E09-3259-4DA0-A2BA-4584FA4FD9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2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quence of values assigned to a signal over time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avefor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the sig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may be declared to be of a specific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er, real, or charac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is is the case, signal does not represent a single wi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are simulating at a higher level of abstraction we wouldn’t be concerned how many bit an integer signal should be assig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EB4-8FD5-4B66-8D5E-3E4AFFFE8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lock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disables signal drivers by using gu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544680" y="1665360"/>
            <a:ext cx="7467480" cy="140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lock-lab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guard-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lock-head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lock-declaratio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ncurrent-statements; -- any number or n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b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7960" y="3219480"/>
            <a:ext cx="79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uard-express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ears in the block statem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signal ca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UA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ype Boolean with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4680" y="4421160"/>
            <a:ext cx="746748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OBE=‘1’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uarded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block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080" y="5456160"/>
            <a:ext cx="77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A statement is executed if the implicit signal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UA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RUE. In the example, Z gets the value of A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STROBE = ‘1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9A3-AE67-4212-B222-B7021B0CF1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lock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ignal GUARD can be used explicit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61800" y="1494000"/>
            <a:ext cx="7467840" cy="9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2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EAR=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T=‘1’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UA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block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1800" y="3141720"/>
            <a:ext cx="7467840" cy="287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_flip-fl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, cl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_flip_flo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_flip_fl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=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k’STABLE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mp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uard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q &lt;= te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block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0200" y="256212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sing-edge triggered D flip-fl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DAF-960D-4AD8-B786-A6777324DF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ay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agation delay is an important aspect of a compon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various delay models to accurately represent the behavior of digital circu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r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8E8-FFAC-4B21-B74B-1D0DACAA54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ertial Dela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ircuits have inert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takes a finite amount of time and energy for the output of circuit to respond to any change on the inpu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hange on the input (event) ha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s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certain period of time in order the output to respo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, there will be no change at the output corresponding to the ev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ertial delay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default delay model for VHDL 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467-0E71-4522-8A99-05A7EDEE39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00200" y="1403280"/>
            <a:ext cx="0" cy="19670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2480" y="1433520"/>
            <a:ext cx="0" cy="19670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30480" y="1373040"/>
            <a:ext cx="0" cy="19670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3920" y="1403280"/>
            <a:ext cx="0" cy="19670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38800" y="1405080"/>
            <a:ext cx="0" cy="196668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43680" y="1387440"/>
            <a:ext cx="0" cy="19670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40280" y="1405080"/>
            <a:ext cx="0" cy="196668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ertial Delay Model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7040" y="4030200"/>
            <a:ext cx="8382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 &lt;= Input + 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ropagation-del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1 is the output waveform for delay = 8 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2 is the output waveform for delay = 2 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pulse with a width of less than the propagation delay through the gate is rejec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-12600" y="2879640"/>
            <a:ext cx="10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160" y="22096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861840" y="3354480"/>
            <a:ext cx="4978440" cy="15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61840" y="2697120"/>
            <a:ext cx="4978440" cy="7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16240" y="270504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48280" y="2278080"/>
            <a:ext cx="9360" cy="40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78560" y="2278080"/>
            <a:ext cx="9360" cy="40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52960" y="228600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67200" y="228600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87920" y="269712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2480" y="3357720"/>
            <a:ext cx="939960" cy="10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11360" y="294876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92440" y="2940120"/>
            <a:ext cx="718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40000" y="2967120"/>
            <a:ext cx="9720" cy="404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668840" y="3354480"/>
            <a:ext cx="1171440" cy="1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861840" y="2028960"/>
            <a:ext cx="4996080" cy="23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3240" y="160164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61840" y="205272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29080" y="204156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33920" y="166680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05080" y="204156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90840" y="1633680"/>
            <a:ext cx="936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90840" y="164772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95360" y="1647720"/>
            <a:ext cx="972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43680" y="2052720"/>
            <a:ext cx="714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52480" y="1403280"/>
            <a:ext cx="0" cy="1967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19320" y="1647720"/>
            <a:ext cx="972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19320" y="1662120"/>
            <a:ext cx="714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29080" y="1662120"/>
            <a:ext cx="9720" cy="419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66880" y="269712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2697120"/>
            <a:ext cx="71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19320" y="2705040"/>
            <a:ext cx="7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43280" y="2697120"/>
            <a:ext cx="41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82720" y="2953440"/>
            <a:ext cx="972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21080" y="3370320"/>
            <a:ext cx="718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0" y="2968560"/>
            <a:ext cx="719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59280" y="2981160"/>
            <a:ext cx="718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68840" y="2953440"/>
            <a:ext cx="9360" cy="405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015320" y="2106720"/>
            <a:ext cx="917280" cy="817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698880" y="269892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99240" y="2698920"/>
            <a:ext cx="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80280" y="3200400"/>
            <a:ext cx="73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89720" y="32814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32640" y="335268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6708600" y="2351160"/>
            <a:ext cx="4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932600" y="2513160"/>
            <a:ext cx="4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15080" y="210672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24680" y="2552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9040" y="247176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55400" y="213516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05080" y="314784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92440" y="3154320"/>
            <a:ext cx="19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82160" y="281304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60360" y="337176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3680" y="3367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3480" y="33685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6640" y="3367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1240" y="33717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63160" y="3357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63360" y="3357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4F8-3AAF-4B92-A697-6C0BAB749C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ertial Dela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7320" y="990360"/>
            <a:ext cx="8867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event does not persist for the dur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ulse rejection wid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output does not respo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HDL language uses the propagation delay through the component as the default pulse rejection wid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know the pulse rejection width of a component, we can us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jec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s inerti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xor y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form in VHDL’93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gnal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ject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time-express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nertial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value-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time-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not specify pulse rejection width in VHDL’87. Delay value is used for thi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F1-4BF3-45DA-8340-4E6FE861F3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ansport Delay Mode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560" y="1209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use transport model for components with no inert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accurate modeling of wire del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small feature size in modern day circuits, it is important to model the propagation delay of wi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event is propagated to the output. The change does not have to persi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very short pulses are propagated in this mod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&lt;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y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 model is not commonly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delay model is inerti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782-C59E-4593-A837-0F0CA96855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7600" y="2532240"/>
            <a:ext cx="88390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um, carr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_ad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port_del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: std_logic :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&lt;= (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ransport_del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ansport Delay Model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404960" y="1100160"/>
            <a:ext cx="46450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wires as delay el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 type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1835280" y="1149480"/>
            <a:ext cx="782640" cy="20628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65240" y="1060560"/>
            <a:ext cx="52092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13040" y="106056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17920" y="1252440"/>
            <a:ext cx="325440" cy="1800"/>
          </a:xfrm>
          <a:custGeom>
            <a:avLst/>
            <a:gdLst/>
            <a:ahLst/>
            <a:rect l="l" t="t" r="r" b="b"/>
            <a:pathLst>
              <a:path w="205" h="0">
                <a:moveTo>
                  <a:pt x="0" y="0"/>
                </a:moveTo>
                <a:lnTo>
                  <a:pt x="115" y="0"/>
                </a:lnTo>
                <a:lnTo>
                  <a:pt x="115" y="0"/>
                </a:lnTo>
                <a:lnTo>
                  <a:pt x="2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2720" y="2025720"/>
            <a:ext cx="782640" cy="191880"/>
          </a:xfrm>
          <a:custGeom>
            <a:avLst/>
            <a:gdLst/>
            <a:ahLst/>
            <a:rect l="l" t="t" r="r" b="b"/>
            <a:pathLst>
              <a:path w="493" h="121">
                <a:moveTo>
                  <a:pt x="0" y="0"/>
                </a:moveTo>
                <a:lnTo>
                  <a:pt x="246" y="0"/>
                </a:lnTo>
                <a:moveTo>
                  <a:pt x="0" y="121"/>
                </a:moveTo>
                <a:lnTo>
                  <a:pt x="246" y="121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25640" y="19209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25640" y="19209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25640" y="19209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25640" y="192096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65360" y="2128680"/>
            <a:ext cx="338040" cy="1800"/>
          </a:xfrm>
          <a:custGeom>
            <a:avLst/>
            <a:gdLst/>
            <a:ahLst/>
            <a:rect l="l" t="t" r="r" b="b"/>
            <a:pathLst>
              <a:path w="213" h="0">
                <a:moveTo>
                  <a:pt x="0" y="0"/>
                </a:moveTo>
                <a:lnTo>
                  <a:pt x="123" y="0"/>
                </a:lnTo>
                <a:lnTo>
                  <a:pt x="123" y="0"/>
                </a:lnTo>
                <a:lnTo>
                  <a:pt x="2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3440" y="93024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760" y="19969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57720" y="1046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1917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49440" y="1098720"/>
            <a:ext cx="9504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8240" y="2217600"/>
            <a:ext cx="10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596960" y="202572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96960" y="115092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68240" y="1149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236240" y="135576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36600" y="1355760"/>
            <a:ext cx="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89080" y="2165400"/>
            <a:ext cx="9504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60840" y="1996920"/>
            <a:ext cx="365040" cy="244800"/>
          </a:xfrm>
          <a:prstGeom prst="rect">
            <a:avLst/>
          </a:prstGeom>
          <a:solidFill>
            <a:srgbClr val="d86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60840" y="1131840"/>
            <a:ext cx="365040" cy="244440"/>
          </a:xfrm>
          <a:prstGeom prst="rect">
            <a:avLst/>
          </a:prstGeom>
          <a:solidFill>
            <a:srgbClr val="d86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125880" y="2128320"/>
            <a:ext cx="331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5880" y="1255680"/>
            <a:ext cx="33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1000" y="62326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 delay is 4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71600" y="8985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71600" y="1812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8FD-73D9-4362-9C7C-D5EA8910D4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12720" y="39243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560" y="71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ransport Delay Model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141560" y="590400"/>
            <a:ext cx="15840" cy="5043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1040" y="13366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232000" y="611280"/>
            <a:ext cx="0" cy="50227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853920"/>
            <a:ext cx="11034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36680" y="8604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97400" y="84132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171288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960" y="8352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314880" y="852480"/>
            <a:ext cx="110304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236680" y="132408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378320" y="133200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566040" y="8334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483160" y="84456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3360" y="2214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3360" y="30272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71440" y="2214720"/>
            <a:ext cx="2148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1520" y="3924360"/>
            <a:ext cx="7272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2280" y="334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292560" y="3919320"/>
            <a:ext cx="10857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316320" y="3014640"/>
            <a:ext cx="10936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94000" y="599760"/>
            <a:ext cx="4680" cy="50338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03720" y="86832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81720" y="86832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03720" y="17128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19560" y="1728720"/>
            <a:ext cx="1073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586560" y="1308240"/>
            <a:ext cx="1103400" cy="15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89960" y="806400"/>
            <a:ext cx="0" cy="501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392720" y="599760"/>
            <a:ext cx="0" cy="50338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5481720" y="614160"/>
            <a:ext cx="9360" cy="5019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6550200" y="604800"/>
            <a:ext cx="2880" cy="50292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7689960" y="590400"/>
            <a:ext cx="0" cy="5043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397400" y="172872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92720" y="2208240"/>
            <a:ext cx="21477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89960" y="17128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280" y="252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5320" y="2521080"/>
            <a:ext cx="213336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57400" y="3421080"/>
            <a:ext cx="214632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00640" y="25441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564240" y="340452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564240" y="3427200"/>
            <a:ext cx="11397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97880" y="341244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83480" y="3919680"/>
            <a:ext cx="2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07280" y="565776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8400" y="5634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96520" y="5634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263560" y="5634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64000" y="56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437600" y="5634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2720" y="47800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56340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5160" y="50292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8360" y="4172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550200" y="2208240"/>
            <a:ext cx="113976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392720" y="2529000"/>
            <a:ext cx="10936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483160" y="3005280"/>
            <a:ext cx="10936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81720" y="25441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50200" y="3021120"/>
            <a:ext cx="113976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89960" y="25441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417920" y="3911400"/>
            <a:ext cx="1086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91080" y="3911400"/>
            <a:ext cx="10857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65320" y="4780080"/>
            <a:ext cx="10731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44600" y="428940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46400" y="4289400"/>
            <a:ext cx="10731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2560" y="428616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19560" y="4788000"/>
            <a:ext cx="10731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06760" y="4773600"/>
            <a:ext cx="1084320" cy="32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99000" y="4788000"/>
            <a:ext cx="10731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62800" y="428940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550200" y="4285800"/>
            <a:ext cx="1147680" cy="32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97880" y="428940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87680" y="511488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89480" y="5114880"/>
            <a:ext cx="111456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06920" y="511164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57400" y="5634000"/>
            <a:ext cx="323208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920" y="5634000"/>
            <a:ext cx="240660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93680" y="76032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65320" y="892080"/>
            <a:ext cx="1000080" cy="3645000"/>
          </a:xfrm>
          <a:custGeom>
            <a:avLst/>
            <a:gdLst/>
            <a:ahLst/>
            <a:rect l="l" t="t" r="r" b="b"/>
            <a:pathLst>
              <a:path w="667" h="2314">
                <a:moveTo>
                  <a:pt x="0" y="0"/>
                </a:moveTo>
                <a:cubicBezTo>
                  <a:pt x="72" y="147"/>
                  <a:pt x="145" y="295"/>
                  <a:pt x="183" y="595"/>
                </a:cubicBezTo>
                <a:cubicBezTo>
                  <a:pt x="221" y="895"/>
                  <a:pt x="147" y="1516"/>
                  <a:pt x="228" y="1802"/>
                </a:cubicBezTo>
                <a:cubicBezTo>
                  <a:pt x="309" y="2088"/>
                  <a:pt x="488" y="2201"/>
                  <a:pt x="667" y="231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89160" y="446868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66920" y="153360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e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11560" y="2736720"/>
            <a:ext cx="2003400" cy="1890720"/>
          </a:xfrm>
          <a:custGeom>
            <a:avLst/>
            <a:gdLst/>
            <a:ahLst/>
            <a:rect l="l" t="t" r="r" b="b"/>
            <a:pathLst>
              <a:path w="1262" h="1191">
                <a:moveTo>
                  <a:pt x="0" y="1152"/>
                </a:moveTo>
                <a:cubicBezTo>
                  <a:pt x="62" y="1171"/>
                  <a:pt x="125" y="1191"/>
                  <a:pt x="256" y="1042"/>
                </a:cubicBezTo>
                <a:cubicBezTo>
                  <a:pt x="387" y="893"/>
                  <a:pt x="618" y="430"/>
                  <a:pt x="786" y="256"/>
                </a:cubicBezTo>
                <a:cubicBezTo>
                  <a:pt x="954" y="82"/>
                  <a:pt x="1108" y="41"/>
                  <a:pt x="126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92360" y="3240000"/>
            <a:ext cx="13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72280" y="61754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we used inertial delay for wi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B57-CEEE-4104-87D6-74D584FE1E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ertial vs. Transpo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model is being used depends on the compon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assume that we have a model of board level design, and VHDL models for chips on the 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ay use transport model for the delay experienced by signals connecting chips on the bo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199-8394-43B8-9DB9-4216F5B5F77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90520" y="1258920"/>
            <a:ext cx="1710000" cy="1433520"/>
          </a:xfrm>
          <a:prstGeom prst="rect">
            <a:avLst/>
          </a:prstGeom>
          <a:solidFill>
            <a:srgbClr val="ffff91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ntity-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251160"/>
            <a:ext cx="838188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ign ent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rimary programming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er, logic block, chip, or entir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spects of a digital system we want to describ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how is it connected to other components? (inputs and outpu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at does it do for us? Internal behavior of the design (Boolean equations, truth tables, structural descriptio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049480" y="147780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9800" y="138924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7240" y="138924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32120" y="1581120"/>
            <a:ext cx="325440" cy="1440"/>
          </a:xfrm>
          <a:custGeom>
            <a:avLst/>
            <a:gdLst/>
            <a:ahLst/>
            <a:rect l="l" t="t" r="r" b="b"/>
            <a:pathLst>
              <a:path w="205" h="0">
                <a:moveTo>
                  <a:pt x="0" y="0"/>
                </a:moveTo>
                <a:lnTo>
                  <a:pt x="115" y="0"/>
                </a:lnTo>
                <a:lnTo>
                  <a:pt x="115" y="0"/>
                </a:lnTo>
                <a:lnTo>
                  <a:pt x="2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6920" y="2354400"/>
            <a:ext cx="782640" cy="191880"/>
          </a:xfrm>
          <a:custGeom>
            <a:avLst/>
            <a:gdLst/>
            <a:ahLst/>
            <a:rect l="l" t="t" r="r" b="b"/>
            <a:pathLst>
              <a:path w="493" h="121">
                <a:moveTo>
                  <a:pt x="0" y="0"/>
                </a:moveTo>
                <a:lnTo>
                  <a:pt x="246" y="0"/>
                </a:lnTo>
                <a:moveTo>
                  <a:pt x="0" y="121"/>
                </a:moveTo>
                <a:lnTo>
                  <a:pt x="246" y="121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79560" y="2457360"/>
            <a:ext cx="338400" cy="1800"/>
          </a:xfrm>
          <a:custGeom>
            <a:avLst/>
            <a:gdLst/>
            <a:ahLst/>
            <a:rect l="l" t="t" r="r" b="b"/>
            <a:pathLst>
              <a:path w="213" h="0">
                <a:moveTo>
                  <a:pt x="0" y="0"/>
                </a:moveTo>
                <a:lnTo>
                  <a:pt x="123" y="0"/>
                </a:lnTo>
                <a:lnTo>
                  <a:pt x="123" y="0"/>
                </a:lnTo>
                <a:lnTo>
                  <a:pt x="2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640" y="12589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5960" y="232560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0560" y="1411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30560" y="2249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142704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82800" y="2546280"/>
            <a:ext cx="10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811160" y="235440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147960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982440" y="147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50440" y="168444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0800" y="1684440"/>
            <a:ext cx="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249408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5F4-7D13-45CF-BD56-002655141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we do not specify any delay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&lt;= (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y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&lt;= (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y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ay choose to ignore delays wh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not have realistic delay for the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not interested in physical timing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an we preserve the concurrency in case of no propagation delays for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functional correctness, we must maintain the correct ordering of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language provides a infinitesimally small delay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lta dela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74D-A05F-42F9-8CD4-05D5F6323D4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ment takes place a delay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fter the RHS is evalua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vents with zero delay are produced at timestep T, the simulator simply organizes and processes events in time order of occurre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s at T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processed fir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events at T+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ed by the events occurring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conds la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le the time advances with step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conds, the simulation time does not actually proce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686-7B48-4361-95ED-728C86687E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4" name=""/>
          <p:cNvSpPr/>
          <p:nvPr/>
        </p:nvSpPr>
        <p:spPr>
          <a:xfrm>
            <a:off x="3780000" y="1079640"/>
            <a:ext cx="698400" cy="5601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79840" y="130644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1960" y="1754280"/>
            <a:ext cx="698760" cy="5601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02160" y="198108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848200" y="1434960"/>
            <a:ext cx="698760" cy="5605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48400" y="166212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5400000">
            <a:off x="2422800" y="1091520"/>
            <a:ext cx="304920" cy="290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16200" y="117000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5400000">
            <a:off x="2445120" y="2026440"/>
            <a:ext cx="304920" cy="290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738520" y="210492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71720" y="2165400"/>
            <a:ext cx="9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865600" y="1243080"/>
            <a:ext cx="92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906560" y="2173320"/>
            <a:ext cx="53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075040" y="123840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13400" y="1366920"/>
            <a:ext cx="58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40400" y="204156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94440" y="159876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94440" y="1366920"/>
            <a:ext cx="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202360" y="182412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87960" y="18241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70800" y="17254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30480" y="1243080"/>
            <a:ext cx="0" cy="6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16080" y="1895400"/>
            <a:ext cx="16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25600" y="1538280"/>
            <a:ext cx="0" cy="6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9480" y="1531800"/>
            <a:ext cx="146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89080" y="11955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84560" y="2124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0080" y="1257480"/>
            <a:ext cx="2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2000" y="2631960"/>
            <a:ext cx="8839080" cy="35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, s3, s4: std_logic :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2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1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4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93120" y="1063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86720" y="1913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77640" y="8380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06080" y="21463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74320" y="9698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01600" y="20131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11280" y="13320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468-6ED3-4F20-A017-ED1DF68EDB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843200" y="638280"/>
            <a:ext cx="450720" cy="524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560" y="85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02" name=""/>
          <p:cNvSpPr/>
          <p:nvPr/>
        </p:nvSpPr>
        <p:spPr>
          <a:xfrm>
            <a:off x="612720" y="4338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141560" y="619200"/>
            <a:ext cx="15840" cy="5276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1040" y="13651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044800" y="655560"/>
            <a:ext cx="0" cy="5183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57400" y="136044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65840" y="1598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5560" y="863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3360" y="2057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3360" y="28274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171440" y="1562040"/>
            <a:ext cx="855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5560" y="36100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182600" y="23176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917800" y="614160"/>
            <a:ext cx="19080" cy="52513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39760" y="156780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27160" y="2062080"/>
            <a:ext cx="88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3825720" y="658800"/>
            <a:ext cx="1800" cy="5208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722840" y="642960"/>
            <a:ext cx="19080" cy="52228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635800" y="635040"/>
            <a:ext cx="2880" cy="5232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43720" y="618840"/>
            <a:ext cx="0" cy="53053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46600" y="155412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49480" y="23266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35440" y="312840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55640" y="58579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13680" y="5877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64360" y="5877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86680" y="5891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37800" y="5877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361920" y="5877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2720" y="51228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50880" y="58770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1000" y="38084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" y="45147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52360" y="31417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50920" y="43434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41560" y="382572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65320" y="4620600"/>
            <a:ext cx="0" cy="50148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1157400" y="511164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050920" y="1366920"/>
            <a:ext cx="91296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949480" y="917640"/>
            <a:ext cx="91296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35440" y="91764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49840" y="136836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648400" y="136836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78640" y="88884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464600" y="596880"/>
            <a:ext cx="0" cy="5275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8400" y="5856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933280" y="890640"/>
            <a:ext cx="180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4741920" y="884160"/>
            <a:ext cx="1440" cy="505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6540480" y="868320"/>
            <a:ext cx="144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33640" y="205416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35440" y="1554120"/>
            <a:ext cx="915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741920" y="1546200"/>
            <a:ext cx="915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38680" y="156204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5664240" y="2046240"/>
            <a:ext cx="915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6548400" y="2046240"/>
            <a:ext cx="91620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7960" y="22604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060640" y="2833200"/>
            <a:ext cx="87480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946240" y="2368080"/>
            <a:ext cx="89064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43360" y="234936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0120" y="2362320"/>
            <a:ext cx="0" cy="458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851280" y="2825280"/>
            <a:ext cx="87480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751280" y="23320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748040" y="23414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27520" y="23187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653080" y="2825280"/>
            <a:ext cx="87480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567480" y="23464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550200" y="23414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4200" y="30672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4800" y="31496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41920" y="312048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30400" y="36133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36880" y="36068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556320" y="310824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45160" y="3121200"/>
            <a:ext cx="88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37240" y="31147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573960" y="3614760"/>
            <a:ext cx="88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57400" y="382752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49840" y="383220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49480" y="383544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48040" y="434196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740120" y="433548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34000" y="384804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649840" y="384984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56320" y="384336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08760" y="5234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063880" y="459576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2941560" y="4601880"/>
            <a:ext cx="90972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841920" y="4601880"/>
            <a:ext cx="90936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41920" y="4612680"/>
            <a:ext cx="0" cy="50148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34000" y="510372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735440" y="463536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649840" y="461016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550200" y="461016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150920" y="535140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914560" y="53830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028960" y="5359320"/>
            <a:ext cx="90936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2921040" y="5860800"/>
            <a:ext cx="90972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51280" y="537624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857760" y="5359320"/>
            <a:ext cx="90936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735440" y="5352840"/>
            <a:ext cx="90972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641920" y="5360760"/>
            <a:ext cx="90972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64240" y="538884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6570720" y="586728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6120" y="1711440"/>
            <a:ext cx="12672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75040" y="1800360"/>
            <a:ext cx="320400" cy="2322360"/>
          </a:xfrm>
          <a:custGeom>
            <a:avLst/>
            <a:gdLst/>
            <a:ahLst/>
            <a:rect l="l" t="t" r="r" b="b"/>
            <a:pathLst>
              <a:path w="202" h="1463">
                <a:moveTo>
                  <a:pt x="0" y="0"/>
                </a:moveTo>
                <a:cubicBezTo>
                  <a:pt x="101" y="271"/>
                  <a:pt x="202" y="542"/>
                  <a:pt x="202" y="786"/>
                </a:cubicBezTo>
                <a:cubicBezTo>
                  <a:pt x="202" y="1030"/>
                  <a:pt x="101" y="1246"/>
                  <a:pt x="0" y="14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63800" y="405432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04920" y="3106800"/>
            <a:ext cx="352440" cy="1711440"/>
          </a:xfrm>
          <a:custGeom>
            <a:avLst/>
            <a:gdLst/>
            <a:ahLst/>
            <a:rect l="l" t="t" r="r" b="b"/>
            <a:pathLst>
              <a:path w="222" h="1078">
                <a:moveTo>
                  <a:pt x="183" y="0"/>
                </a:moveTo>
                <a:cubicBezTo>
                  <a:pt x="202" y="252"/>
                  <a:pt x="222" y="505"/>
                  <a:pt x="192" y="685"/>
                </a:cubicBezTo>
                <a:cubicBezTo>
                  <a:pt x="162" y="865"/>
                  <a:pt x="81" y="971"/>
                  <a:pt x="0" y="107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475920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71720" y="246528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90560" y="2598840"/>
            <a:ext cx="298440" cy="2235240"/>
          </a:xfrm>
          <a:custGeom>
            <a:avLst/>
            <a:gdLst/>
            <a:ahLst/>
            <a:rect l="l" t="t" r="r" b="b"/>
            <a:pathLst>
              <a:path w="188" h="1408">
                <a:moveTo>
                  <a:pt x="188" y="1408"/>
                </a:moveTo>
                <a:cubicBezTo>
                  <a:pt x="99" y="1104"/>
                  <a:pt x="10" y="801"/>
                  <a:pt x="5" y="566"/>
                </a:cubicBezTo>
                <a:cubicBezTo>
                  <a:pt x="0" y="331"/>
                  <a:pt x="80" y="165"/>
                  <a:pt x="1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00" y="3067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-11880" y="3808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45147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00" y="526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800" y="229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173-2F06-47F4-BFD7-6027D2DB891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 flipV="1">
            <a:off x="3825720" y="3124080"/>
            <a:ext cx="0" cy="2957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2044800" y="3200400"/>
            <a:ext cx="0" cy="28526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2917800" y="3123720"/>
            <a:ext cx="9720" cy="2955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: Closer Look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847440"/>
            <a:ext cx="8381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time 10 ns, in2: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vent leads to another events triggering an event on 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on Z occurs at the same time the event on in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or does not show the actual trace as bel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612720" y="45673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5840" y="33703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3360" y="38289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3360" y="6084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171440" y="3333600"/>
            <a:ext cx="855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182600" y="560376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39760" y="33400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27160" y="3833640"/>
            <a:ext cx="88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12720" y="5351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1000" y="403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8000" y="47433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150920" y="45576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27520" y="405432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48040" y="4814280"/>
            <a:ext cx="0" cy="50148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157400" y="534024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19240" y="382572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813120" y="3811320"/>
            <a:ext cx="91620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7960" y="55180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946240" y="5611320"/>
            <a:ext cx="89064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40120" y="5618880"/>
            <a:ext cx="0" cy="459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949480" y="406404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94120" y="4800600"/>
            <a:ext cx="1440" cy="237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941560" y="4830480"/>
            <a:ext cx="90972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841920" y="4830480"/>
            <a:ext cx="90936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986120" y="3483000"/>
            <a:ext cx="12672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63800" y="422424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67040" y="495288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86120" y="575136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141560" y="3156120"/>
            <a:ext cx="0" cy="2954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722840" y="3123720"/>
            <a:ext cx="1440" cy="2955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543720" y="3124080"/>
            <a:ext cx="9360" cy="30146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55640" y="61866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14560" y="456408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82280" y="61927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43360" y="407052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057400" y="534816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052720" y="5618160"/>
            <a:ext cx="890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369240" y="6200640"/>
            <a:ext cx="10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+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64560" y="6199200"/>
            <a:ext cx="10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+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61400" y="6093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3844800" y="6075360"/>
            <a:ext cx="890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DBF-3E98-4BE6-BE31-2A9C9F1186C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4560" y="5239800"/>
            <a:ext cx="83818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ual order is not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 of signals cou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19160" y="1150920"/>
            <a:ext cx="88390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, s3, s4: std_logic :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4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1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2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6A7-0800-4022-B8E9-569082887D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ity and architecture constru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urrent signal assignments (CS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current assig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al concurrent assig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ed concurrent assig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ng models using C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events, propagation delays, and concurr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ing del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r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DF2-2F09-4C6F-83C5-94A4380D05C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mmary (cont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drivers and wavefo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d signals, resolved types, and resolution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ting waveforms using waveform el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 and trans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267-59C7-492E-BAC5-8042951C404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ing a Digital Syste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Language provides two distinct constructs to model these two aspects of a digital syst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326-1125-46C7-82FD-A4F185F53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ntity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3156120"/>
            <a:ext cx="838188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 insen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phen is not allowed in user supplied names first character must be a letter, last character cannot be undersc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terface is a collection of input and outp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r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s are signa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types, e.g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t, integer, character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a mode of operation, e.g. i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, inout (bi-direction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1089000"/>
            <a:ext cx="4572000" cy="13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b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, car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b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half_ad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45080" y="762120"/>
            <a:ext cx="1766880" cy="32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11960" y="592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d key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5177880" y="2320920"/>
            <a:ext cx="101520" cy="733320"/>
          </a:xfrm>
          <a:custGeom>
            <a:avLst/>
            <a:gdLst>
              <a:gd name="textAreaLeft" fmla="*/ 0 w 101520"/>
              <a:gd name="textAreaRight" fmla="*/ 71280 w 101520"/>
              <a:gd name="textAreaTop" fmla="*/ 30240 h 733320"/>
              <a:gd name="textAreaBottom" fmla="*/ 70308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6520" y="27939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HDL 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0520" y="1258920"/>
            <a:ext cx="1710000" cy="1433520"/>
          </a:xfrm>
          <a:prstGeom prst="rect">
            <a:avLst/>
          </a:prstGeom>
          <a:solidFill>
            <a:srgbClr val="ffff91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49480" y="147780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79800" y="138924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27240" y="138924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32120" y="1581120"/>
            <a:ext cx="325440" cy="1440"/>
          </a:xfrm>
          <a:custGeom>
            <a:avLst/>
            <a:gdLst/>
            <a:ahLst/>
            <a:rect l="l" t="t" r="r" b="b"/>
            <a:pathLst>
              <a:path w="205" h="0">
                <a:moveTo>
                  <a:pt x="0" y="0"/>
                </a:moveTo>
                <a:lnTo>
                  <a:pt x="115" y="0"/>
                </a:lnTo>
                <a:lnTo>
                  <a:pt x="115" y="0"/>
                </a:lnTo>
                <a:lnTo>
                  <a:pt x="2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96920" y="2354400"/>
            <a:ext cx="782640" cy="191880"/>
          </a:xfrm>
          <a:custGeom>
            <a:avLst/>
            <a:gdLst/>
            <a:ahLst/>
            <a:rect l="l" t="t" r="r" b="b"/>
            <a:pathLst>
              <a:path w="493" h="121">
                <a:moveTo>
                  <a:pt x="0" y="0"/>
                </a:moveTo>
                <a:lnTo>
                  <a:pt x="246" y="0"/>
                </a:lnTo>
                <a:moveTo>
                  <a:pt x="0" y="121"/>
                </a:moveTo>
                <a:lnTo>
                  <a:pt x="246" y="121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39" y="15"/>
                </a:moveTo>
                <a:cubicBezTo>
                  <a:pt x="34" y="22"/>
                  <a:pt x="24" y="28"/>
                  <a:pt x="11" y="30"/>
                </a:cubicBezTo>
                <a:lnTo>
                  <a:pt x="11" y="30"/>
                </a:lnTo>
                <a:lnTo>
                  <a:pt x="0" y="30"/>
                </a:lnTo>
                <a:cubicBezTo>
                  <a:pt x="7" y="20"/>
                  <a:pt x="7" y="9"/>
                  <a:pt x="0" y="0"/>
                </a:cubicBezTo>
                <a:lnTo>
                  <a:pt x="0" y="0"/>
                </a:lnTo>
                <a:lnTo>
                  <a:pt x="11" y="0"/>
                </a:lnTo>
                <a:cubicBezTo>
                  <a:pt x="24" y="2"/>
                  <a:pt x="34" y="7"/>
                  <a:pt x="39" y="15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9840" y="2249640"/>
            <a:ext cx="509760" cy="3855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9560" y="2457360"/>
            <a:ext cx="338400" cy="1800"/>
          </a:xfrm>
          <a:custGeom>
            <a:avLst/>
            <a:gdLst/>
            <a:ahLst/>
            <a:rect l="l" t="t" r="r" b="b"/>
            <a:pathLst>
              <a:path w="213" h="0">
                <a:moveTo>
                  <a:pt x="0" y="0"/>
                </a:moveTo>
                <a:lnTo>
                  <a:pt x="123" y="0"/>
                </a:lnTo>
                <a:lnTo>
                  <a:pt x="123" y="0"/>
                </a:lnTo>
                <a:lnTo>
                  <a:pt x="21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12589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5960" y="232560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0560" y="1411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30560" y="2249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142704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2546280"/>
            <a:ext cx="10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11160" y="2354400"/>
            <a:ext cx="18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1160" y="1479600"/>
            <a:ext cx="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82440" y="147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450440" y="1684440"/>
            <a:ext cx="59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0800" y="1684440"/>
            <a:ext cx="0" cy="86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494080"/>
            <a:ext cx="954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A3C-0E4D-4C33-9EB2-C7C929571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EEE 1164 Standard Object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6504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may be of different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ndors may define propriety typ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ompatibility probl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VHDL defines a new type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lSign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can take on 12 val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1164 standard is developed to describe the logic systems more accurat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part of VHD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t is not sufficient to simulate the behavior of digital system since a wire can take values such as Z, X, L, H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1164 Standard offers object typ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ulogic, std_ulogic_v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9F5-E240-444E-ABD7-ED558EA13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EEE 116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820800" y="932040"/>
            <a:ext cx="5638680" cy="13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lf_ad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sum, car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half_ad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0800" y="2722680"/>
            <a:ext cx="768492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0, I1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, I3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   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    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(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)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u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581360"/>
            <a:ext cx="1276560" cy="159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9000" y="48592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9000" y="520056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9000" y="554832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9000" y="588312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542772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55680" y="6177960"/>
            <a:ext cx="648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45560" y="518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" y="463248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520" y="50133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1520" y="53341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520" y="571500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7960" y="62485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45360" y="5029200"/>
            <a:ext cx="74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465-5B2A-49FE-A2E1-7C8470D1C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0-21T05:14:00Z</dcterms:modified>
  <cp:revision>1771</cp:revision>
  <dc:subject/>
  <dc:title>PowerPoint Presentation</dc:title>
</cp:coreProperties>
</file>