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22CF-05FB-4D63-9540-75D383FFA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6572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C39A-C6F3-47B1-8BA6-4171C1F0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972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333C-54FC-4C5B-877F-74413667F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8480" y="9903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400" y="9903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6572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8480" y="36572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400" y="36572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E3DE-428F-45BE-96B2-4D68B39B3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F8DE-6FBC-44E8-9F80-33F6AFD0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AFCB-8D13-435A-AC89-156183D8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3B16-D324-4914-9DE2-8F4BE1DE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56AF-4964-4EEC-B45A-937D15AD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228600"/>
            <a:ext cx="83818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21EC-7A89-402C-BF2E-9F2D4EC0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2F5D-890C-4B5A-B22E-D21BCAC9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972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A30D-2362-42E5-B0B6-DD61B006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8790-86F9-46A6-A566-FD750FA0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D67B-57A6-45BC-9193-F1CAE353D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23560"/>
            <a:ext cx="7772400" cy="18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VHDL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ub-Programs, Packages, 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&amp; Libraries    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4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31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kay Sava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bancı Univers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B601-3F04-411D-951B-D836E616A7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Type Conversion Function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6160" y="990360"/>
            <a:ext cx="87436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o_bitvector(svalue: std_logic_vector)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it_vect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iabl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value: bit_vector(svalue’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0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value’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g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op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–- </a:t>
            </a:r>
            <a:r>
              <a:rPr b="0" i="1" lang="en-US" sz="1800" spc="-1" strike="noStrike">
                <a:solidFill>
                  <a:srgbClr val="3333cc"/>
                </a:solidFill>
                <a:latin typeface="Courier New"/>
              </a:rPr>
              <a:t>scan all elements of the arra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value(i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‘0’ =&gt; outvalue(i) := ‘0’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‘1’ =&gt; outvalue(i) := ‘1’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 other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&gt; outvalue(i) := ‘0’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case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loop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value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func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o_bitvector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4762440" y="-190440"/>
            <a:ext cx="228600" cy="3200400"/>
          </a:xfrm>
          <a:custGeom>
            <a:avLst/>
            <a:gdLst>
              <a:gd name="textAreaLeft" fmla="*/ 0 w 228600"/>
              <a:gd name="textAreaRight" fmla="*/ 82440 w 22860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76920" y="1600200"/>
            <a:ext cx="2349360" cy="3429000"/>
          </a:xfrm>
          <a:custGeom>
            <a:avLst/>
            <a:gdLst/>
            <a:ahLst/>
            <a:rect l="l" t="t" r="r" b="b"/>
            <a:pathLst>
              <a:path w="1480" h="2160">
                <a:moveTo>
                  <a:pt x="0" y="0"/>
                </a:moveTo>
                <a:cubicBezTo>
                  <a:pt x="176" y="400"/>
                  <a:pt x="352" y="800"/>
                  <a:pt x="576" y="1008"/>
                </a:cubicBezTo>
                <a:cubicBezTo>
                  <a:pt x="800" y="1216"/>
                  <a:pt x="1208" y="1056"/>
                  <a:pt x="1344" y="1248"/>
                </a:cubicBezTo>
                <a:cubicBezTo>
                  <a:pt x="1480" y="1440"/>
                  <a:pt x="1436" y="1800"/>
                  <a:pt x="1392" y="216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52880" y="5029200"/>
            <a:ext cx="263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Unconstrained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7385-253D-436F-ADD8-6B75C6D93D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td_logic_arith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yp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NSIGNE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s arra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NATURAL range &lt;&gt;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LOG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yp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bl_typ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s arra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TD_ULOGIC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ULOG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an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bl_BINARY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bl_typ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:=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'X', 'X', '0', '1', 'X', 'X', '0', '1', 'X'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ONV_INTEGER(ARG: UNSIGNED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NTEG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result: INTEGER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tmp: STD_ULOGIC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</a:t>
            </a:r>
            <a:r>
              <a:rPr b="0" i="1" lang="en-US" sz="1600" spc="-1" strike="noStrike">
                <a:solidFill>
                  <a:srgbClr val="3333cc"/>
                </a:solidFill>
                <a:latin typeface="Courier New"/>
              </a:rPr>
              <a:t>synopsys built_in SYN_UNSIGNED_TO_INTEG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</a:t>
            </a:r>
            <a:r>
              <a:rPr b="0" i="1" lang="en-US" sz="1600" spc="-1" strike="noStrike">
                <a:solidFill>
                  <a:srgbClr val="3333cc"/>
                </a:solidFill>
                <a:latin typeface="Courier New"/>
              </a:rPr>
              <a:t>synopsys subpgm_id 3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</a:t>
            </a:r>
            <a:r>
              <a:rPr b="0" i="1" lang="en-US" sz="1600" spc="-1" strike="noStrike">
                <a:solidFill>
                  <a:srgbClr val="3333cc"/>
                </a:solidFill>
                <a:latin typeface="Courier New"/>
              </a:rPr>
              <a:t>synopsys synthesis_of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sse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ARG'length &lt;= 3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"ARG is too large in CONV_INTEGER"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verity FAILURE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ult := 0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E7D8-C930-485D-9288-C0E68D9833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td_logic_arith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8381880" cy="541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ARG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ange loo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ult := result * 2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mp := tbl_BINARY(ARG(i)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tmp = '1'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ult := result + 1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tmp = 'X'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sse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false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"There is an 'U'|'X'|'W'|'Z'|'-' in an arithmetic               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operand, the result will be 'X'(es)."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ver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warning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sse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fals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"CONV_INTEGER: There is an 'U'|'X'|'W'|'Z'|'-' i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an arithmetic operand, and it has been converted to 0."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ver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WARNING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loo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result;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</a:t>
            </a:r>
            <a:r>
              <a:rPr b="0" i="1" lang="en-US" sz="1600" spc="-1" strike="noStrike">
                <a:solidFill>
                  <a:srgbClr val="3333cc"/>
                </a:solidFill>
                <a:latin typeface="Courier New"/>
              </a:rPr>
              <a:t>synopsys synthesis_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61B4-4FC9-43A4-8066-D6DC58B4E4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td_logic_arith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ONV_INTEGER(ARG: STD_ULOGIC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MALL_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tmp: STD_ULOGIC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</a:t>
            </a:r>
            <a:r>
              <a:rPr b="0" i="1" lang="en-US" sz="1600" spc="-1" strike="noStrike">
                <a:solidFill>
                  <a:srgbClr val="3333cc"/>
                </a:solidFill>
                <a:latin typeface="Courier New"/>
              </a:rPr>
              <a:t>synopsys built_in SYN_FEED_THRU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  -- </a:t>
            </a:r>
            <a:r>
              <a:rPr b="0" i="1" lang="en-US" sz="1600" spc="-1" strike="noStrike">
                <a:solidFill>
                  <a:srgbClr val="3333cc"/>
                </a:solidFill>
                <a:latin typeface="Courier New"/>
              </a:rPr>
              <a:t>synopsys subpgm_id 370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- synopsys synthesis_of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tmp := tbl_BINARY(ARG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mp = '1'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tmp = 'X'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asse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fal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"CONV_INTEGER: There is an 'U'|'X'|'W'|'Z'|'-' in a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arithmetic operand, and it has been converted to 0."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ver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WARNING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0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</a:t>
            </a:r>
            <a:r>
              <a:rPr b="0" i="1" lang="en-US" sz="1600" spc="-1" strike="noStrike">
                <a:solidFill>
                  <a:srgbClr val="3333cc"/>
                </a:solidFill>
                <a:latin typeface="Courier New"/>
              </a:rPr>
              <a:t>synopsys synthesis_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F1E4-8C28-4506-B2BA-4C466981C5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Resolution Function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system busses, we use resolved sign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1989000" y="2409840"/>
            <a:ext cx="11178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54520" y="2373480"/>
            <a:ext cx="1117800" cy="9144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67040" y="4811760"/>
            <a:ext cx="111744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27600" y="4811760"/>
            <a:ext cx="111744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12880" y="3860640"/>
            <a:ext cx="6416640" cy="363600"/>
          </a:xfrm>
          <a:prstGeom prst="leftRightArrow">
            <a:avLst>
              <a:gd name="adj1" fmla="val 42361"/>
              <a:gd name="adj2" fmla="val 6552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6840" y="3324240"/>
            <a:ext cx="218880" cy="666720"/>
          </a:xfrm>
          <a:prstGeom prst="upDownArrow">
            <a:avLst>
              <a:gd name="adj1" fmla="val 50000"/>
              <a:gd name="adj2" fmla="val 606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88040" y="3301920"/>
            <a:ext cx="190440" cy="666720"/>
          </a:xfrm>
          <a:prstGeom prst="upDownArrow">
            <a:avLst>
              <a:gd name="adj1" fmla="val 50000"/>
              <a:gd name="adj2" fmla="val 6969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94160" y="4135320"/>
            <a:ext cx="190800" cy="666720"/>
          </a:xfrm>
          <a:prstGeom prst="upDownArrow">
            <a:avLst>
              <a:gd name="adj1" fmla="val 50000"/>
              <a:gd name="adj2" fmla="val 6956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41520" y="4141800"/>
            <a:ext cx="190440" cy="666720"/>
          </a:xfrm>
          <a:prstGeom prst="upDownArrow">
            <a:avLst>
              <a:gd name="adj1" fmla="val 50000"/>
              <a:gd name="adj2" fmla="val 6969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E612-EED9-4318-8C91-EF980FB8D5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Resolution Function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red-logic implement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1001880" y="2395440"/>
            <a:ext cx="0" cy="69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15920" y="3106800"/>
            <a:ext cx="354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14680" y="2887560"/>
            <a:ext cx="309600" cy="449280"/>
          </a:xfrm>
          <a:custGeom>
            <a:avLst/>
            <a:gdLst/>
            <a:ahLst/>
            <a:rect l="l" t="t" r="r" b="b"/>
            <a:pathLst>
              <a:path w="195" h="283">
                <a:moveTo>
                  <a:pt x="97" y="0"/>
                </a:moveTo>
                <a:cubicBezTo>
                  <a:pt x="48" y="14"/>
                  <a:pt x="0" y="29"/>
                  <a:pt x="15" y="64"/>
                </a:cubicBezTo>
                <a:cubicBezTo>
                  <a:pt x="30" y="99"/>
                  <a:pt x="181" y="174"/>
                  <a:pt x="188" y="210"/>
                </a:cubicBezTo>
                <a:cubicBezTo>
                  <a:pt x="195" y="246"/>
                  <a:pt x="127" y="264"/>
                  <a:pt x="60" y="2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00480" y="2879640"/>
            <a:ext cx="309600" cy="449280"/>
          </a:xfrm>
          <a:custGeom>
            <a:avLst/>
            <a:gdLst/>
            <a:ahLst/>
            <a:rect l="l" t="t" r="r" b="b"/>
            <a:pathLst>
              <a:path w="195" h="283">
                <a:moveTo>
                  <a:pt x="97" y="0"/>
                </a:moveTo>
                <a:cubicBezTo>
                  <a:pt x="48" y="14"/>
                  <a:pt x="0" y="29"/>
                  <a:pt x="15" y="64"/>
                </a:cubicBezTo>
                <a:cubicBezTo>
                  <a:pt x="30" y="99"/>
                  <a:pt x="181" y="174"/>
                  <a:pt x="188" y="210"/>
                </a:cubicBezTo>
                <a:cubicBezTo>
                  <a:pt x="195" y="246"/>
                  <a:pt x="127" y="264"/>
                  <a:pt x="60" y="2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72200" y="3106800"/>
            <a:ext cx="15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75040" y="3106800"/>
            <a:ext cx="40644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72120" y="2889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5080" y="1719360"/>
            <a:ext cx="175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ak pull u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70120" y="3716280"/>
            <a:ext cx="377640" cy="49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9120" y="4224240"/>
            <a:ext cx="0" cy="53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959120" y="3090600"/>
            <a:ext cx="0" cy="62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01600" y="4464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422360" y="3948120"/>
            <a:ext cx="3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22360" y="3962520"/>
            <a:ext cx="0" cy="81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37440" y="446400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00400" y="3738600"/>
            <a:ext cx="378000" cy="49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89400" y="4246560"/>
            <a:ext cx="0" cy="53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389400" y="3112920"/>
            <a:ext cx="0" cy="62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31880" y="44863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852640" y="3970440"/>
            <a:ext cx="3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52640" y="3984480"/>
            <a:ext cx="0" cy="81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7720" y="448632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59520" y="3753000"/>
            <a:ext cx="377640" cy="49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4260960"/>
            <a:ext cx="0" cy="53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248520" y="3127320"/>
            <a:ext cx="0" cy="62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91000" y="4500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711760" y="3984480"/>
            <a:ext cx="3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11760" y="3998880"/>
            <a:ext cx="0" cy="81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26840" y="450072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urier New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30560" y="5294160"/>
            <a:ext cx="560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 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urns the switch on driv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Z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603480" y="4078440"/>
            <a:ext cx="784440" cy="52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40400" y="4570560"/>
            <a:ext cx="127476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wit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th a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w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2DA0-FC92-4922-9906-B876F90418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Resolution Function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wired_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 X1, X2, X3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it; Z 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solved_bit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e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wired_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x_process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X1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Z &lt;= X1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end process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_process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X2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Z &lt;= X2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rocess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z_process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X3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begi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Z &lt;= X3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rocess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eh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8032-602E-499E-B2FC-5FC750F307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Monotype Corsiva"/>
              </a:rPr>
              <a:t>Resolved Types in the IEEE 1164 Standard</a:t>
            </a:r>
            <a:endParaRPr b="0" lang="en-US" sz="40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31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d_ulog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(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‘U’,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 uninitializ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‘X’,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 forcing unknow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‘0’,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 forcing 0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‘1’,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 forcing 1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‘Z’,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 high impedance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‘W’,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 weak unknown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‘L’,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 weak 0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‘H’,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 weak 1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‘-’,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 don’t care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268200" y="4264200"/>
            <a:ext cx="8382240" cy="80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solved (s: std_ulogic_vector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d_ulogi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typ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log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solved std_ulogi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3800" y="5207040"/>
            <a:ext cx="8344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olution function must perform an associative operations so tha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order in which the multiple signal drivers are examined does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ffect the resolved value of the sig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2EF7-B751-40BB-96F2-145F0ACFEB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Resolution Table for </a:t>
            </a:r>
            <a:r>
              <a:rPr b="0" lang="en-US" sz="3600" spc="-1" strike="noStrike">
                <a:solidFill>
                  <a:srgbClr val="ff3300"/>
                </a:solidFill>
                <a:latin typeface="Courier New"/>
              </a:rPr>
              <a:t>std_logic</a:t>
            </a:r>
            <a:endParaRPr b="0" lang="en-US" sz="3600" spc="-1" strike="noStrike">
              <a:solidFill>
                <a:srgbClr val="ff3300"/>
              </a:solidFill>
              <a:latin typeface="Monotype Corsiv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523880" y="1397160"/>
          <a:ext cx="6096240" cy="455580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906F-83E0-4948-A562-3D9DB9D8B4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Example: Multiple Driver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reso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e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reso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X, Y, Z, T: std_logic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X &lt;= 'U', '1'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10 ns, '0'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20 ns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Y &lt;= '1', 'W'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10 ns, '-'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20 ns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Z &lt;= 'W', 'Z'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10 ns, 'L'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20 ns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_process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X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T &lt;= X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end process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_process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Y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T &lt;= Y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process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z_process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Z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begi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T &lt;= Z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process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eh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FEAC-6855-49ED-B10B-823D290027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Motivation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ructuring VHDL progra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ign reu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nage the complex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ailable VHDL tool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cedures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nctions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ckages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brar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C58E-A94D-49F6-80B1-5A474E51F3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Example: Waveform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5660-9A93-4AE2-86B3-87C200F794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Resolution Function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rchitectu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 beh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resol02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solution (drivers: std_ulogic_vec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std_log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my_array_typ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s arra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(std_logic, std_logic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STD_ULOGIC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nsta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my_array : my_array_type :=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('U', 'U', 'U', 'U', 'U', 'U', 'U', 'U', 'U')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'U', 'X', 'X', 'X', 'X', 'X', 'X', 'X', 'X')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'U', 'X', '0', 'X', '0', '0', '0', '0', 'X')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'U', 'X', 'X', '1', '1', '1', '1', '1', 'X')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'U', 'X', '0', '1', 'Z', 'W', 'L', 'H', 'X')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'U', 'X', '0', '1', 'W', 'W', 'W', 'W', 'X')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'U', 'X', '0', '1', 'L', 'W', 'L', 'W', 'X')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'U', 'X', '0', '1', 'H', 'W', 'W', 'H', 'X')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'U', 'X', 'X', 'X', 'X', 'X', 'X', 'X', 'X')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tmp: std_ulogic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mp := my_array(drivers(drivers'length-1),drivers(drivers'length-2)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drivers'length-3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0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mp := my_array(tmp, drivers(i)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 loop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tmp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 functio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2368-DE96-44C4-9B53-B2C21508E0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Resolution Function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83818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Z: std_ulogic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Z &lt;= resolution("1HWW"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20 ns;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eh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5909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4920" y="2286000"/>
            <a:ext cx="8381880" cy="3962520"/>
            <a:chOff x="304920" y="2286000"/>
            <a:chExt cx="8381880" cy="396252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304920" y="2286000"/>
              <a:ext cx="838188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 txBox="1"/>
            <p:nvPr/>
          </p:nvSpPr>
          <p:spPr>
            <a:xfrm>
              <a:off x="304920" y="2286000"/>
              <a:ext cx="8381880" cy="3962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B785-3012-44BC-9E21-E7778F85DD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Example: Resolution Function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-chip module with multiple di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1481040" y="1973160"/>
            <a:ext cx="5862600" cy="3832200"/>
          </a:xfrm>
          <a:prstGeom prst="rect">
            <a:avLst/>
          </a:prstGeom>
          <a:solidFill>
            <a:srgbClr val="ffff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1200" y="2379600"/>
            <a:ext cx="0" cy="2962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40480" y="2371680"/>
            <a:ext cx="0" cy="2962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81080" y="3352680"/>
            <a:ext cx="4800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4572000"/>
            <a:ext cx="4800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3657600"/>
            <a:ext cx="9144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19720" y="41911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62520" y="2514600"/>
            <a:ext cx="9144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120840" y="2819520"/>
            <a:ext cx="84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2514600"/>
            <a:ext cx="9144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382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3733920"/>
            <a:ext cx="9144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81080" y="4808520"/>
            <a:ext cx="9144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95480" y="5029200"/>
            <a:ext cx="2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4808520"/>
            <a:ext cx="9144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76920" y="5029200"/>
            <a:ext cx="76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2552760"/>
            <a:ext cx="9144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640120" y="2857680"/>
            <a:ext cx="45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5880" y="3733920"/>
            <a:ext cx="9144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553080" y="3352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4808520"/>
            <a:ext cx="9144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6553080" y="457164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4876920"/>
            <a:ext cx="914400" cy="1041120"/>
          </a:xfrm>
          <a:custGeom>
            <a:avLst/>
            <a:gdLst/>
            <a:ahLst/>
            <a:rect l="l" t="t" r="r" b="b"/>
            <a:pathLst>
              <a:path w="576" h="656">
                <a:moveTo>
                  <a:pt x="576" y="384"/>
                </a:moveTo>
                <a:cubicBezTo>
                  <a:pt x="468" y="520"/>
                  <a:pt x="360" y="656"/>
                  <a:pt x="288" y="624"/>
                </a:cubicBezTo>
                <a:cubicBezTo>
                  <a:pt x="216" y="592"/>
                  <a:pt x="192" y="296"/>
                  <a:pt x="144" y="192"/>
                </a:cubicBezTo>
                <a:cubicBezTo>
                  <a:pt x="96" y="88"/>
                  <a:pt x="24" y="3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2840" y="3906720"/>
            <a:ext cx="97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i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rr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38680" y="2082960"/>
            <a:ext cx="2286000" cy="787320"/>
          </a:xfrm>
          <a:custGeom>
            <a:avLst/>
            <a:gdLst/>
            <a:ahLst/>
            <a:rect l="l" t="t" r="r" b="b"/>
            <a:pathLst>
              <a:path w="1440" h="496">
                <a:moveTo>
                  <a:pt x="0" y="272"/>
                </a:moveTo>
                <a:cubicBezTo>
                  <a:pt x="144" y="136"/>
                  <a:pt x="288" y="0"/>
                  <a:pt x="480" y="32"/>
                </a:cubicBezTo>
                <a:cubicBezTo>
                  <a:pt x="672" y="64"/>
                  <a:pt x="992" y="432"/>
                  <a:pt x="1152" y="464"/>
                </a:cubicBezTo>
                <a:cubicBezTo>
                  <a:pt x="1312" y="496"/>
                  <a:pt x="1376" y="360"/>
                  <a:pt x="1440" y="2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898400" y="1600200"/>
            <a:ext cx="92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lob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3962520"/>
            <a:ext cx="1218960" cy="1447560"/>
          </a:xfrm>
          <a:custGeom>
            <a:avLst/>
            <a:gdLst/>
            <a:ahLst/>
            <a:rect l="l" t="t" r="r" b="b"/>
            <a:pathLst>
              <a:path w="768" h="912">
                <a:moveTo>
                  <a:pt x="0" y="0"/>
                </a:moveTo>
                <a:cubicBezTo>
                  <a:pt x="260" y="80"/>
                  <a:pt x="520" y="160"/>
                  <a:pt x="624" y="288"/>
                </a:cubicBezTo>
                <a:cubicBezTo>
                  <a:pt x="728" y="416"/>
                  <a:pt x="600" y="664"/>
                  <a:pt x="624" y="768"/>
                </a:cubicBezTo>
                <a:cubicBezTo>
                  <a:pt x="648" y="872"/>
                  <a:pt x="708" y="892"/>
                  <a:pt x="768" y="9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163720" y="510552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AE5C-0F7A-4908-8815-99CE18EFE2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Example: Resolution Function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.std_logic_1164.all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c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–- and empty entity declara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cm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e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c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ire_or(sbus:std_ulogic_vector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retur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ulog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f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bus’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ge loop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bus(i) = ‘1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 retu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‘1’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if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end loo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retu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‘0’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func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wire_or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wire_or_log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ire_or std_ulogic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rror_bus: wire_or_log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4495680" y="4419360"/>
            <a:ext cx="152280" cy="106704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68560" y="4257720"/>
            <a:ext cx="146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solution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5744880" y="4313160"/>
            <a:ext cx="152280" cy="1279800"/>
          </a:xfrm>
          <a:custGeom>
            <a:avLst/>
            <a:gdLst>
              <a:gd name="textAreaLeft" fmla="*/ 97200 w 152280"/>
              <a:gd name="textAreaRight" fmla="*/ 152640 w 152280"/>
              <a:gd name="textAreaTop" fmla="*/ 33120 h 1279800"/>
              <a:gd name="textAreaBottom" fmla="*/ 1246680 h 127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71920" y="4556160"/>
            <a:ext cx="13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ase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88C2-CDFF-4276-8D6F-60AF9D2026A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Example: Resolution Function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wire_or_log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ire_or std_ulogic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rror_bus: wire_or_log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ip1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 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rror_bus &lt;= ‘1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2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end proces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ip1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ip2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 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rror_bus &lt;= ‘0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2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end proces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ip2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CBED-2AFE-45CE-B7D0-42209458DD4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ynthesis Exampl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func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ata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logic_vector( 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0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count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 integer rang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7);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func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e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func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s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ta: std_logic_vector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return integ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variabl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er rang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0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7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fo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ta’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ange loo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i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ta(i) = ‘1’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ount:= count + 1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end loop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retur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count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ones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eck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ata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 &lt;= ones(data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end proces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eck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h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B530-570B-4FC1-AF08-2EC4F55037E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ynthesis Example (cont.)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= ones(data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time this function is called, internal variables are initialized, the function is executed, and output value is return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al variables do not retain value across different invoca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oop is unrolled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ta(0) = ‘1’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 count + 1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if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ta(1) = ‘1’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 count + 1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if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synthesized, it will produce a combinational circuit with a long dependenc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F06E-E587-4F5B-8898-4E84AE69A8C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ynthesis Example (cont.)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5E3D-5EBD-4FA4-9DB3-19DF6251C81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Yet Another Exampl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func0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ata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_vector(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0); parity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func02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func0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parity_func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data: std_logic_vector)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logic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parity: std_logic:='0'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data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ang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ity := parity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data(i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loop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parity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parity_func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ity_process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ata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ity &lt;= parity_func(data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proce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heck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eh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4A41-E03E-4643-9CEC-D216FC91CFD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Issues 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HDL programs model physical syste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may have some issues we have to deal with such a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ai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tatements be used in a procedu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signals be passed to procedures and be modified within the procedu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are procedures synthesize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functions operate on signal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2304-C65A-4520-866C-141A2BC5AF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Yet Another Exampl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F29D-18AB-493F-88E0-C20E9AA6ED8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Procedur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ilar to fun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tinguishing feature is that procedures can modify input paramet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cedu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ad_v1d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nam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xt; v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o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d_logic_vector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procedure that reads data from a file call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na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ameters can b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ou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od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ault class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sta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 input parame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ault class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ode parame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3E95-59B4-4A1A-B7E4-9000E4ADC03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Procedur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riables declared within a procedure are initialized in each c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riables do not retain values across procedure call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3733920"/>
            <a:ext cx="8001000" cy="182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PU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write_data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d_logic_vector(3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0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ADDR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logic_vector(2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0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MemRead, MemWrite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logic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read_data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logic_vector(3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0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S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logic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entit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PU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E5E5-C863-4CA2-9722-D0E783D0108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Example: CPU + Memory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PU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d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read(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address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logic_vector(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own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0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logic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logic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R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logic_vector(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own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0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data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logic_vector(3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own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0)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R &lt;= address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R &lt;= ‘1’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 unti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 = ‘1’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data &lt;= read_data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R &lt;= ‘0’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roced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read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eh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B4F2-BB31-4E0A-A35A-2F9FBF6C598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Example: CPU + Memory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CPU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du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mwrite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addres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d_logic_vector(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ownt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0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data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d_logic_vector(3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ownt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0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DDR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d_logic_vector(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ownt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0)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W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d_logic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DO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d_logic_vector(31 downto 0)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R &lt;= address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DO &lt;= data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W &lt;= ‘1’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ait unti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 = ‘1’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W &lt;= ‘0’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procedu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mwrite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beh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40DF-8F84-40C5-8C7D-2FC6EC1D49C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Example: CPU + Memory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PU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 CPU description her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process 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  -- behavioral description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  --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end process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 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  -- behavioral description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  --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end process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eh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35CB-B9A1-407C-B0ED-A132ED32CEE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Using Procedur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gnals can be passed to procedures and updated within proced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gnals cannot be declared within proced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sibility rules apply he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cedure can update signals visible to it even if these signals do not appear in the parameter li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is sometimes called a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ide effe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procedu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dating signals that do not appear in the parameter list is a poor programming pract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rocess calling a procedure with 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wai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tatement cannot have sensitivity li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B8AB-5163-43D2-93BA-35DDAEF2C1B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oncurrent vs. Sequential Procedure Call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urrent procedure c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cedure calls can be made in concurrent signal assign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ecution of a procedure is concurrent with other concurrent procedures, CSA statements, or process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rocedure is invoked when there is an event on a signal that is a parameter to the procedu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meter list cannot include a variable in a concurrent procedure call (shared variables can be included though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quential procedure c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ecuted within the body of a proces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ecutions is determined by the ord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153A-C461-4704-85DD-7430BAB5659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Example: Concurrent Procedure Call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38224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erial_add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, b, clk, reset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; z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uctura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rial add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componen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b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, b, c_in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; z, carry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)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end componen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roced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dff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, clk, reset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logic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q, qbar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logic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reset  =‘0’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q &lt;= ‘0’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5 ns; qbar &lt;= ‘1’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5 ns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rising_edge(clk)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q &lt;= 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5 ns; qbar &lt;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5 ns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proced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1, s2: std_logic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C1: comb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=&gt;a, b=&gt;b, c_in=&gt;s1, z=&gt;z, carry=&gt;s2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ff(clk=&gt;clk, reset=&gt;reset, d=&gt;s2, q=&gt;s1, qbar=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ructural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6629400" y="259092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31440" y="3357720"/>
            <a:ext cx="152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ehavi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252200" y="4267080"/>
            <a:ext cx="1447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explici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ssociat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formal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29200" y="5715000"/>
            <a:ext cx="2514600" cy="800280"/>
          </a:xfrm>
          <a:custGeom>
            <a:avLst/>
            <a:gdLst/>
            <a:ahLst/>
            <a:rect l="l" t="t" r="r" b="b"/>
            <a:pathLst>
              <a:path w="1584" h="504">
                <a:moveTo>
                  <a:pt x="0" y="0"/>
                </a:moveTo>
                <a:cubicBezTo>
                  <a:pt x="12" y="148"/>
                  <a:pt x="24" y="296"/>
                  <a:pt x="144" y="336"/>
                </a:cubicBezTo>
                <a:cubicBezTo>
                  <a:pt x="264" y="376"/>
                  <a:pt x="544" y="216"/>
                  <a:pt x="720" y="240"/>
                </a:cubicBezTo>
                <a:cubicBezTo>
                  <a:pt x="896" y="264"/>
                  <a:pt x="1056" y="504"/>
                  <a:pt x="1200" y="480"/>
                </a:cubicBezTo>
                <a:cubicBezTo>
                  <a:pt x="1344" y="456"/>
                  <a:pt x="1464" y="276"/>
                  <a:pt x="1584" y="96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FC50-C9C1-479B-A70B-42B23A2E365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Example: Sequential Procedure Call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erial_add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, b, clk, reset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; z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uctura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rial add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componen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b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, b, c_in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; z, carry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)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end componen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roced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dff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, clk, reset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logic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q, qbar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logic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..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proced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1, s2: std_logic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C1: comb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=&gt;a, b=&gt;b, c_in=&gt;s1, z=&gt;z, carry=&gt;s2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beg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ff(clk=&gt;clk, reset=&gt;reset, d=&gt;s2, q=&gt;s1, qbar=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 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lk, reset, s2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proce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 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ructural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A8A4-A997-42D7-ADF4-8C45610359C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Packages &amp; Librari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ps of procedures and functions that are related can be aggregated into a module that is call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ackag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ackage can be shared across many VHDL model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ackage can also contains user defined data types and constan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ibrary is a collection of related packag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ckages and libraries serve as repositories for functions, procedures, and data typ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0413-54A2-49D7-B175-24D83FBC5E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ynthesis &amp; Procedur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-lining approa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ring synthesis, the compiler replaces the procedure calls with the corresponding code (flattening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fore, inferencing techniques are applic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tch infere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cal variables do not retain value across invocations; they will be synthesized into wi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gnals of mod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y infer latch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xample, if procedure resides in a conditional block of code, latches will be inferred for output signals of the proced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25A4-F8DF-4758-A48D-D572796EE9A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ynthesis &amp; Procedur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it statem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all that synthesis compilers allows only on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ment in a proces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cedures that are being called within a process that has already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ment cannot have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ment of its 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fore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ments are generally not supported in procedures for synthesi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synchronous log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ments in the proced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7E02-8BAF-4F65-BC77-5C0E9B52BF8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Exampl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proc_cal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ata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_vector(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0); count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entit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_call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_cal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roced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ones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ta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logic_vector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logic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variabl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ity: std_logic:=‘0’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fo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ta’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ang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o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ity := parity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o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ta(i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loo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count &lt;= parity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procedu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s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ones(data, count);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</a:t>
            </a:r>
            <a:r>
              <a:rPr b="0" i="1" lang="en-US" sz="1600" spc="-1" strike="noStrike">
                <a:solidFill>
                  <a:srgbClr val="3333cc"/>
                </a:solidFill>
                <a:latin typeface="Courier New"/>
              </a:rPr>
              <a:t>concurrent procedure cal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eh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21B7-73B1-4084-941D-FF3BFEAF27C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Exampl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4FEB-7C40-4EEE-BD82-8E91BB7F1FB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Yet Another Exampl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533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proc_cal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reset, clock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logic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data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_vector(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0); count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entit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_call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_cal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roced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ones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ta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logic_vector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logic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variabl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ity: std_logic:=‘0’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fo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ta’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ang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o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ity := parity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o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ta(i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loo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count &lt;= parity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procedu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s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roce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reset, clock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i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et = ‘0’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rising_edge(clock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ones(data, count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process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eh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CD77-1083-4F7F-87C0-EECD0740C6E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Yet Another Exampl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F6A1-52F8-479C-B60F-1BC91CB7C06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ubprogram Overloading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progra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nctions and procedu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times, it is convenient to have two or more subprograms with the same na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count (orange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teger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count (apples: bit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teger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ff(clk, d, q, qbar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ff(clk, d, q, qbar, reset, clear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this case, subprograms are overload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iler will decide which subprogram to call based on the number and type of argumen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tc are overloaded in std_logic_1164 packag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6E96-7FAC-42DB-93B9-CB2F4293E44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Operator Overloading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operator that behaves different depending on the operands is said to be overload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xample, “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 and “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 are defined for certain predefined types of the language such as integ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f we want to use these operators to do multiplication and addition one data types we newly defin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“*” (arg1, arg2: std_logic_vector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td_logic_vector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“+” (arg1, arg2: signed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igned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examples are taken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d_logic_arith.vh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ackag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B82E-F85E-46A4-80E1-3A124F14A5F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Operator Overloading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can define a new multi-value logic and logic operations on the data of this new type.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MV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‘U’, ‘0’, ‘1’, ‘Z’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“and” (L, R: MVL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VL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“or” (L, R: MVL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VL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“not” (R: MVL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VL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a, b, c: MVL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&lt;= ‘z’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‘1’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 &lt;= 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r”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‘0’, ‘1’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 &lt;= (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b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c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831E-7CF5-4D13-8412-55D3EDE9DBE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Packag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ackage provides a convenient mechanism to store items that can be shared across distinct VHDL program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ose items are type definitions, functions, procedures, etc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group logically related sets of functions and procedures into a packag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working with a large design project consisting of many small VHDL programs, it is convenient to have common procedures and functions in separate package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xample, a package containing definition of new types for registers, instructions, memories, etc. will certainly be useful for microprocessor desig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BC2A-F008-4740-A2B5-676D4FCD117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Function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unction computes and returns a value of specified type using the input paramet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unction declarat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rising_edge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clock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std_logic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Boolea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ameters are used but not modified within the func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ode of input parameters i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nctions do not have parameters of mod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fact, we do not have to specify the mod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9C8F-49DA-483E-B9D5-77CA8371D8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Package Declaration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ckage decla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ains information about what is available in the package that we can use in our VHDL program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other words, it contains interface or specifications of the functions and procedures that are available in the packag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xample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st of functions and procedures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are the parameters they tak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ype of input parame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t returns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s the type of the returning val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DD75-6A7D-4DCB-92A6-771899DF2D6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Package Declaration: Syntax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package-nam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package-item-declaration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 these may be: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 subprogram declara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-- type declara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-- subtype declaration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- constant declara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-- signal declara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-- variable declara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-- file declara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-- alias declara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-- component declara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-- attribute declara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-- attribute specifica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-- disconnection specifica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-- use claus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 [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package-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63B1-E808-46D3-9710-B7BD94CA239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Package Declaration: Exampl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nthesis_pack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consta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w2high: time := 20 ns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lu_op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add, sub, mul, div, eql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tribu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ipeline: Boolea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v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‘U’, ‘0’, ‘1’, ‘Z’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vl_vect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 arra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atura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g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lt;&gt;) of mvl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my_alu_op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u_op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g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v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one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nd2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a, b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vl; c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vl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compon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ynthesis_pack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4267080"/>
            <a:ext cx="860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ems declared in a package declaration can be access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y other design units by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u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5257800"/>
            <a:ext cx="83818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k.synthesis_pack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0D5F-B28F-4834-B8E0-A0C209EEFA7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Yet Another Exampl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k.synthesis_pack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l;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 </a:t>
            </a:r>
            <a:r>
              <a:rPr b="0" i="1" lang="en-US" sz="1800" spc="-1" strike="noStrike">
                <a:solidFill>
                  <a:srgbClr val="3333cc"/>
                </a:solidFill>
                <a:latin typeface="Courier New"/>
              </a:rPr>
              <a:t>include all declarations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                             -- </a:t>
            </a:r>
            <a:r>
              <a:rPr b="0" i="1" lang="en-US" sz="1800" spc="-1" strike="noStrike">
                <a:solidFill>
                  <a:srgbClr val="3333cc"/>
                </a:solidFill>
                <a:latin typeface="Courier New"/>
              </a:rPr>
              <a:t>from package synthesis_pack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gram_pack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constan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p_delay: time; 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 </a:t>
            </a:r>
            <a:r>
              <a:rPr b="0" i="1" lang="en-US" sz="1800" spc="-1" strike="noStrike">
                <a:solidFill>
                  <a:srgbClr val="3333cc"/>
                </a:solidFill>
                <a:latin typeface="Courier New"/>
              </a:rPr>
              <a:t>deferred consta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“and” (l, r: mvl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vl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d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oad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_name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ou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vl_vector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start_bit, stop_bit, int_value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integer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_packag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rogram_pack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3247-7121-4A12-8196-2822F8E76A7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Package Declaration: </a:t>
            </a:r>
            <a:r>
              <a:rPr b="0" lang="en-US" sz="3600" spc="-1" strike="noStrike">
                <a:solidFill>
                  <a:srgbClr val="ff3300"/>
                </a:solidFill>
                <a:latin typeface="Courier New"/>
              </a:rPr>
              <a:t>std_logic_1164</a:t>
            </a:r>
            <a:endParaRPr b="0" lang="en-US" sz="36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d_logic_1164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td_ulog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‘U’, ‘X’, ‘0’, ‘1’, ‘Z’, ‘W’,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‘L’, ‘H’ , ‘-’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d_ulogic_vect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 arra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atura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g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lt;&gt;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td_ulogic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resolved(s: std_ulogic_vector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td_ulogic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d_log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olved std_logic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d_logic_vect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 arra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atura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g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lt;&gt;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td_logic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“and”(l, r: std_logic_vector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td_logic_vector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“and”(l, r: std_ulogic_vector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td_ulogic_vector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td_logic_1164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3E52-4B9B-47AE-BB74-A3F88570AA9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Package Body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basically contains the code that implements the subprogra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2743200"/>
            <a:ext cx="8381880" cy="28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body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package-nam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package-body-item-declaration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 These are: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 subprogram bodi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-- complete constant declara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-- subprogram declara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-- type and subtype declara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-- file and alias declarations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-- use claus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bod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 [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package-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4EAB-DADA-40D8-9FE0-74F96CBADDD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Package Body: Exampl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bod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gram_pack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u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work.tables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l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consta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p_delay: time := 15 ns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“and”(l, r: mvl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mvl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ble_and(l, r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-- </a:t>
            </a:r>
            <a:r>
              <a:rPr b="0" i="1" lang="en-US" sz="2000" spc="-1" strike="noStrike">
                <a:solidFill>
                  <a:srgbClr val="3333cc"/>
                </a:solidFill>
                <a:latin typeface="Courier New"/>
              </a:rPr>
              <a:t>table_and is a 2-D constant defined in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    -- </a:t>
            </a:r>
            <a:r>
              <a:rPr b="0" i="1" lang="en-US" sz="2000" spc="-1" strike="noStrike">
                <a:solidFill>
                  <a:srgbClr val="3333cc"/>
                </a:solidFill>
                <a:latin typeface="Courier New"/>
              </a:rPr>
              <a:t>another package, called “tables” in the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    -- </a:t>
            </a:r>
            <a:r>
              <a:rPr b="0" i="1" lang="en-US" sz="2000" spc="-1" strike="noStrike">
                <a:solidFill>
                  <a:srgbClr val="3333cc"/>
                </a:solidFill>
                <a:latin typeface="Courier New"/>
              </a:rPr>
              <a:t>current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Courier New"/>
              </a:rPr>
              <a:t>working directo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“and”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du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oad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rray_nam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o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mvl_vector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start_bit, stop_bit, int_valu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teger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-- </a:t>
            </a:r>
            <a:r>
              <a:rPr b="0" i="1" lang="en-US" sz="2000" spc="-1" strike="noStrike">
                <a:solidFill>
                  <a:srgbClr val="3333cc"/>
                </a:solidFill>
                <a:latin typeface="Courier New"/>
              </a:rPr>
              <a:t>procedure behavior he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oad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rogram_pack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0083-6206-4BCF-83FE-327DB482E22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Librari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ign units (design files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tity declaration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chitecture bod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figuration declaration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ckage declaration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ckage bod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design unit is analyzed (compiled) and placed in a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esign librar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all that libraries are generally implemented as directories and are referenced by a logical na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logical name corresponds to physical path to the corresponding directo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FE12-13C0-46F7-AE42-CD820B3379A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5257800" y="4572000"/>
            <a:ext cx="1523880" cy="1676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09040" y="472428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19720" y="4724280"/>
            <a:ext cx="1523880" cy="1676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ompilation Proces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HDL analyzer verify the syntactic and semantic correctness of the sour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compiles each design unit into an intermediate for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intermediate form is stored in a design library called working libra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3200400"/>
            <a:ext cx="121932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esign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66880" y="3048120"/>
            <a:ext cx="152424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HD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nalyz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76520" y="3581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05520" y="3162240"/>
            <a:ext cx="17524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ntermediate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91120" y="3581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657600" y="4876920"/>
            <a:ext cx="1523880" cy="1676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95480" y="5029200"/>
            <a:ext cx="1524240" cy="1676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T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72640" y="50292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E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192640" y="487692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LIB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943600" y="400068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97240" y="5546880"/>
            <a:ext cx="11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ig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344D-F5F4-4BFE-9354-9C6BAC5F259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Libraries: Visibility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licit visi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 VHDL, the libraries STD and WORK are implicitly declar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licit visibility is achieved throug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lau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u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brary IEEE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se IEEE.std_logic_1164.all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ce a library is declared, all of the subprograms, type declarations in this library become visible to our programs through the us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lau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8FDE-2661-49FF-9DC4-724014BAEC4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Function Definition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4600" y="772920"/>
            <a:ext cx="8664480" cy="35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ising_edge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lock: std_logic)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Boolean 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3333cc"/>
                </a:solidFill>
                <a:latin typeface="Courier New"/>
              </a:rPr>
              <a:t>declarative region: declare variables local to the fun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Courier New"/>
              </a:rPr>
              <a:t>-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 </a:t>
            </a:r>
            <a:r>
              <a:rPr b="0" i="1" lang="en-US" sz="1800" spc="-1" strike="noStrike">
                <a:solidFill>
                  <a:srgbClr val="3333cc"/>
                </a:solidFill>
                <a:latin typeface="Courier New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(value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ising_edge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4608360" y="-338400"/>
            <a:ext cx="174600" cy="3121200"/>
          </a:xfrm>
          <a:custGeom>
            <a:avLst/>
            <a:gdLst>
              <a:gd name="textAreaLeft" fmla="*/ 111600 w 174600"/>
              <a:gd name="textAreaRight" fmla="*/ 174960 w 174600"/>
              <a:gd name="textAreaTop" fmla="*/ 81360 h 3121200"/>
              <a:gd name="textAreaBottom" fmla="*/ 3039840 h 3121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00720" y="1241280"/>
            <a:ext cx="243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ormal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4400" y="4419720"/>
            <a:ext cx="807192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unction is called with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ctual parameter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ising_edge(enabl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s of formal and actual parameters must mat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tual parameters could be variable, signal, consta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 an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D0B0-26B5-4CA9-AF54-8C77EAEDEF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ontext Claus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 for context claus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brary IEEE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se IEEE.std_logic_1164.all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ext clauses only applies the following design ent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a file contains more than one entity, context clauses must precede each of them to provide the appropriate visibility to each design entit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F552-68BE-47A6-ADC5-A36CF897D267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How to Create a Library?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2489-99D8-4E5D-800F-B553D48F614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How to Add Packages to a Library? 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9EB7-383F-4B10-8AEA-85F5DBB30609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Package Declaration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EEE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EEE.std_logic_1164.all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my_pack_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wor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td_logic_vector(15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0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"+" (op1, op2: word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word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"-" (op1, op2: word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word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"*" (op1, op2: word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word;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packag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my_pack_a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B109-A82A-4DF1-8AFC-5EACF9F8DC66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Package Body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EEE.std_logic_1164.all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EEE.std_logic_signed.all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EEE.std_logic_arith.all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bod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my_pack_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funct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"+" (op1, op2: word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wor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result: word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, b, c: integer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 := conv_integer(op1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b := conv_integer(op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c := a + b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result := conv_std_logic_vector(c, 16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resul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funct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packag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d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_pack_a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0008-BE28-4887-9732-D3D9A6508B23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Package Body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38188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"-" (op1, op2: word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wor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iabl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sult: word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, b, c: integer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a := conv_integer(op1); b := conv_integer(op2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 := a - b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sult := conv_std_logic_vector(c, 16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function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func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"*" (op1, op2: word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wor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sult: word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, b, c: integer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:= conv_integer(op1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 := conv_integer(op2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 := a * b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sult := conv_std_logic_vector(c, 16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tu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function;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ackage bod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y_pack_a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50C3-4E87-45E0-B66F-34B99C5BF560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Example using this Packag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EEE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my_lib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EEE.std_logic_1164.all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my_lib.my_pack_a.all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ritmetik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be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ritmetik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, b, c: word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 &lt;= x"abcd"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&lt;= x"1347"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 &lt;= a + b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beh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6C3F-E109-434F-8CD3-3EFCE9921085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imulation Result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2CE3-9D37-427B-9DA6-C902A3B09AA3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ummary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program overloa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tor overloa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cka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brar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DD67-C4F9-4AB0-974E-600C0662C241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Function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no class is specified, parameters are by default constan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ai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tatements cannot be used in functions’ bod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nctions execute in zero simulation ti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unctions cannot call a procedure that ha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ai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tatement in i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ameters have to be mod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gnals passed as parameters cannot be assigned values in the function bo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54A9-74AB-4185-BEE9-EAE91F4D81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Pure vs. Impure Function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HDL’93 supports two distinct types of function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re fun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ways return the same value when called with the same parameter valu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ure fun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y return different values even if they are called with the same parameter values at different tim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the signals in the architecture is visible within the function bod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ose signals may not appear in the function parameter list (e.g. ports of the entit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866D-6D39-4F38-BCE8-51636759EF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Exampl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817200"/>
            <a:ext cx="8512200" cy="539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EEE.std_logic_1164.all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f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, clock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; q, qbar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dff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df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functio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ising_edge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lock:std_logic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oole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edge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:=FALSE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dge:= (clock = ‘1’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lock’event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edge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rising_edge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tput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rocess 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wait unti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rising_edge(clock)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q &lt;= 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5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qbar &lt;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5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proce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outpu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h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"/>
          <p:cNvSpPr/>
          <p:nvPr/>
        </p:nvSpPr>
        <p:spPr>
          <a:xfrm>
            <a:off x="8229600" y="2462040"/>
            <a:ext cx="228600" cy="1424160"/>
          </a:xfrm>
          <a:custGeom>
            <a:avLst/>
            <a:gdLst>
              <a:gd name="textAreaLeft" fmla="*/ 0 w 228600"/>
              <a:gd name="textAreaRight" fmla="*/ 82440 w 228600"/>
              <a:gd name="textAreaTop" fmla="*/ 37080 h 1424160"/>
              <a:gd name="textAreaBottom" fmla="*/ 1387080 h 142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20880" y="3992400"/>
            <a:ext cx="162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eclar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g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17800" y="4419720"/>
            <a:ext cx="4273560" cy="75960"/>
          </a:xfrm>
          <a:custGeom>
            <a:avLst/>
            <a:gdLst/>
            <a:ahLst/>
            <a:rect l="l" t="t" r="r" b="b"/>
            <a:pathLst>
              <a:path w="2477" h="411">
                <a:moveTo>
                  <a:pt x="2477" y="0"/>
                </a:moveTo>
                <a:cubicBezTo>
                  <a:pt x="2138" y="112"/>
                  <a:pt x="1799" y="225"/>
                  <a:pt x="1508" y="265"/>
                </a:cubicBezTo>
                <a:cubicBezTo>
                  <a:pt x="1217" y="305"/>
                  <a:pt x="982" y="214"/>
                  <a:pt x="731" y="238"/>
                </a:cubicBezTo>
                <a:cubicBezTo>
                  <a:pt x="480" y="262"/>
                  <a:pt x="122" y="382"/>
                  <a:pt x="0" y="41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3200400"/>
            <a:ext cx="1371600" cy="762120"/>
          </a:xfrm>
          <a:custGeom>
            <a:avLst/>
            <a:gdLst/>
            <a:ahLst/>
            <a:rect l="l" t="t" r="r" b="b"/>
            <a:pathLst>
              <a:path w="832" h="576">
                <a:moveTo>
                  <a:pt x="600" y="0"/>
                </a:moveTo>
                <a:cubicBezTo>
                  <a:pt x="716" y="96"/>
                  <a:pt x="832" y="192"/>
                  <a:pt x="744" y="240"/>
                </a:cubicBezTo>
                <a:cubicBezTo>
                  <a:pt x="656" y="288"/>
                  <a:pt x="144" y="232"/>
                  <a:pt x="72" y="288"/>
                </a:cubicBezTo>
                <a:cubicBezTo>
                  <a:pt x="0" y="344"/>
                  <a:pt x="156" y="460"/>
                  <a:pt x="312" y="576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14A5-C387-42E4-96EA-25325D5126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BANCI UNIV</cp:lastModifiedBy>
  <dcterms:modified xsi:type="dcterms:W3CDTF">2003-12-09T06:01:20Z</dcterms:modified>
  <cp:revision>4579</cp:revision>
  <dc:subject/>
  <dc:title>PowerPoint Presentation</dc:title>
</cp:coreProperties>
</file>