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EFB-39B9-44C1-8396-E73B1F11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CCD-B08F-45AF-B6F5-F837DBE7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1D1-1F89-4F62-B5DC-955324FF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B88-C940-4DC1-8DF1-267EE3A4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ACC-A031-4124-B8B6-FC02D1E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6B4-40B0-495C-AAB4-A5C26AE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304-50C7-40FD-9675-A4CB2AA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FD3-5ED4-44C6-865B-3E7C6A4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02F-8199-4EE2-8BE5-DB79C725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CA5-DD70-4888-953A-9F2F6E5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353-5496-4CBE-B6DD-A96F51F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977-A5BD-464F-9D3E-E8540FC5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2E29-21E1-4144-86DC-33323412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IPS32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046-0A28-4362-914D-D932A0947C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ing Instruction Fet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08" name="f0505" descr=""/>
          <p:cNvPicPr/>
          <p:nvPr/>
        </p:nvPicPr>
        <p:blipFill>
          <a:blip r:embed="rId1"/>
          <a:stretch/>
        </p:blipFill>
        <p:spPr>
          <a:xfrm>
            <a:off x="2165400" y="1604880"/>
            <a:ext cx="4989600" cy="427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7A3-BE53-4B50-817A-EDD4E398B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ing R-Type ALU Ope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10" name=""/>
          <p:cNvSpPr/>
          <p:nvPr/>
        </p:nvSpPr>
        <p:spPr>
          <a:xfrm>
            <a:off x="888840" y="117792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03240" y="117792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17640" y="117792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32040" y="117792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117792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60840" y="117792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63520" y="1557360"/>
            <a:ext cx="49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        5 bits      5 bits      5 bits     5 bits     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f0507" descr=""/>
          <p:cNvPicPr/>
          <p:nvPr/>
        </p:nvPicPr>
        <p:blipFill>
          <a:blip r:embed="rId1"/>
          <a:stretch/>
        </p:blipFill>
        <p:spPr>
          <a:xfrm>
            <a:off x="1174680" y="2836800"/>
            <a:ext cx="6948720" cy="3040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79960" y="2832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93640" y="3436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5560" y="405756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96560" y="223344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d, rs, 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171-33C8-4EA3-9D09-F23DDE810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ing Load &amp; Stor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23" name="f0509" descr=""/>
          <p:cNvPicPr/>
          <p:nvPr/>
        </p:nvPicPr>
        <p:blipFill>
          <a:blip r:embed="rId1"/>
          <a:stretch/>
        </p:blipFill>
        <p:spPr>
          <a:xfrm>
            <a:off x="642960" y="2600280"/>
            <a:ext cx="7997760" cy="3497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428840" y="11462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3240" y="11462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57640" y="11462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2040" y="1146240"/>
            <a:ext cx="27432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1280" y="15699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        5 bits       5 bits                  1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14960" y="2543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28640" y="3463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5760" y="490068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3320" y="20257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w rt, index(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28640" y="29973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72200" y="3733920"/>
            <a:ext cx="1056600" cy="2273040"/>
            <a:chOff x="772200" y="3733920"/>
            <a:chExt cx="1056600" cy="2273040"/>
          </a:xfrm>
        </p:grpSpPr>
        <p:sp>
          <p:nvSpPr>
            <p:cNvPr id="235" name=""/>
            <p:cNvSpPr/>
            <p:nvPr/>
          </p:nvSpPr>
          <p:spPr>
            <a:xfrm>
              <a:off x="1041480" y="3733920"/>
              <a:ext cx="787320" cy="1904760"/>
            </a:xfrm>
            <a:custGeom>
              <a:avLst/>
              <a:gdLst/>
              <a:ahLst/>
              <a:rect l="l" t="t" r="r" b="b"/>
              <a:pathLst>
                <a:path w="496" h="1200">
                  <a:moveTo>
                    <a:pt x="496" y="0"/>
                  </a:moveTo>
                  <a:cubicBezTo>
                    <a:pt x="484" y="172"/>
                    <a:pt x="472" y="344"/>
                    <a:pt x="400" y="432"/>
                  </a:cubicBezTo>
                  <a:cubicBezTo>
                    <a:pt x="328" y="520"/>
                    <a:pt x="128" y="400"/>
                    <a:pt x="64" y="528"/>
                  </a:cubicBezTo>
                  <a:cubicBezTo>
                    <a:pt x="0" y="656"/>
                    <a:pt x="8" y="928"/>
                    <a:pt x="16" y="12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2200" y="563868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71720" y="2057400"/>
            <a:ext cx="1504800" cy="1295280"/>
            <a:chOff x="171720" y="2057400"/>
            <a:chExt cx="1504800" cy="1295280"/>
          </a:xfrm>
        </p:grpSpPr>
        <p:sp>
          <p:nvSpPr>
            <p:cNvPr id="238" name=""/>
            <p:cNvSpPr/>
            <p:nvPr/>
          </p:nvSpPr>
          <p:spPr>
            <a:xfrm>
              <a:off x="533520" y="2362320"/>
              <a:ext cx="1143000" cy="990360"/>
            </a:xfrm>
            <a:custGeom>
              <a:avLst/>
              <a:gdLst/>
              <a:ahLst/>
              <a:rect l="l" t="t" r="r" b="b"/>
              <a:pathLst>
                <a:path w="768" h="552">
                  <a:moveTo>
                    <a:pt x="768" y="432"/>
                  </a:moveTo>
                  <a:cubicBezTo>
                    <a:pt x="568" y="492"/>
                    <a:pt x="368" y="552"/>
                    <a:pt x="240" y="480"/>
                  </a:cubicBezTo>
                  <a:cubicBezTo>
                    <a:pt x="112" y="408"/>
                    <a:pt x="56" y="204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1720" y="205740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2C5-E011-497B-BC7F-A4D5CDAD1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ing Branch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41" name="f0510" descr=""/>
          <p:cNvPicPr/>
          <p:nvPr/>
        </p:nvPicPr>
        <p:blipFill>
          <a:blip r:embed="rId1"/>
          <a:stretch/>
        </p:blipFill>
        <p:spPr>
          <a:xfrm>
            <a:off x="1871640" y="1476360"/>
            <a:ext cx="6586560" cy="4848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14440" y="7160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28840" y="7160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43240" y="7160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57640" y="716040"/>
            <a:ext cx="27432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880" y="1139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        5 bits       5 bits                  1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00800" y="30258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3487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14200" y="527832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9440" y="2236680"/>
            <a:ext cx="1625400" cy="347760"/>
          </a:xfrm>
          <a:custGeom>
            <a:avLst/>
            <a:gdLst/>
            <a:ahLst/>
            <a:rect l="l" t="t" r="r" b="b"/>
            <a:pathLst>
              <a:path w="1024" h="219">
                <a:moveTo>
                  <a:pt x="1024" y="143"/>
                </a:moveTo>
                <a:cubicBezTo>
                  <a:pt x="843" y="181"/>
                  <a:pt x="663" y="219"/>
                  <a:pt x="549" y="198"/>
                </a:cubicBezTo>
                <a:cubicBezTo>
                  <a:pt x="435" y="177"/>
                  <a:pt x="430" y="30"/>
                  <a:pt x="339" y="15"/>
                </a:cubicBezTo>
                <a:cubicBezTo>
                  <a:pt x="248" y="0"/>
                  <a:pt x="124" y="53"/>
                  <a:pt x="0" y="10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7040" y="22003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ultiply b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60" y="592776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q rs, rt,Lab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252-D0E0-4DB7-B7E4-ED745A5F1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uilding the Datapa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93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Use multiplexors to stitch them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f0517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56720" cy="43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E1E-A9F3-491B-971A-9F8F095DB0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rol Signa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lecting the operations to perform (ALU, load/store, beq,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rolling the flow of data (multiplexor’s select input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ad/write enable inputs of memory and register fi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formation comes from the 32 bits of the instru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629-F20C-4897-91EE-750395B5A3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U Control Un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U per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 for loads and st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traction for branches (be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peration for jum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the operation is determined by the function field for R-type of inform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U Control unit will have the following inpu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bit control field called ALU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Function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FCB-4C92-4BCF-AEE5-9FABF5E77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U Control Un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6440" y="4879800"/>
            <a:ext cx="8272440" cy="903600"/>
            <a:chOff x="406440" y="4879800"/>
            <a:chExt cx="8272440" cy="903600"/>
          </a:xfrm>
        </p:grpSpPr>
        <p:sp>
          <p:nvSpPr>
            <p:cNvPr id="262" name=""/>
            <p:cNvSpPr/>
            <p:nvPr/>
          </p:nvSpPr>
          <p:spPr>
            <a:xfrm>
              <a:off x="7155000" y="5332320"/>
              <a:ext cx="15238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89440" y="5332320"/>
              <a:ext cx="14655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29240" y="5332320"/>
              <a:ext cx="10602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1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75040" y="5332320"/>
              <a:ext cx="16542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46240" y="5332320"/>
              <a:ext cx="9288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6440" y="5332320"/>
              <a:ext cx="16398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-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55000" y="4879800"/>
              <a:ext cx="1523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89440" y="4879800"/>
              <a:ext cx="146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29240" y="4879800"/>
              <a:ext cx="1060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5040" y="4879800"/>
              <a:ext cx="1654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46240" y="4879800"/>
              <a:ext cx="928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6440" y="4879800"/>
              <a:ext cx="1639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-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06440" y="3976560"/>
            <a:ext cx="8272440" cy="903240"/>
            <a:chOff x="406440" y="3976560"/>
            <a:chExt cx="8272440" cy="903240"/>
          </a:xfrm>
        </p:grpSpPr>
        <p:sp>
          <p:nvSpPr>
            <p:cNvPr id="275" name=""/>
            <p:cNvSpPr/>
            <p:nvPr/>
          </p:nvSpPr>
          <p:spPr>
            <a:xfrm>
              <a:off x="7155000" y="4429080"/>
              <a:ext cx="15238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89440" y="4429080"/>
              <a:ext cx="1465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29240" y="4429080"/>
              <a:ext cx="1060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75040" y="4429080"/>
              <a:ext cx="1654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6240" y="4429080"/>
              <a:ext cx="928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440" y="4429080"/>
              <a:ext cx="1639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-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55000" y="3976560"/>
              <a:ext cx="1523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89440" y="3976560"/>
              <a:ext cx="146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ub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29240" y="3976560"/>
              <a:ext cx="1060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75040" y="3976560"/>
              <a:ext cx="1654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ub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46240" y="3976560"/>
              <a:ext cx="928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440" y="3976560"/>
              <a:ext cx="1639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-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6440" y="3525840"/>
            <a:ext cx="8272440" cy="450720"/>
            <a:chOff x="406440" y="3525840"/>
            <a:chExt cx="8272440" cy="450720"/>
          </a:xfrm>
        </p:grpSpPr>
        <p:sp>
          <p:nvSpPr>
            <p:cNvPr id="288" name=""/>
            <p:cNvSpPr/>
            <p:nvPr/>
          </p:nvSpPr>
          <p:spPr>
            <a:xfrm>
              <a:off x="7155000" y="3525840"/>
              <a:ext cx="15238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89440" y="3525840"/>
              <a:ext cx="1465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29240" y="3525840"/>
              <a:ext cx="1060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5040" y="3525840"/>
              <a:ext cx="1654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6240" y="3525840"/>
              <a:ext cx="928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440" y="3525840"/>
              <a:ext cx="1639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-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06440" y="3073320"/>
            <a:ext cx="8272440" cy="452520"/>
            <a:chOff x="406440" y="3073320"/>
            <a:chExt cx="8272440" cy="452520"/>
          </a:xfrm>
        </p:grpSpPr>
        <p:sp>
          <p:nvSpPr>
            <p:cNvPr id="295" name=""/>
            <p:cNvSpPr/>
            <p:nvPr/>
          </p:nvSpPr>
          <p:spPr>
            <a:xfrm>
              <a:off x="7155000" y="3073320"/>
              <a:ext cx="1523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89440" y="3073320"/>
              <a:ext cx="146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ub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29240" y="3073320"/>
              <a:ext cx="1060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75040" y="3073320"/>
              <a:ext cx="1654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anch 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6240" y="3073320"/>
              <a:ext cx="928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" y="3073320"/>
              <a:ext cx="1639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06440" y="2622600"/>
            <a:ext cx="8272440" cy="450720"/>
            <a:chOff x="406440" y="2622600"/>
            <a:chExt cx="8272440" cy="450720"/>
          </a:xfrm>
        </p:grpSpPr>
        <p:sp>
          <p:nvSpPr>
            <p:cNvPr id="302" name=""/>
            <p:cNvSpPr/>
            <p:nvPr/>
          </p:nvSpPr>
          <p:spPr>
            <a:xfrm>
              <a:off x="7155000" y="2622600"/>
              <a:ext cx="15238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89440" y="2622600"/>
              <a:ext cx="1465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29240" y="2622600"/>
              <a:ext cx="1060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5040" y="2622600"/>
              <a:ext cx="1654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re 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6240" y="2622600"/>
              <a:ext cx="928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6440" y="2622600"/>
              <a:ext cx="1639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046240" y="2170080"/>
            <a:ext cx="6632640" cy="452520"/>
            <a:chOff x="2046240" y="2170080"/>
            <a:chExt cx="6632640" cy="452520"/>
          </a:xfrm>
        </p:grpSpPr>
        <p:sp>
          <p:nvSpPr>
            <p:cNvPr id="309" name=""/>
            <p:cNvSpPr/>
            <p:nvPr/>
          </p:nvSpPr>
          <p:spPr>
            <a:xfrm>
              <a:off x="7155000" y="2170080"/>
              <a:ext cx="15238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9240" y="2170080"/>
              <a:ext cx="1060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46240" y="2170080"/>
              <a:ext cx="928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6440" y="2170080"/>
            <a:ext cx="6748560" cy="452520"/>
            <a:chOff x="406440" y="2170080"/>
            <a:chExt cx="6748560" cy="452520"/>
          </a:xfrm>
        </p:grpSpPr>
        <p:sp>
          <p:nvSpPr>
            <p:cNvPr id="313" name=""/>
            <p:cNvSpPr/>
            <p:nvPr/>
          </p:nvSpPr>
          <p:spPr>
            <a:xfrm>
              <a:off x="5689440" y="2170080"/>
              <a:ext cx="146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5040" y="2170080"/>
              <a:ext cx="1654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ad 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6440" y="2170080"/>
              <a:ext cx="1639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155000" y="1530360"/>
            <a:ext cx="1523880" cy="63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U contro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89440" y="1530360"/>
            <a:ext cx="1465560" cy="63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sired ALU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29240" y="1530360"/>
            <a:ext cx="1060200" cy="63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nc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5040" y="1530360"/>
            <a:ext cx="1654200" cy="63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struction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46240" y="1530360"/>
            <a:ext cx="928800" cy="63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440" y="1530360"/>
            <a:ext cx="1639800" cy="63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struction 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6440" y="1530360"/>
            <a:ext cx="8272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6440" y="217008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6440" y="262260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6440" y="307332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6440" y="352584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397656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6440" y="442908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6440" y="487980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6440" y="5332320"/>
            <a:ext cx="82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6440" y="5783400"/>
            <a:ext cx="82724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6440" y="1530360"/>
            <a:ext cx="0" cy="425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46240" y="1530360"/>
            <a:ext cx="0" cy="42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75040" y="1530360"/>
            <a:ext cx="0" cy="42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29240" y="1530360"/>
            <a:ext cx="0" cy="42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89440" y="1530360"/>
            <a:ext cx="0" cy="42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55000" y="1530360"/>
            <a:ext cx="0" cy="42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678880" y="1530360"/>
            <a:ext cx="0" cy="4253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12A-C8FD-4AD3-BA8F-2763FE3156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uth Table for ALU Control Un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90520" y="1454040"/>
          <a:ext cx="8395920" cy="4064040"/>
        </p:xfrm>
        <a:graphic>
          <a:graphicData uri="http://schemas.openxmlformats.org/drawingml/2006/table">
            <a:tbl>
              <a:tblPr/>
              <a:tblGrid>
                <a:gridCol w="1292400"/>
                <a:gridCol w="1322640"/>
                <a:gridCol w="563760"/>
                <a:gridCol w="573840"/>
                <a:gridCol w="540720"/>
                <a:gridCol w="557640"/>
                <a:gridCol w="524160"/>
                <a:gridCol w="617040"/>
                <a:gridCol w="240372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unct fiel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per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Op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Op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521360" y="569592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map the truth table to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513-6302-4518-A904-E30969DB72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ing the Contro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2696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U Control Blo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450800" y="2379600"/>
            <a:ext cx="5951880" cy="339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14920" y="5064120"/>
            <a:ext cx="50940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60680" y="5156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00280" y="542304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03520" y="5165640"/>
            <a:ext cx="52056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3613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4670280"/>
            <a:ext cx="10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7560" y="346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71840" y="4351320"/>
            <a:ext cx="188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160" y="431172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(5-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700280" y="4062240"/>
            <a:ext cx="0" cy="13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5351400"/>
            <a:ext cx="69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14920" y="3432240"/>
            <a:ext cx="50940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17560" y="495000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091960" y="3695760"/>
            <a:ext cx="172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2320" y="3695760"/>
            <a:ext cx="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95960" y="4240080"/>
            <a:ext cx="52056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17560" y="4519440"/>
            <a:ext cx="36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64280" y="4475160"/>
            <a:ext cx="889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471480" y="5165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471840" y="2379240"/>
            <a:ext cx="0" cy="27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71840" y="3517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3120" y="4311720"/>
            <a:ext cx="88920" cy="8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3120" y="333864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981320" y="34606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81680" y="26701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471840" y="2670120"/>
            <a:ext cx="15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24320" y="5237280"/>
            <a:ext cx="28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180200" y="3517920"/>
            <a:ext cx="0" cy="17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773680" y="3506400"/>
            <a:ext cx="14065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6520" y="44290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80200" y="4429080"/>
            <a:ext cx="87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37520" y="403380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00280" y="40622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46480" y="4062240"/>
            <a:ext cx="0" cy="117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46480" y="5237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3736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60680" y="4475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55640" y="4889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43400" y="4295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471840" y="210456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16480" y="192096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22920" y="4870440"/>
            <a:ext cx="14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on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83760" y="31701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on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33000" y="40719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on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12800" y="4670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12800" y="4216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84360" y="3778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71840" y="233352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UOp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7560" y="282240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UOp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EBA-E7B5-4B5E-A005-142FD9B487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IPS32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 bit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ers, ALU, instructions, shifter, data and address are 32 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d/Store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special instructions to access memory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oad word)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tore w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ALU operation involves an operand from the mem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SC ba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instru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the instruction can be completed in five clock cyc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D68-55EC-4BC2-9C96-FEF9A7DAC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Datapath with the ALU Control Unit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395" name="f0517" descr=""/>
          <p:cNvPicPr/>
          <p:nvPr/>
        </p:nvPicPr>
        <p:blipFill>
          <a:blip r:embed="rId1"/>
          <a:stretch/>
        </p:blipFill>
        <p:spPr>
          <a:xfrm>
            <a:off x="685800" y="1347840"/>
            <a:ext cx="7956720" cy="43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386-D731-403A-8264-6431414BE3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ven Control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76120" y="781200"/>
          <a:ext cx="8639280" cy="5697360"/>
        </p:xfrm>
        <a:graphic>
          <a:graphicData uri="http://schemas.openxmlformats.org/drawingml/2006/table">
            <a:tbl>
              <a:tblPr/>
              <a:tblGrid>
                <a:gridCol w="1781280"/>
                <a:gridCol w="3505320"/>
                <a:gridCol w="3352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al 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ffect when de-asser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ffect when asser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tination register no comes fro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tination register no comes fro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tination register is written with value on Write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U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LU operand comes fro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_Data_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LU operand is the sign extended, lower 16 bit of the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C is replaced by PC +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C is replaced by the branch target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ory is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ory is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to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value to the registe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put comes from the AL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value to the registe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put comes from the data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412-3CD7-4EE1-B511-022E20F464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gDst &amp; RegWri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99" name=""/>
          <p:cNvSpPr/>
          <p:nvPr/>
        </p:nvSpPr>
        <p:spPr>
          <a:xfrm>
            <a:off x="2576520" y="3890880"/>
            <a:ext cx="123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178080" y="2495520"/>
            <a:ext cx="4051440" cy="2369880"/>
            <a:chOff x="3178080" y="2495520"/>
            <a:chExt cx="4051440" cy="2369880"/>
          </a:xfrm>
        </p:grpSpPr>
        <p:sp>
          <p:nvSpPr>
            <p:cNvPr id="401" name=""/>
            <p:cNvSpPr/>
            <p:nvPr/>
          </p:nvSpPr>
          <p:spPr>
            <a:xfrm>
              <a:off x="3816360" y="2495520"/>
              <a:ext cx="2773440" cy="231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4320" y="262404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register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97280" y="308304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register #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98360" y="364176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17080" y="422280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ri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19600" y="3646440"/>
              <a:ext cx="112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gister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97360" y="261612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06000" y="443088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78080" y="278280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78080" y="330840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8080" y="441324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89800" y="2874960"/>
              <a:ext cx="63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91240" y="441324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62440" y="423396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#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491000" y="4803840"/>
            <a:ext cx="1335240" cy="829080"/>
            <a:chOff x="4491000" y="4803840"/>
            <a:chExt cx="1335240" cy="829080"/>
          </a:xfrm>
        </p:grpSpPr>
        <p:sp>
          <p:nvSpPr>
            <p:cNvPr id="416" name=""/>
            <p:cNvSpPr/>
            <p:nvPr/>
          </p:nvSpPr>
          <p:spPr>
            <a:xfrm flipV="1">
              <a:off x="5154480" y="4803840"/>
              <a:ext cx="0" cy="45072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1000" y="5234040"/>
              <a:ext cx="13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Reg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843200" y="4386240"/>
            <a:ext cx="1334880" cy="876600"/>
            <a:chOff x="1843200" y="4386240"/>
            <a:chExt cx="1334880" cy="876600"/>
          </a:xfrm>
        </p:grpSpPr>
        <p:sp>
          <p:nvSpPr>
            <p:cNvPr id="419" name=""/>
            <p:cNvSpPr/>
            <p:nvPr/>
          </p:nvSpPr>
          <p:spPr>
            <a:xfrm flipV="1">
              <a:off x="2376360" y="4386240"/>
              <a:ext cx="0" cy="45072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43200" y="4863960"/>
              <a:ext cx="133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RegD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092320" y="3236760"/>
            <a:ext cx="484200" cy="1363680"/>
            <a:chOff x="2092320" y="3236760"/>
            <a:chExt cx="484200" cy="1363680"/>
          </a:xfrm>
        </p:grpSpPr>
        <p:sp>
          <p:nvSpPr>
            <p:cNvPr id="422" name=""/>
            <p:cNvSpPr/>
            <p:nvPr/>
          </p:nvSpPr>
          <p:spPr>
            <a:xfrm rot="16200000">
              <a:off x="1658880" y="3682800"/>
              <a:ext cx="1363680" cy="471600"/>
            </a:xfrm>
            <a:custGeom>
              <a:avLst/>
              <a:gdLst>
                <a:gd name="textAreaLeft" fmla="*/ 299880 w 1363680"/>
                <a:gd name="textAreaRight" fmla="*/ 1063800 w 1363680"/>
                <a:gd name="textAreaTop" fmla="*/ 103680 h 471600"/>
                <a:gd name="textAreaBottom" fmla="*/ 36792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92320" y="344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08160" y="4049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89000" y="1747800"/>
            <a:ext cx="1952640" cy="1893960"/>
            <a:chOff x="189000" y="1747800"/>
            <a:chExt cx="1952640" cy="1893960"/>
          </a:xfrm>
        </p:grpSpPr>
        <p:sp>
          <p:nvSpPr>
            <p:cNvPr id="426" name=""/>
            <p:cNvSpPr/>
            <p:nvPr/>
          </p:nvSpPr>
          <p:spPr>
            <a:xfrm>
              <a:off x="685800" y="3641760"/>
              <a:ext cx="141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9000" y="3265560"/>
              <a:ext cx="15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rt: Ins[20-1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0040" y="2119320"/>
              <a:ext cx="493560" cy="1103400"/>
            </a:xfrm>
            <a:custGeom>
              <a:avLst/>
              <a:gdLst/>
              <a:ahLst/>
              <a:rect l="l" t="t" r="r" b="b"/>
              <a:pathLst>
                <a:path w="1170" h="695">
                  <a:moveTo>
                    <a:pt x="0" y="695"/>
                  </a:moveTo>
                  <a:cubicBezTo>
                    <a:pt x="51" y="564"/>
                    <a:pt x="102" y="433"/>
                    <a:pt x="219" y="375"/>
                  </a:cubicBezTo>
                  <a:cubicBezTo>
                    <a:pt x="336" y="317"/>
                    <a:pt x="546" y="409"/>
                    <a:pt x="704" y="347"/>
                  </a:cubicBezTo>
                  <a:cubicBezTo>
                    <a:pt x="862" y="285"/>
                    <a:pt x="1016" y="142"/>
                    <a:pt x="1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7520" y="1747800"/>
              <a:ext cx="15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9000" y="3897360"/>
            <a:ext cx="1917720" cy="1621440"/>
            <a:chOff x="189000" y="3897360"/>
            <a:chExt cx="1917720" cy="1621440"/>
          </a:xfrm>
        </p:grpSpPr>
        <p:sp>
          <p:nvSpPr>
            <p:cNvPr id="431" name=""/>
            <p:cNvSpPr/>
            <p:nvPr/>
          </p:nvSpPr>
          <p:spPr>
            <a:xfrm>
              <a:off x="685800" y="4282920"/>
              <a:ext cx="142092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9000" y="3897360"/>
              <a:ext cx="15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rd: Ins[15-1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120" y="5181480"/>
              <a:ext cx="15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R-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9520" y="4309920"/>
              <a:ext cx="471240" cy="727200"/>
            </a:xfrm>
            <a:custGeom>
              <a:avLst/>
              <a:gdLst/>
              <a:ahLst/>
              <a:rect l="l" t="t" r="r" b="b"/>
              <a:pathLst>
                <a:path w="297" h="458">
                  <a:moveTo>
                    <a:pt x="0" y="0"/>
                  </a:moveTo>
                  <a:cubicBezTo>
                    <a:pt x="107" y="58"/>
                    <a:pt x="215" y="116"/>
                    <a:pt x="256" y="192"/>
                  </a:cubicBezTo>
                  <a:cubicBezTo>
                    <a:pt x="297" y="268"/>
                    <a:pt x="248" y="414"/>
                    <a:pt x="247" y="4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3A2-46A0-4A87-80B9-5D7D80DBDA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USr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2701800"/>
            <a:ext cx="267048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62440" y="3911760"/>
            <a:ext cx="132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49280" y="1387440"/>
            <a:ext cx="3411360" cy="3304800"/>
            <a:chOff x="449280" y="1387440"/>
            <a:chExt cx="3411360" cy="3304800"/>
          </a:xfrm>
        </p:grpSpPr>
        <p:sp>
          <p:nvSpPr>
            <p:cNvPr id="439" name=""/>
            <p:cNvSpPr/>
            <p:nvPr/>
          </p:nvSpPr>
          <p:spPr>
            <a:xfrm>
              <a:off x="1087560" y="2322360"/>
              <a:ext cx="2773080" cy="231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55520" y="245124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register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68120" y="2909880"/>
              <a:ext cx="16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register #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9200" y="346860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88280" y="404964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ri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0800" y="3473280"/>
              <a:ext cx="112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gister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4332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#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9280" y="261000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9280" y="313524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9280" y="4240080"/>
              <a:ext cx="6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454120" y="1859040"/>
              <a:ext cx="0" cy="45072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33640" y="3732120"/>
              <a:ext cx="8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#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19440" y="1387440"/>
              <a:ext cx="133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Reg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948200" y="4654080"/>
            <a:ext cx="1335240" cy="877320"/>
            <a:chOff x="4948200" y="4654080"/>
            <a:chExt cx="1335240" cy="877320"/>
          </a:xfrm>
        </p:grpSpPr>
        <p:sp>
          <p:nvSpPr>
            <p:cNvPr id="453" name=""/>
            <p:cNvSpPr/>
            <p:nvPr/>
          </p:nvSpPr>
          <p:spPr>
            <a:xfrm flipV="1">
              <a:off x="5481720" y="4654080"/>
              <a:ext cx="0" cy="45108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8200" y="5132520"/>
              <a:ext cx="13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ALUS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664360" y="4792680"/>
            <a:ext cx="1733040" cy="1471680"/>
            <a:chOff x="2664360" y="4792680"/>
            <a:chExt cx="1733040" cy="1471680"/>
          </a:xfrm>
        </p:grpSpPr>
        <p:grpSp>
          <p:nvGrpSpPr>
            <p:cNvPr id="456" name=""/>
            <p:cNvGrpSpPr/>
            <p:nvPr/>
          </p:nvGrpSpPr>
          <p:grpSpPr>
            <a:xfrm>
              <a:off x="2692440" y="4792680"/>
              <a:ext cx="1704960" cy="1471680"/>
              <a:chOff x="2692440" y="4792680"/>
              <a:chExt cx="1704960" cy="1471680"/>
            </a:xfrm>
          </p:grpSpPr>
          <p:sp>
            <p:nvSpPr>
              <p:cNvPr id="457" name=""/>
              <p:cNvSpPr/>
              <p:nvPr/>
            </p:nvSpPr>
            <p:spPr>
              <a:xfrm>
                <a:off x="2692440" y="4792680"/>
                <a:ext cx="880920" cy="1471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92440" y="5529240"/>
                <a:ext cx="80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3949200" y="5442120"/>
                <a:ext cx="10188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4560" y="561024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664360" y="5140440"/>
              <a:ext cx="9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t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97400" y="3505320"/>
            <a:ext cx="2128680" cy="2023920"/>
            <a:chOff x="4397400" y="3505320"/>
            <a:chExt cx="2128680" cy="2023920"/>
          </a:xfrm>
        </p:grpSpPr>
        <p:sp>
          <p:nvSpPr>
            <p:cNvPr id="463" name=""/>
            <p:cNvSpPr/>
            <p:nvPr/>
          </p:nvSpPr>
          <p:spPr>
            <a:xfrm rot="16200000">
              <a:off x="4763880" y="3951360"/>
              <a:ext cx="1363680" cy="471240"/>
            </a:xfrm>
            <a:custGeom>
              <a:avLst/>
              <a:gdLst>
                <a:gd name="textAreaLeft" fmla="*/ 299880 w 1363680"/>
                <a:gd name="textAreaRight" fmla="*/ 1063800 w 1363680"/>
                <a:gd name="textAreaTop" fmla="*/ 103680 h 471240"/>
                <a:gd name="textAreaBottom" fmla="*/ 36756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97400" y="3718080"/>
              <a:ext cx="2128680" cy="1811160"/>
              <a:chOff x="4397400" y="3718080"/>
              <a:chExt cx="2128680" cy="1811160"/>
            </a:xfrm>
          </p:grpSpPr>
          <p:sp>
            <p:nvSpPr>
              <p:cNvPr id="465" name=""/>
              <p:cNvSpPr/>
              <p:nvPr/>
            </p:nvSpPr>
            <p:spPr>
              <a:xfrm>
                <a:off x="5197320" y="37180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213160" y="43178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99160" y="4146480"/>
                <a:ext cx="82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4397400" y="4513320"/>
                <a:ext cx="0" cy="10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97400" y="4513320"/>
                <a:ext cx="81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49280" y="5105520"/>
            <a:ext cx="2243160" cy="873000"/>
            <a:chOff x="449280" y="5105520"/>
            <a:chExt cx="2243160" cy="873000"/>
          </a:xfrm>
        </p:grpSpPr>
        <p:sp>
          <p:nvSpPr>
            <p:cNvPr id="471" name=""/>
            <p:cNvSpPr/>
            <p:nvPr/>
          </p:nvSpPr>
          <p:spPr>
            <a:xfrm>
              <a:off x="685800" y="5529240"/>
              <a:ext cx="200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9280" y="5105520"/>
              <a:ext cx="179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Imm: Ins[15-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28800" y="5610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974960" y="5454720"/>
              <a:ext cx="10152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518160" y="2387160"/>
            <a:ext cx="2519640" cy="2109960"/>
            <a:chOff x="6518160" y="2387160"/>
            <a:chExt cx="2519640" cy="2109960"/>
          </a:xfrm>
        </p:grpSpPr>
        <p:sp>
          <p:nvSpPr>
            <p:cNvPr id="476" name=""/>
            <p:cNvSpPr/>
            <p:nvPr/>
          </p:nvSpPr>
          <p:spPr>
            <a:xfrm>
              <a:off x="7702560" y="3514680"/>
              <a:ext cx="13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518160" y="2387160"/>
              <a:ext cx="2011320" cy="2109960"/>
              <a:chOff x="6518160" y="2387160"/>
              <a:chExt cx="2011320" cy="2109960"/>
            </a:xfrm>
          </p:grpSpPr>
          <p:sp>
            <p:nvSpPr>
              <p:cNvPr id="478" name=""/>
              <p:cNvSpPr/>
              <p:nvPr/>
            </p:nvSpPr>
            <p:spPr>
              <a:xfrm rot="16200000">
                <a:off x="6056280" y="2850840"/>
                <a:ext cx="2109960" cy="118260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 rot="16200000">
                <a:off x="6473520" y="3267720"/>
                <a:ext cx="476280" cy="38736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702560" y="3457440"/>
                <a:ext cx="82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02560" y="3038400"/>
                <a:ext cx="55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44920" y="2870280"/>
                <a:ext cx="61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mic Sans MS"/>
                  </a:rPr>
                  <a:t>Ze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800040" y="365292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6DC-9820-486A-9CC3-8DF7DF7AA7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mtoRe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823200" y="2401920"/>
            <a:ext cx="2790360" cy="2319480"/>
            <a:chOff x="3823200" y="2401920"/>
            <a:chExt cx="2790360" cy="2319480"/>
          </a:xfrm>
        </p:grpSpPr>
        <p:sp>
          <p:nvSpPr>
            <p:cNvPr id="486" name=""/>
            <p:cNvSpPr/>
            <p:nvPr/>
          </p:nvSpPr>
          <p:spPr>
            <a:xfrm>
              <a:off x="3840120" y="2401920"/>
              <a:ext cx="2773440" cy="231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23200" y="298944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40840" y="400068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ri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67840" y="355284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43600" y="266868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613560" y="2989440"/>
            <a:ext cx="745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975360" y="3738600"/>
            <a:ext cx="1521000" cy="854280"/>
            <a:chOff x="6975360" y="3738600"/>
            <a:chExt cx="1521000" cy="854280"/>
          </a:xfrm>
        </p:grpSpPr>
        <p:sp>
          <p:nvSpPr>
            <p:cNvPr id="493" name=""/>
            <p:cNvSpPr/>
            <p:nvPr/>
          </p:nvSpPr>
          <p:spPr>
            <a:xfrm flipV="1">
              <a:off x="7629480" y="3738600"/>
              <a:ext cx="0" cy="45072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75360" y="4194000"/>
              <a:ext cx="15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MemtoR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345080" y="2589120"/>
            <a:ext cx="484560" cy="1363680"/>
            <a:chOff x="7345080" y="2589120"/>
            <a:chExt cx="484560" cy="1363680"/>
          </a:xfrm>
        </p:grpSpPr>
        <p:sp>
          <p:nvSpPr>
            <p:cNvPr id="496" name=""/>
            <p:cNvSpPr/>
            <p:nvPr/>
          </p:nvSpPr>
          <p:spPr>
            <a:xfrm rot="16200000">
              <a:off x="6912000" y="3035160"/>
              <a:ext cx="1363680" cy="471600"/>
            </a:xfrm>
            <a:custGeom>
              <a:avLst/>
              <a:gdLst>
                <a:gd name="textAreaLeft" fmla="*/ 299880 w 1363680"/>
                <a:gd name="textAreaRight" fmla="*/ 1063800 w 1363680"/>
                <a:gd name="textAreaTop" fmla="*/ 103680 h 471600"/>
                <a:gd name="textAreaBottom" fmla="*/ 36792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45080" y="2801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40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069920" y="2150640"/>
            <a:ext cx="2770200" cy="2109960"/>
            <a:chOff x="1069920" y="2150640"/>
            <a:chExt cx="2770200" cy="2109960"/>
          </a:xfrm>
        </p:grpSpPr>
        <p:grpSp>
          <p:nvGrpSpPr>
            <p:cNvPr id="500" name=""/>
            <p:cNvGrpSpPr/>
            <p:nvPr/>
          </p:nvGrpSpPr>
          <p:grpSpPr>
            <a:xfrm>
              <a:off x="1069920" y="2150640"/>
              <a:ext cx="2770200" cy="2109960"/>
              <a:chOff x="1069920" y="2150640"/>
              <a:chExt cx="2770200" cy="2109960"/>
            </a:xfrm>
          </p:grpSpPr>
          <p:sp>
            <p:nvSpPr>
              <p:cNvPr id="501" name=""/>
              <p:cNvSpPr/>
              <p:nvPr/>
            </p:nvSpPr>
            <p:spPr>
              <a:xfrm rot="16200000">
                <a:off x="608040" y="2614320"/>
                <a:ext cx="2109960" cy="118260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 rot="16200000">
                <a:off x="1025280" y="3031200"/>
                <a:ext cx="476280" cy="38736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254320" y="3220920"/>
                <a:ext cx="15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54320" y="2801880"/>
                <a:ext cx="55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1696680" y="263376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mic Sans M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809800" y="3220920"/>
            <a:ext cx="4548240" cy="1960560"/>
            <a:chOff x="2809800" y="3220920"/>
            <a:chExt cx="4548240" cy="1960560"/>
          </a:xfrm>
        </p:grpSpPr>
        <p:sp>
          <p:nvSpPr>
            <p:cNvPr id="507" name=""/>
            <p:cNvSpPr/>
            <p:nvPr/>
          </p:nvSpPr>
          <p:spPr>
            <a:xfrm>
              <a:off x="2809800" y="3220920"/>
              <a:ext cx="0" cy="196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09800" y="5181480"/>
              <a:ext cx="416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975360" y="3552840"/>
              <a:ext cx="0" cy="162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75360" y="3552840"/>
              <a:ext cx="3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868200" y="3220920"/>
            <a:ext cx="4975920" cy="3124080"/>
            <a:chOff x="3868200" y="3220920"/>
            <a:chExt cx="4975920" cy="3124080"/>
          </a:xfrm>
        </p:grpSpPr>
        <p:sp>
          <p:nvSpPr>
            <p:cNvPr id="512" name=""/>
            <p:cNvSpPr/>
            <p:nvPr/>
          </p:nvSpPr>
          <p:spPr>
            <a:xfrm>
              <a:off x="7829640" y="3220920"/>
              <a:ext cx="101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844120" y="3220920"/>
              <a:ext cx="0" cy="28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278040" y="6022800"/>
              <a:ext cx="256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68200" y="5702400"/>
              <a:ext cx="239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o the write data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put of Register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77560" y="4319640"/>
            <a:ext cx="3562560" cy="723600"/>
            <a:chOff x="277560" y="4319640"/>
            <a:chExt cx="3562560" cy="723600"/>
          </a:xfrm>
        </p:grpSpPr>
        <p:sp>
          <p:nvSpPr>
            <p:cNvPr id="517" name=""/>
            <p:cNvSpPr/>
            <p:nvPr/>
          </p:nvSpPr>
          <p:spPr>
            <a:xfrm>
              <a:off x="2325600" y="4319640"/>
              <a:ext cx="15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7560" y="4400640"/>
              <a:ext cx="255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om the read data 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utput of Register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DDC-72AC-4B12-9AF1-336FA0B07E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CSr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908440" y="2260080"/>
            <a:ext cx="4386240" cy="987840"/>
            <a:chOff x="2908440" y="2260080"/>
            <a:chExt cx="4386240" cy="987840"/>
          </a:xfrm>
        </p:grpSpPr>
        <p:sp>
          <p:nvSpPr>
            <p:cNvPr id="521" name=""/>
            <p:cNvSpPr/>
            <p:nvPr/>
          </p:nvSpPr>
          <p:spPr>
            <a:xfrm>
              <a:off x="6854760" y="32479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854760" y="2260080"/>
              <a:ext cx="0" cy="9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08440" y="2260440"/>
              <a:ext cx="394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86520" y="1450800"/>
            <a:ext cx="496080" cy="1208160"/>
            <a:chOff x="686520" y="1450800"/>
            <a:chExt cx="496080" cy="1208160"/>
          </a:xfrm>
        </p:grpSpPr>
        <p:sp>
          <p:nvSpPr>
            <p:cNvPr id="525" name=""/>
            <p:cNvSpPr/>
            <p:nvPr/>
          </p:nvSpPr>
          <p:spPr>
            <a:xfrm>
              <a:off x="700200" y="1450800"/>
              <a:ext cx="453960" cy="120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6520" y="1886040"/>
              <a:ext cx="49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04640" y="1203120"/>
            <a:ext cx="8089920" cy="2414880"/>
            <a:chOff x="404640" y="1203120"/>
            <a:chExt cx="8089920" cy="2414880"/>
          </a:xfrm>
        </p:grpSpPr>
        <p:sp>
          <p:nvSpPr>
            <p:cNvPr id="528" name=""/>
            <p:cNvSpPr/>
            <p:nvPr/>
          </p:nvSpPr>
          <p:spPr>
            <a:xfrm>
              <a:off x="404640" y="202392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04640" y="1203120"/>
              <a:ext cx="0" cy="80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4640" y="1203480"/>
              <a:ext cx="808992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58200" y="1217520"/>
              <a:ext cx="0" cy="240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280280" y="2906640"/>
            <a:ext cx="1177560" cy="1363680"/>
            <a:chOff x="7280280" y="2906640"/>
            <a:chExt cx="1177560" cy="1363680"/>
          </a:xfrm>
        </p:grpSpPr>
        <p:sp>
          <p:nvSpPr>
            <p:cNvPr id="533" name=""/>
            <p:cNvSpPr/>
            <p:nvPr/>
          </p:nvSpPr>
          <p:spPr>
            <a:xfrm rot="16200000">
              <a:off x="6846840" y="3352680"/>
              <a:ext cx="1363680" cy="471600"/>
            </a:xfrm>
            <a:custGeom>
              <a:avLst/>
              <a:gdLst>
                <a:gd name="textAreaLeft" fmla="*/ 299880 w 1363680"/>
                <a:gd name="textAreaRight" fmla="*/ 1063800 w 1363680"/>
                <a:gd name="textAreaTop" fmla="*/ 103680 h 471600"/>
                <a:gd name="textAreaBottom" fmla="*/ 367920 h 4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80280" y="3119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96120" y="37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7764120" y="3618000"/>
              <a:ext cx="69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0480" y="2260440"/>
            <a:ext cx="7218360" cy="4013280"/>
            <a:chOff x="60480" y="2260440"/>
            <a:chExt cx="7218360" cy="4013280"/>
          </a:xfrm>
        </p:grpSpPr>
        <p:sp>
          <p:nvSpPr>
            <p:cNvPr id="538" name=""/>
            <p:cNvSpPr/>
            <p:nvPr/>
          </p:nvSpPr>
          <p:spPr>
            <a:xfrm flipV="1">
              <a:off x="3592440" y="5524200"/>
              <a:ext cx="11289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60480" y="2260440"/>
              <a:ext cx="7218360" cy="4013280"/>
              <a:chOff x="60480" y="2260440"/>
              <a:chExt cx="7218360" cy="4013280"/>
            </a:xfrm>
          </p:grpSpPr>
          <p:sp>
            <p:nvSpPr>
              <p:cNvPr id="540" name=""/>
              <p:cNvSpPr/>
              <p:nvPr/>
            </p:nvSpPr>
            <p:spPr>
              <a:xfrm>
                <a:off x="4721400" y="2260440"/>
                <a:ext cx="0" cy="105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60480" y="3036600"/>
                <a:ext cx="7218360" cy="3237120"/>
                <a:chOff x="60480" y="3036600"/>
                <a:chExt cx="7218360" cy="3237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60480" y="5234040"/>
                  <a:ext cx="1790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mic Sans MS"/>
                    </a:rPr>
                    <a:t>Imm: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mic Sans MS"/>
                    </a:rPr>
                    <a:t>Ins[15-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685800" y="3036600"/>
                  <a:ext cx="6593040" cy="3237120"/>
                  <a:chOff x="685800" y="3036600"/>
                  <a:chExt cx="6593040" cy="323712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4925160" y="3419640"/>
                    <a:ext cx="1741320" cy="974880"/>
                  </a:xfrm>
                  <a:prstGeom prst="flowChartManualOperation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 rot="16200000">
                    <a:off x="5263920" y="3696480"/>
                    <a:ext cx="476280" cy="387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5366160" y="4071960"/>
                    <a:ext cx="657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Comic Sans MS"/>
                      </a:rPr>
                      <a:t>Ad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283440" y="3911760"/>
                    <a:ext cx="995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721400" y="3319560"/>
                    <a:ext cx="587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721400" y="4468680"/>
                    <a:ext cx="587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721400" y="4468680"/>
                    <a:ext cx="0" cy="1060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708280" y="4788000"/>
                    <a:ext cx="880920" cy="1471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792880" y="5140440"/>
                    <a:ext cx="668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Shift</a:t>
                    </a:r>
                    <a:br>
                      <a:rPr sz="1800"/>
                    </a:b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ef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by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85800" y="5486400"/>
                    <a:ext cx="708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3949200" y="5442120"/>
                    <a:ext cx="101880" cy="139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904560" y="5610240"/>
                    <a:ext cx="442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031400" y="5398920"/>
                    <a:ext cx="101880" cy="140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409760" y="4802040"/>
                    <a:ext cx="880920" cy="1471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381680" y="5149800"/>
                    <a:ext cx="924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sign</a:t>
                    </a:r>
                    <a:br>
                      <a:rPr sz="1800"/>
                    </a:b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exten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5080" y="5524560"/>
                    <a:ext cx="401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60" name=""/>
          <p:cNvGrpSpPr/>
          <p:nvPr/>
        </p:nvGrpSpPr>
        <p:grpSpPr>
          <a:xfrm>
            <a:off x="1154160" y="1679040"/>
            <a:ext cx="1754280" cy="1157400"/>
            <a:chOff x="1154160" y="1679040"/>
            <a:chExt cx="1754280" cy="1157400"/>
          </a:xfrm>
        </p:grpSpPr>
        <p:sp>
          <p:nvSpPr>
            <p:cNvPr id="561" name=""/>
            <p:cNvSpPr/>
            <p:nvPr/>
          </p:nvSpPr>
          <p:spPr>
            <a:xfrm rot="16200000">
              <a:off x="1946880" y="1874880"/>
              <a:ext cx="1157400" cy="7653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6200000">
              <a:off x="2022840" y="2158920"/>
              <a:ext cx="406440" cy="16668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48480" y="232560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54160" y="1886040"/>
              <a:ext cx="9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22320" y="2658960"/>
              <a:ext cx="33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20280" y="2460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308560" y="4054320"/>
            <a:ext cx="3448080" cy="2170800"/>
            <a:chOff x="5308560" y="4054320"/>
            <a:chExt cx="3448080" cy="2170800"/>
          </a:xfrm>
        </p:grpSpPr>
        <p:sp>
          <p:nvSpPr>
            <p:cNvPr id="568" name=""/>
            <p:cNvSpPr/>
            <p:nvPr/>
          </p:nvSpPr>
          <p:spPr>
            <a:xfrm flipV="1">
              <a:off x="7593120" y="4054320"/>
              <a:ext cx="0" cy="166536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93120" y="4270320"/>
              <a:ext cx="11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PcSr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73960" y="5430960"/>
              <a:ext cx="704880" cy="5601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24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24" y="0"/>
                  </a:lnTo>
                  <a:cubicBezTo>
                    <a:pt x="32" y="0"/>
                    <a:pt x="39" y="6"/>
                    <a:pt x="39" y="15"/>
                  </a:cubicBezTo>
                  <a:cubicBezTo>
                    <a:pt x="39" y="23"/>
                    <a:pt x="32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29280" y="5553000"/>
              <a:ext cx="544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29280" y="5862600"/>
              <a:ext cx="5446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89640" y="518940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278480" y="5719680"/>
              <a:ext cx="3142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08560" y="5521320"/>
              <a:ext cx="10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bra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1F2-43CF-4D0B-830F-B5455D048B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&amp; Contro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577" name="f0519" descr=""/>
          <p:cNvPicPr/>
          <p:nvPr/>
        </p:nvPicPr>
        <p:blipFill>
          <a:blip r:embed="rId1"/>
          <a:stretch/>
        </p:blipFill>
        <p:spPr>
          <a:xfrm>
            <a:off x="685800" y="1139760"/>
            <a:ext cx="777240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A3B-2722-4A4A-BE77-6285E6A2D2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ion of the Datapa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34960" y="3255840"/>
            <a:ext cx="8221680" cy="623880"/>
            <a:chOff x="534960" y="3255840"/>
            <a:chExt cx="8221680" cy="623880"/>
          </a:xfrm>
        </p:grpSpPr>
        <p:sp>
          <p:nvSpPr>
            <p:cNvPr id="580" name=""/>
            <p:cNvSpPr/>
            <p:nvPr/>
          </p:nvSpPr>
          <p:spPr>
            <a:xfrm>
              <a:off x="8064360" y="3255840"/>
              <a:ext cx="692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88280" y="3255840"/>
              <a:ext cx="6760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24640" y="3255840"/>
              <a:ext cx="863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30920" y="3255840"/>
              <a:ext cx="693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27480" y="3255840"/>
              <a:ext cx="7034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87760" y="3255840"/>
              <a:ext cx="639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75240" y="3255840"/>
              <a:ext cx="8125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82800" y="3255840"/>
              <a:ext cx="8924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12960" y="3255840"/>
              <a:ext cx="9698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4960" y="3255840"/>
              <a:ext cx="12780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e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34960" y="2674800"/>
            <a:ext cx="8221680" cy="581040"/>
            <a:chOff x="534960" y="2674800"/>
            <a:chExt cx="8221680" cy="581040"/>
          </a:xfrm>
        </p:grpSpPr>
        <p:sp>
          <p:nvSpPr>
            <p:cNvPr id="591" name=""/>
            <p:cNvSpPr/>
            <p:nvPr/>
          </p:nvSpPr>
          <p:spPr>
            <a:xfrm>
              <a:off x="8064360" y="2674800"/>
              <a:ext cx="6922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8280" y="2674800"/>
              <a:ext cx="6760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24640" y="2674800"/>
              <a:ext cx="8636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30920" y="2674800"/>
              <a:ext cx="6937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27480" y="2674800"/>
              <a:ext cx="703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87760" y="2674800"/>
              <a:ext cx="6397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75240" y="2674800"/>
              <a:ext cx="8125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82800" y="2674800"/>
              <a:ext cx="892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12960" y="2674800"/>
              <a:ext cx="9698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4960" y="2674800"/>
              <a:ext cx="12780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8064360" y="2152800"/>
            <a:ext cx="69228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88280" y="2152800"/>
            <a:ext cx="67608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24640" y="2152800"/>
            <a:ext cx="8636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830920" y="2152800"/>
            <a:ext cx="6937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27480" y="2152800"/>
            <a:ext cx="7034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87760" y="2152800"/>
            <a:ext cx="6397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75240" y="2152800"/>
            <a:ext cx="8125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82800" y="2152800"/>
            <a:ext cx="8924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2960" y="2152800"/>
            <a:ext cx="9698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4960" y="2152800"/>
            <a:ext cx="1278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064360" y="1655640"/>
            <a:ext cx="692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88280" y="1655640"/>
            <a:ext cx="676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24640" y="1655640"/>
            <a:ext cx="863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830920" y="1655640"/>
            <a:ext cx="693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27480" y="1655640"/>
            <a:ext cx="703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87760" y="1655640"/>
            <a:ext cx="63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75240" y="1655640"/>
            <a:ext cx="812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82800" y="1655640"/>
            <a:ext cx="892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812960" y="1655640"/>
            <a:ext cx="9698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4960" y="1655640"/>
            <a:ext cx="1278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-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64360" y="1062000"/>
            <a:ext cx="69228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LU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p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88280" y="1062000"/>
            <a:ext cx="67608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LU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p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524640" y="1062000"/>
            <a:ext cx="86364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30920" y="1062000"/>
            <a:ext cx="69372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r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27480" y="1062000"/>
            <a:ext cx="70344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87760" y="1062000"/>
            <a:ext cx="63972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egWr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75240" y="1062000"/>
            <a:ext cx="81252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to-Re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82800" y="1062000"/>
            <a:ext cx="89244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LUSr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12960" y="1062000"/>
            <a:ext cx="96984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egD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4960" y="1062000"/>
            <a:ext cx="1278000" cy="59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4960" y="1062000"/>
            <a:ext cx="8221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960" y="1655640"/>
            <a:ext cx="822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4960" y="2152800"/>
            <a:ext cx="822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4960" y="2674800"/>
            <a:ext cx="822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4960" y="3255840"/>
            <a:ext cx="822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4960" y="3879720"/>
            <a:ext cx="8221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960" y="1062000"/>
            <a:ext cx="0" cy="2817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1296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8280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7524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8776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2748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3092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2464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8828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064360" y="1062000"/>
            <a:ext cx="0" cy="28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756640" y="1062000"/>
            <a:ext cx="0" cy="2817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840" y="4259160"/>
            <a:ext cx="816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ample Flow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q $s0, $s1,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struction is fetched from memory and PC is incr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two registe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ract one from the other, calculate the branch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zero signal to determine which of the addresses is to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for fetching the next instruc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811-DF5D-466B-A829-B82722403D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ngle Cycle Datapa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50" name="f0610" descr=""/>
          <p:cNvPicPr/>
          <p:nvPr/>
        </p:nvPicPr>
        <p:blipFill>
          <a:blip r:embed="rId1"/>
          <a:stretch/>
        </p:blipFill>
        <p:spPr>
          <a:xfrm>
            <a:off x="304920" y="1346040"/>
            <a:ext cx="8381880" cy="48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292-7A49-4C93-B9AF-201512FDE2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instructions classically take five ste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tch instruction from memory 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registers while decoding the instruction 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cute the operation or calculate an address 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an operand in memory 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result into a register 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Stages of an Instru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094-41F2-4571-92D0-68CC79D64E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IPS32 Registe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81040"/>
          <a:ext cx="8458200" cy="4655880"/>
        </p:xfrm>
        <a:graphic>
          <a:graphicData uri="http://schemas.openxmlformats.org/drawingml/2006/table">
            <a:tbl>
              <a:tblPr/>
              <a:tblGrid>
                <a:gridCol w="1676520"/>
                <a:gridCol w="1600200"/>
                <a:gridCol w="3200400"/>
                <a:gridCol w="19810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gister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served 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onstant value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v0-$v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ues for results and expression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a0-$a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t0-$t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or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s0-$s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t8-$t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empor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g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lobal 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ck 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me 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816-792C-43BB-8EE7-C04F8276E9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es of Different Instruction Step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85800" y="3975120"/>
            <a:ext cx="7939080" cy="365040"/>
            <a:chOff x="685800" y="3975120"/>
            <a:chExt cx="7939080" cy="365040"/>
          </a:xfrm>
        </p:grpSpPr>
        <p:sp>
          <p:nvSpPr>
            <p:cNvPr id="655" name=""/>
            <p:cNvSpPr/>
            <p:nvPr/>
          </p:nvSpPr>
          <p:spPr>
            <a:xfrm>
              <a:off x="7053120" y="3975120"/>
              <a:ext cx="1571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07240" y="3975120"/>
              <a:ext cx="1145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24440" y="3975120"/>
              <a:ext cx="982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53040" y="3975120"/>
              <a:ext cx="671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49640" y="3975120"/>
              <a:ext cx="1103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78080" y="3975120"/>
              <a:ext cx="871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800" y="3975120"/>
              <a:ext cx="1592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85800" y="3610080"/>
            <a:ext cx="7939080" cy="365040"/>
            <a:chOff x="685800" y="3610080"/>
            <a:chExt cx="7939080" cy="365040"/>
          </a:xfrm>
        </p:grpSpPr>
        <p:sp>
          <p:nvSpPr>
            <p:cNvPr id="663" name=""/>
            <p:cNvSpPr/>
            <p:nvPr/>
          </p:nvSpPr>
          <p:spPr>
            <a:xfrm>
              <a:off x="7053120" y="3610080"/>
              <a:ext cx="1571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07240" y="3610080"/>
              <a:ext cx="1145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924440" y="3610080"/>
              <a:ext cx="982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3040" y="3610080"/>
              <a:ext cx="671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49640" y="3610080"/>
              <a:ext cx="1103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78080" y="3610080"/>
              <a:ext cx="871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3610080"/>
              <a:ext cx="1592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-for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85800" y="3244680"/>
            <a:ext cx="7939080" cy="365400"/>
            <a:chOff x="685800" y="3244680"/>
            <a:chExt cx="7939080" cy="365400"/>
          </a:xfrm>
        </p:grpSpPr>
        <p:sp>
          <p:nvSpPr>
            <p:cNvPr id="671" name=""/>
            <p:cNvSpPr/>
            <p:nvPr/>
          </p:nvSpPr>
          <p:spPr>
            <a:xfrm>
              <a:off x="7053120" y="3244680"/>
              <a:ext cx="1571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07240" y="3244680"/>
              <a:ext cx="1145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24440" y="3244680"/>
              <a:ext cx="982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53040" y="3244680"/>
              <a:ext cx="671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49640" y="3244680"/>
              <a:ext cx="1103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78080" y="3244680"/>
              <a:ext cx="871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800" y="3244680"/>
              <a:ext cx="159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78080" y="2879640"/>
            <a:ext cx="4775040" cy="365040"/>
            <a:chOff x="2278080" y="2879640"/>
            <a:chExt cx="4775040" cy="365040"/>
          </a:xfrm>
        </p:grpSpPr>
        <p:sp>
          <p:nvSpPr>
            <p:cNvPr id="679" name=""/>
            <p:cNvSpPr/>
            <p:nvPr/>
          </p:nvSpPr>
          <p:spPr>
            <a:xfrm>
              <a:off x="5907240" y="2879640"/>
              <a:ext cx="1145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24440" y="2879640"/>
              <a:ext cx="982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3040" y="2879640"/>
              <a:ext cx="671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49640" y="2879640"/>
              <a:ext cx="1103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78080" y="2879640"/>
              <a:ext cx="871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2879640"/>
            <a:ext cx="7939080" cy="365040"/>
            <a:chOff x="685800" y="2879640"/>
            <a:chExt cx="7939080" cy="365040"/>
          </a:xfrm>
        </p:grpSpPr>
        <p:sp>
          <p:nvSpPr>
            <p:cNvPr id="685" name=""/>
            <p:cNvSpPr/>
            <p:nvPr/>
          </p:nvSpPr>
          <p:spPr>
            <a:xfrm>
              <a:off x="7053120" y="2879640"/>
              <a:ext cx="1571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5800" y="2879640"/>
              <a:ext cx="1592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053120" y="2184480"/>
            <a:ext cx="157176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t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07240" y="2184480"/>
            <a:ext cx="114588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gister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24440" y="2184480"/>
            <a:ext cx="98280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ta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53040" y="2184480"/>
            <a:ext cx="67140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49640" y="2184480"/>
            <a:ext cx="110340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gister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78080" y="2184480"/>
            <a:ext cx="87156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st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2184480"/>
            <a:ext cx="1592280" cy="695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struction 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2184480"/>
            <a:ext cx="7939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2879640"/>
            <a:ext cx="793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244680"/>
            <a:ext cx="793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610080"/>
            <a:ext cx="793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3975120"/>
            <a:ext cx="793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4340160"/>
            <a:ext cx="7939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184480"/>
            <a:ext cx="0" cy="2155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78080" y="2184480"/>
            <a:ext cx="0" cy="21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49640" y="2184480"/>
            <a:ext cx="0" cy="21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53040" y="2184480"/>
            <a:ext cx="0" cy="21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24440" y="2184480"/>
            <a:ext cx="0" cy="21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07240" y="2184480"/>
            <a:ext cx="0" cy="21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53120" y="2184480"/>
            <a:ext cx="0" cy="21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624880" y="2184480"/>
            <a:ext cx="0" cy="21556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4200" y="4805280"/>
            <a:ext cx="67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ck period that can be used in single-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will be 8 ns for all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B13-3747-44C4-973A-4F25A1539B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ipelined vs. Nonpipelined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2759040" y="1198440"/>
            <a:ext cx="6195600" cy="636840"/>
            <a:chOff x="2759040" y="1198440"/>
            <a:chExt cx="6195600" cy="636840"/>
          </a:xfrm>
        </p:grpSpPr>
        <p:sp>
          <p:nvSpPr>
            <p:cNvPr id="711" name=""/>
            <p:cNvSpPr/>
            <p:nvPr/>
          </p:nvSpPr>
          <p:spPr>
            <a:xfrm>
              <a:off x="2759040" y="1689120"/>
              <a:ext cx="571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38640" y="15717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22560" y="15526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89560" y="15526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57640" y="15699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24640" y="15732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91280" y="158112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96080" y="15717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43640" y="15652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10640" y="15746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31400" y="128592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90680" y="1198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74960" y="1198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41600" y="1198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10040" y="121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19800" y="12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86440" y="1198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66040" y="12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39160" y="1235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05800" y="1214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63600" y="1235160"/>
            <a:ext cx="1643040" cy="916920"/>
            <a:chOff x="363600" y="1235160"/>
            <a:chExt cx="1643040" cy="916920"/>
          </a:xfrm>
        </p:grpSpPr>
        <p:sp>
          <p:nvSpPr>
            <p:cNvPr id="732" name=""/>
            <p:cNvSpPr/>
            <p:nvPr/>
          </p:nvSpPr>
          <p:spPr>
            <a:xfrm>
              <a:off x="685800" y="123516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gra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ecu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3600" y="1285920"/>
              <a:ext cx="0" cy="865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759040" y="2151000"/>
            <a:ext cx="584280" cy="461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38640" y="2151000"/>
            <a:ext cx="295200" cy="461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619440" y="2151000"/>
            <a:ext cx="584280" cy="461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91120" y="2151000"/>
            <a:ext cx="583920" cy="461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62440" y="2151000"/>
            <a:ext cx="295200" cy="461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059440" y="2612880"/>
            <a:ext cx="584280" cy="462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38680" y="2612880"/>
            <a:ext cx="295560" cy="46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19840" y="2612880"/>
            <a:ext cx="584280" cy="462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91160" y="2612880"/>
            <a:ext cx="584280" cy="462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62840" y="2612880"/>
            <a:ext cx="295200" cy="46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56600" y="3075120"/>
            <a:ext cx="583920" cy="461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16920" y="3327480"/>
            <a:ext cx="341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360" y="22478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w $t1, 100($s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4520" y="26924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w $t2, 200($s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39840" y="3160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w $t2, 300($s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25520" y="4716360"/>
            <a:ext cx="2379960" cy="1281240"/>
            <a:chOff x="425520" y="4716360"/>
            <a:chExt cx="2379960" cy="1281240"/>
          </a:xfrm>
        </p:grpSpPr>
        <p:sp>
          <p:nvSpPr>
            <p:cNvPr id="750" name=""/>
            <p:cNvSpPr/>
            <p:nvPr/>
          </p:nvSpPr>
          <p:spPr>
            <a:xfrm>
              <a:off x="425520" y="4716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lw $t1, 100($s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0200" y="51609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lw $t2, 200($s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5520" y="5629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lw $t2, 300($s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63600" y="3679920"/>
            <a:ext cx="8591040" cy="1447560"/>
            <a:chOff x="363600" y="3679920"/>
            <a:chExt cx="8591040" cy="1447560"/>
          </a:xfrm>
        </p:grpSpPr>
        <p:sp>
          <p:nvSpPr>
            <p:cNvPr id="754" name=""/>
            <p:cNvSpPr/>
            <p:nvPr/>
          </p:nvSpPr>
          <p:spPr>
            <a:xfrm>
              <a:off x="2759040" y="4262400"/>
              <a:ext cx="571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38640" y="41450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22560" y="41259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89560" y="41259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57640" y="41432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24640" y="41464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91280" y="41544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96080" y="41450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43640" y="41385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10640" y="41482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31400" y="385920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90680" y="377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74960" y="377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41600" y="3772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10040" y="3787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19800" y="3792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86440" y="3772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66040" y="3792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39160" y="3808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705800" y="3787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63600" y="3679920"/>
              <a:ext cx="1857240" cy="1447560"/>
              <a:chOff x="363600" y="3679920"/>
              <a:chExt cx="1857240" cy="1447560"/>
            </a:xfrm>
          </p:grpSpPr>
          <p:sp>
            <p:nvSpPr>
              <p:cNvPr id="775" name=""/>
              <p:cNvSpPr/>
              <p:nvPr/>
            </p:nvSpPr>
            <p:spPr>
              <a:xfrm>
                <a:off x="363600" y="4262400"/>
                <a:ext cx="0" cy="865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8080" y="3679920"/>
                <a:ext cx="1382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rogram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xecutio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r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7" name=""/>
          <p:cNvSpPr/>
          <p:nvPr/>
        </p:nvSpPr>
        <p:spPr>
          <a:xfrm>
            <a:off x="6794640" y="1282680"/>
            <a:ext cx="2880" cy="473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46440" y="4635360"/>
            <a:ext cx="584280" cy="462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11760" y="4635360"/>
            <a:ext cx="583920" cy="462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83080" y="4635360"/>
            <a:ext cx="584280" cy="462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324240" y="4635360"/>
            <a:ext cx="601560" cy="461880"/>
            <a:chOff x="3324240" y="4635360"/>
            <a:chExt cx="601560" cy="461880"/>
          </a:xfrm>
        </p:grpSpPr>
        <p:sp>
          <p:nvSpPr>
            <p:cNvPr id="782" name=""/>
            <p:cNvSpPr/>
            <p:nvPr/>
          </p:nvSpPr>
          <p:spPr>
            <a:xfrm>
              <a:off x="3630600" y="4635360"/>
              <a:ext cx="295200" cy="461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24240" y="4635360"/>
              <a:ext cx="2952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054760" y="4635360"/>
            <a:ext cx="583920" cy="462240"/>
            <a:chOff x="5054760" y="4635360"/>
            <a:chExt cx="583920" cy="462240"/>
          </a:xfrm>
        </p:grpSpPr>
        <p:sp>
          <p:nvSpPr>
            <p:cNvPr id="785" name=""/>
            <p:cNvSpPr/>
            <p:nvPr/>
          </p:nvSpPr>
          <p:spPr>
            <a:xfrm>
              <a:off x="5054760" y="4635360"/>
              <a:ext cx="295200" cy="46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49960" y="4635360"/>
              <a:ext cx="28872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029200" y="5559480"/>
            <a:ext cx="614520" cy="461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24640" y="5557680"/>
            <a:ext cx="583920" cy="462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427640" y="5559480"/>
            <a:ext cx="601560" cy="461880"/>
            <a:chOff x="4427640" y="5559480"/>
            <a:chExt cx="601560" cy="461880"/>
          </a:xfrm>
        </p:grpSpPr>
        <p:sp>
          <p:nvSpPr>
            <p:cNvPr id="790" name=""/>
            <p:cNvSpPr/>
            <p:nvPr/>
          </p:nvSpPr>
          <p:spPr>
            <a:xfrm>
              <a:off x="4734000" y="5559480"/>
              <a:ext cx="295200" cy="461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27640" y="5559480"/>
              <a:ext cx="2952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897360" y="5559480"/>
            <a:ext cx="584280" cy="461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213600" y="5559480"/>
            <a:ext cx="583920" cy="461880"/>
            <a:chOff x="6213600" y="5559480"/>
            <a:chExt cx="583920" cy="461880"/>
          </a:xfrm>
        </p:grpSpPr>
        <p:sp>
          <p:nvSpPr>
            <p:cNvPr id="794" name=""/>
            <p:cNvSpPr/>
            <p:nvPr/>
          </p:nvSpPr>
          <p:spPr>
            <a:xfrm>
              <a:off x="6213600" y="5559480"/>
              <a:ext cx="295200" cy="461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08800" y="5560920"/>
              <a:ext cx="28872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4457880" y="5097600"/>
            <a:ext cx="583920" cy="461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54760" y="5097600"/>
            <a:ext cx="583920" cy="461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889440" y="5097600"/>
            <a:ext cx="601560" cy="461880"/>
            <a:chOff x="3889440" y="5097600"/>
            <a:chExt cx="601560" cy="461880"/>
          </a:xfrm>
        </p:grpSpPr>
        <p:sp>
          <p:nvSpPr>
            <p:cNvPr id="799" name=""/>
            <p:cNvSpPr/>
            <p:nvPr/>
          </p:nvSpPr>
          <p:spPr>
            <a:xfrm>
              <a:off x="4195800" y="5097600"/>
              <a:ext cx="295200" cy="461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89440" y="5097600"/>
              <a:ext cx="2952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3330720" y="5097600"/>
            <a:ext cx="583920" cy="461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5638680" y="5095800"/>
            <a:ext cx="584280" cy="463680"/>
            <a:chOff x="5638680" y="5095800"/>
            <a:chExt cx="584280" cy="463680"/>
          </a:xfrm>
        </p:grpSpPr>
        <p:sp>
          <p:nvSpPr>
            <p:cNvPr id="803" name=""/>
            <p:cNvSpPr/>
            <p:nvPr/>
          </p:nvSpPr>
          <p:spPr>
            <a:xfrm>
              <a:off x="5638680" y="5097600"/>
              <a:ext cx="295560" cy="461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34240" y="5095800"/>
              <a:ext cx="28872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880-5F1D-4664-9FA2-1DA48451B0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ign of Pipelined Datapa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eak the datapath into smaller seg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s of datapath can be shared by i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registers between two consecutive segments of the datapath to hold the intermediate resul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ipeline regis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transfer between the stages happens through the pipeline regis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A77-361E-4C05-8347-C822DB727F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ipelined Datapa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99960" y="976320"/>
            <a:ext cx="8057880" cy="5249160"/>
            <a:chOff x="399960" y="976320"/>
            <a:chExt cx="8057880" cy="5249160"/>
          </a:xfrm>
        </p:grpSpPr>
        <p:pic>
          <p:nvPicPr>
            <p:cNvPr id="809" name="" descr=""/>
            <p:cNvPicPr/>
            <p:nvPr/>
          </p:nvPicPr>
          <p:blipFill>
            <a:blip r:embed="rId1"/>
            <a:stretch/>
          </p:blipFill>
          <p:spPr>
            <a:xfrm>
              <a:off x="399960" y="976320"/>
              <a:ext cx="8057880" cy="174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2"/>
            <a:stretch/>
          </p:blipFill>
          <p:spPr>
            <a:xfrm>
              <a:off x="399960" y="2725200"/>
              <a:ext cx="8057880" cy="17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3"/>
            <a:stretch/>
          </p:blipFill>
          <p:spPr>
            <a:xfrm>
              <a:off x="399960" y="4476600"/>
              <a:ext cx="8057880" cy="174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263-D3D1-4487-9B4E-DAFAA838E6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IF of </a:t>
            </a:r>
            <a:r>
              <a:rPr b="0" lang="en-US" sz="4400" spc="-1" strike="noStrike">
                <a:solidFill>
                  <a:srgbClr val="ff3300"/>
                </a:solidFill>
                <a:latin typeface="Courier New"/>
              </a:rPr>
              <a:t>l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3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57200" y="4317840"/>
            <a:ext cx="559080" cy="1030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27960" y="2924280"/>
            <a:ext cx="8604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434340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237360" y="59245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6591240" y="546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91240" y="54673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DBD-8080-42B1-8071-CAF9D5F359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ID of </a:t>
            </a:r>
            <a:r>
              <a:rPr b="0" lang="en-US" sz="4400" spc="-1" strike="noStrike">
                <a:solidFill>
                  <a:srgbClr val="ff3300"/>
                </a:solidFill>
                <a:latin typeface="Courier New"/>
              </a:rPr>
              <a:t>l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08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373560" y="4327560"/>
            <a:ext cx="558720" cy="1030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224080" y="2924280"/>
            <a:ext cx="8568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34340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237360" y="59245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591240" y="546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591240" y="54673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108320" y="2933640"/>
            <a:ext cx="8568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DE0-C855-49DD-B941-EFA37BB953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EX of </a:t>
            </a:r>
            <a:r>
              <a:rPr b="0" lang="en-US" sz="4400" spc="-1" strike="noStrike">
                <a:solidFill>
                  <a:srgbClr val="ff3300"/>
                </a:solidFill>
                <a:latin typeface="Courier New"/>
              </a:rPr>
              <a:t>l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4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343400" y="557172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343400" y="4035600"/>
            <a:ext cx="0" cy="153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237360" y="59245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591240" y="546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591240" y="54673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4208400" y="2925720"/>
            <a:ext cx="8568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066000" y="2919240"/>
            <a:ext cx="85680" cy="3181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198-6667-4AF8-BB4F-E5A8818739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MEM of </a:t>
            </a:r>
            <a:r>
              <a:rPr b="0" lang="en-US" sz="4400" spc="-1" strike="noStrike">
                <a:solidFill>
                  <a:srgbClr val="ff3300"/>
                </a:solidFill>
                <a:latin typeface="Courier New"/>
              </a:rPr>
              <a:t>l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99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434340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237360" y="59245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6591240" y="546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91240" y="54673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6151680" y="2911320"/>
            <a:ext cx="85680" cy="3181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32760" y="4559400"/>
            <a:ext cx="558720" cy="1030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62840" y="2935440"/>
            <a:ext cx="8568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C51-D27C-4BBC-8E97-95D8430628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WB of </a:t>
            </a:r>
            <a:r>
              <a:rPr b="0" lang="en-US" sz="4400" spc="-1" strike="noStrike">
                <a:solidFill>
                  <a:srgbClr val="ff3300"/>
                </a:solidFill>
                <a:latin typeface="Courier New"/>
              </a:rPr>
              <a:t>l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95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34340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237360" y="59245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591240" y="546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591240" y="54673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870280" y="4327560"/>
            <a:ext cx="558720" cy="1030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8048520" y="2935440"/>
            <a:ext cx="8568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FCE-2BEE-4FA1-8CC4-622D55CEE9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rrected Datapa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90" name=""/>
          <p:cNvSpPr/>
          <p:nvPr/>
        </p:nvSpPr>
        <p:spPr>
          <a:xfrm>
            <a:off x="2868480" y="41990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52480" y="418932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357200" y="279864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52480" y="446724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2138400" y="279720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92040" y="418932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072040" y="422748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4107600" y="280512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6066000" y="279252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27680" y="4430880"/>
            <a:ext cx="1063800" cy="10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7962840" y="280512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6520" y="315288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436400" y="299232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255640" y="33735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191200" y="456408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627440" y="481320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47040" y="433080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600200" y="131760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103400" y="36115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68040" y="332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849320" y="33256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916280" y="26906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1239480" y="269064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1239840" y="1506240"/>
            <a:ext cx="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239840" y="15066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78640" y="3624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237360" y="361152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34960" y="231768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07240" y="231768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434960" y="195264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434960" y="195264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849320" y="17589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128680" y="1254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108000" y="125424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22400" y="1239840"/>
            <a:ext cx="0" cy="32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22400" y="446724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5800" y="448308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743040" y="302580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43040" y="30258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916280" y="471636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09760" y="471636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451240" y="43308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451240" y="433080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451240" y="458784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603520" y="50832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603520" y="5083200"/>
            <a:ext cx="0" cy="12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29000" y="53388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51240" y="561672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762360" y="561672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603520" y="62913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8826480" y="4716000"/>
            <a:ext cx="0" cy="157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8696160" y="4716360"/>
            <a:ext cx="130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00400" y="332568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280040" y="332568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876920" y="522936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280040" y="44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932280" y="446724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932280" y="50212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280040" y="502128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280040" y="561672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343400" y="43308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343400" y="544356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543560" y="364644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876920" y="39067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343400" y="390672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343400" y="390672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770440" y="481320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444920" y="502128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44920" y="579600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237360" y="481320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237360" y="579600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591240" y="533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591240" y="53388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400800" y="481320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400800" y="564192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791480" y="459756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8134200" y="459756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134200" y="56419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8242200" y="502128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8242200" y="502128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770440" y="47163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941120" y="2486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900600" y="24861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772600" y="245916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05720" y="24591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954160" y="557208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33640" y="557208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867400" y="53211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718440" y="522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27680" y="455940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954160" y="460692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2371680" y="4927680"/>
            <a:ext cx="6086520" cy="1231920"/>
            <a:chOff x="2371680" y="4927680"/>
            <a:chExt cx="6086520" cy="1231920"/>
          </a:xfrm>
        </p:grpSpPr>
        <p:sp>
          <p:nvSpPr>
            <p:cNvPr id="1382" name=""/>
            <p:cNvSpPr/>
            <p:nvPr/>
          </p:nvSpPr>
          <p:spPr>
            <a:xfrm>
              <a:off x="2371680" y="4927680"/>
              <a:ext cx="496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1680" y="4927680"/>
              <a:ext cx="0" cy="1231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1680" y="6159600"/>
              <a:ext cx="6075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8447040" y="5881680"/>
              <a:ext cx="0" cy="27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8134200" y="5881680"/>
              <a:ext cx="32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2450880" y="5626080"/>
            <a:ext cx="1657080" cy="255600"/>
            <a:chOff x="2450880" y="5626080"/>
            <a:chExt cx="1657080" cy="255600"/>
          </a:xfrm>
        </p:grpSpPr>
        <p:sp>
          <p:nvSpPr>
            <p:cNvPr id="1388" name=""/>
            <p:cNvSpPr/>
            <p:nvPr/>
          </p:nvSpPr>
          <p:spPr>
            <a:xfrm flipH="1">
              <a:off x="2450880" y="5881680"/>
              <a:ext cx="1657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2451240" y="5626080"/>
              <a:ext cx="0" cy="25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280040" y="5881680"/>
            <a:ext cx="1785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237360" y="5881680"/>
            <a:ext cx="172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1D5-FD7C-4703-B592-A89A1427AC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struction Forma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instruction format typ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6880" y="2438280"/>
            <a:ext cx="6704640" cy="686520"/>
            <a:chOff x="686880" y="2438280"/>
            <a:chExt cx="6704640" cy="686520"/>
          </a:xfrm>
        </p:grpSpPr>
        <p:sp>
          <p:nvSpPr>
            <p:cNvPr id="50" name=""/>
            <p:cNvSpPr/>
            <p:nvPr/>
          </p:nvSpPr>
          <p:spPr>
            <a:xfrm>
              <a:off x="1905120" y="24541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24541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24541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48320" y="24541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24541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ha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24541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n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99800" y="2787480"/>
              <a:ext cx="52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 bits           5 bits      5 bits          5 bits        5 bits         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6880" y="243828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R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14600" y="3505320"/>
            <a:ext cx="6676920" cy="459720"/>
            <a:chOff x="714600" y="3505320"/>
            <a:chExt cx="6676920" cy="459720"/>
          </a:xfrm>
        </p:grpSpPr>
        <p:sp>
          <p:nvSpPr>
            <p:cNvPr id="59" name=""/>
            <p:cNvSpPr/>
            <p:nvPr/>
          </p:nvSpPr>
          <p:spPr>
            <a:xfrm>
              <a:off x="1905120" y="35863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19520" y="35863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33920" y="358632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3586320"/>
              <a:ext cx="27432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6-bit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600" y="350532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6520" y="4495680"/>
            <a:ext cx="6705000" cy="459720"/>
            <a:chOff x="686520" y="4495680"/>
            <a:chExt cx="6705000" cy="459720"/>
          </a:xfrm>
        </p:grpSpPr>
        <p:sp>
          <p:nvSpPr>
            <p:cNvPr id="65" name=""/>
            <p:cNvSpPr/>
            <p:nvPr/>
          </p:nvSpPr>
          <p:spPr>
            <a:xfrm>
              <a:off x="1905120" y="4576680"/>
              <a:ext cx="9144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520" y="4576680"/>
              <a:ext cx="45720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6-bit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6520" y="449568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J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ECC-A45B-4B27-9666-DA5A377F4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2: Store word, EX st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93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44920" y="5149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4343400" y="557172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237360" y="59245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591240" y="5467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591240" y="54673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0440" y="47973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4208400" y="2925720"/>
            <a:ext cx="8568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6066000" y="2919240"/>
            <a:ext cx="85680" cy="3181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4293720" y="5149800"/>
            <a:ext cx="15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343400" y="4459320"/>
            <a:ext cx="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F6C-5B69-421A-95E8-6CA0733A11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2: MEM of s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90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434340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237360" y="5924520"/>
            <a:ext cx="25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491160" y="5467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491160" y="5467320"/>
            <a:ext cx="23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6151680" y="2911320"/>
            <a:ext cx="85680" cy="3181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727680" y="4541760"/>
            <a:ext cx="559080" cy="1030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57C-B88B-4D98-851D-AF026644A6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2: WB of s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85" name=""/>
          <p:cNvSpPr/>
          <p:nvPr/>
        </p:nvSpPr>
        <p:spPr>
          <a:xfrm>
            <a:off x="2868480" y="432756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52480" y="431784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357200" y="29275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52480" y="4595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2127960" y="2924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2040" y="4317840"/>
            <a:ext cx="29376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954160" y="473544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072040" y="4356000"/>
            <a:ext cx="698400" cy="121608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107600" y="29336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066000" y="2921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727680" y="455940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7962840" y="29336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186520" y="3281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36400" y="3121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55640" y="350208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191200" y="46926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627440" y="4941720"/>
            <a:ext cx="249480" cy="828720"/>
          </a:xfrm>
          <a:custGeom>
            <a:avLst/>
            <a:gdLst>
              <a:gd name="textAreaLeft" fmla="*/ 11880 w 249480"/>
              <a:gd name="textAreaRight" fmla="*/ 237600 w 24948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678">
                <a:moveTo>
                  <a:pt x="3600" y="0"/>
                </a:moveTo>
                <a:arcTo wR="3600" hR="3600" stAng="16200000" swAng="-5400000"/>
                <a:lnTo>
                  <a:pt x="0" y="68078"/>
                </a:lnTo>
                <a:arcTo wR="3600" hR="3600" stAng="10800000" swAng="-5400000"/>
                <a:lnTo>
                  <a:pt x="18000" y="71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8447040" y="44593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0200" y="144612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103400" y="3740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968040" y="3454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849320" y="34545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1916280" y="2819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239480" y="28195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1239840" y="163512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39840" y="163512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678640" y="3753000"/>
            <a:ext cx="38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237360" y="37400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434960" y="2446200"/>
            <a:ext cx="537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07240" y="24462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34960" y="2081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434960" y="20811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49320" y="188748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2128680" y="1382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108000" y="1382760"/>
            <a:ext cx="20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22400" y="1368360"/>
            <a:ext cx="0" cy="32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22400" y="459576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85800" y="46116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743040" y="31543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43040" y="31543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16280" y="484488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309760" y="484488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45124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451240" y="445932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451240" y="471636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51240" y="4954680"/>
            <a:ext cx="417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603520" y="52117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603520" y="521172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429000" y="54673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451240" y="57452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762360" y="574524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603520" y="6276960"/>
            <a:ext cx="622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8826480" y="4844880"/>
            <a:ext cx="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8696160" y="484488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300400" y="3454560"/>
            <a:ext cx="180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80040" y="34545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876920" y="535788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80040" y="456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932280" y="459576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932280" y="514980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280040" y="514980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280040" y="574524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4343400" y="445932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343400" y="55720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543560" y="3774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876920" y="40356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4343400" y="403524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343400" y="403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0440" y="494172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444920" y="5149800"/>
            <a:ext cx="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444920" y="5924520"/>
            <a:ext cx="16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237360" y="4941720"/>
            <a:ext cx="49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237360" y="5924520"/>
            <a:ext cx="25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6491160" y="546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491160" y="546732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400800" y="494172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400800" y="5770440"/>
            <a:ext cx="156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791480" y="47260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8134200" y="47260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134200" y="5770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8242200" y="514980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42200" y="514980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70440" y="48448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941120" y="2614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900600" y="26146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772600" y="25876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605720" y="2587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95416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33640" y="570060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867400" y="5450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718440" y="53578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727680" y="468792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304440" y="162396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ops! Nothing hap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800-C594-4A43-9136-28985ECC6B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ipelined Contro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 is written on each clock cycle (no write sig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write signals for pipeline regis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F st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no control signal since instruction is read and PC is updated each cy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D st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control sig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 st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gDst, ALUOp, ALUS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EM st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anch, MemRead, MemW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B st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mtoReg, RegWr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C9F-65E7-4325-8BD3-9653FDDA99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ipelined Datapath with Control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81" name=""/>
          <p:cNvSpPr/>
          <p:nvPr/>
        </p:nvSpPr>
        <p:spPr>
          <a:xfrm>
            <a:off x="4543560" y="479736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048120" y="3579840"/>
            <a:ext cx="86508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52480" y="3911760"/>
            <a:ext cx="1063800" cy="10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357200" y="252108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52480" y="418932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2127960" y="25178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92040" y="3911760"/>
            <a:ext cx="29376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955960" y="394344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4107600" y="252720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6304680" y="251460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07240" y="4051440"/>
            <a:ext cx="98424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7962840" y="252720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436400" y="27147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5186520" y="2413080"/>
            <a:ext cx="625320" cy="979200"/>
            <a:chOff x="5186520" y="2413080"/>
            <a:chExt cx="625320" cy="979200"/>
          </a:xfrm>
        </p:grpSpPr>
        <p:sp>
          <p:nvSpPr>
            <p:cNvPr id="1695" name=""/>
            <p:cNvSpPr/>
            <p:nvPr/>
          </p:nvSpPr>
          <p:spPr>
            <a:xfrm>
              <a:off x="5186520" y="241308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228640" y="2657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5308560" y="3614760"/>
            <a:ext cx="698040" cy="1068480"/>
            <a:chOff x="5308560" y="3614760"/>
            <a:chExt cx="698040" cy="1068480"/>
          </a:xfrm>
        </p:grpSpPr>
        <p:sp>
          <p:nvSpPr>
            <p:cNvPr id="1698" name=""/>
            <p:cNvSpPr/>
            <p:nvPr/>
          </p:nvSpPr>
          <p:spPr>
            <a:xfrm>
              <a:off x="5308560" y="3614760"/>
              <a:ext cx="657720" cy="106848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07200" y="3920040"/>
              <a:ext cx="5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4876920" y="417204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447040" y="4052880"/>
            <a:ext cx="249120" cy="828720"/>
          </a:xfrm>
          <a:custGeom>
            <a:avLst/>
            <a:gdLst>
              <a:gd name="textAreaLeft" fmla="*/ 11880 w 249120"/>
              <a:gd name="textAreaRight" fmla="*/ 237240 w 249120"/>
              <a:gd name="textAreaTop" fmla="*/ 11880 h 828720"/>
              <a:gd name="textAreaBottom" fmla="*/ 816840 h 828720"/>
            </a:gdLst>
            <a:ahLst/>
            <a:rect l="textAreaLeft" t="textAreaTop" r="textAreaRight" b="textAreaBottom"/>
            <a:pathLst>
              <a:path w="21600" h="71782">
                <a:moveTo>
                  <a:pt x="3600" y="0"/>
                </a:moveTo>
                <a:arcTo wR="3600" hR="3600" stAng="16200000" swAng="-5400000"/>
                <a:lnTo>
                  <a:pt x="0" y="68182"/>
                </a:lnTo>
                <a:arcTo wR="3600" hR="3600" stAng="10800000" swAng="-5400000"/>
                <a:lnTo>
                  <a:pt x="18000" y="717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103400" y="33336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96804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V="1">
            <a:off x="1916280" y="24130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1239480" y="241308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239840" y="1668600"/>
            <a:ext cx="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239840" y="16686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678640" y="288612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451240" y="148752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807240" y="1487520"/>
            <a:ext cx="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1473120" y="1923840"/>
            <a:ext cx="180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474920" y="19242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859040" y="172260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2128680" y="1371240"/>
            <a:ext cx="972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136440" y="1371600"/>
            <a:ext cx="19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122040" y="1371600"/>
            <a:ext cx="140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22400" y="418932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85800" y="420516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743040" y="274788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43040" y="274788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916280" y="443880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309760" y="443880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2449080" y="3772080"/>
            <a:ext cx="1800" cy="17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451240" y="3768840"/>
            <a:ext cx="5968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451240" y="401148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863800" y="443880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67040" y="443880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429000" y="46404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449440" y="494676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755880" y="4941720"/>
            <a:ext cx="3794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867040" y="5756400"/>
            <a:ext cx="595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8826480" y="443880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8696160" y="443880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314440" y="271476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280040" y="271476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072040" y="445284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280040" y="379080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913200" y="377208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913200" y="431964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294080" y="522612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543560" y="288612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876920" y="31575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4680000" y="3428640"/>
            <a:ext cx="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981760" y="423072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791480" y="431964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134200" y="431964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134200" y="51228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8242200" y="474336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242200" y="47433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967360" y="401148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030040" y="2241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900600" y="20509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772600" y="2052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605720" y="203832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8120" y="4911840"/>
            <a:ext cx="648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887640" y="491652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8480" y="4646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737520" y="4653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27680" y="428148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73120" y="217800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79920" y="4605480"/>
            <a:ext cx="487440" cy="65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43400" y="46832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451240" y="523728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465280" y="55101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134200" y="5518080"/>
            <a:ext cx="1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242200" y="5518080"/>
            <a:ext cx="0" cy="352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2600280" y="5870520"/>
            <a:ext cx="5641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2600280" y="4247640"/>
            <a:ext cx="0" cy="1622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600280" y="4230720"/>
            <a:ext cx="447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560680" y="49878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0  1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538360" y="522612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280040" y="4319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930920" y="5091120"/>
            <a:ext cx="195120" cy="54468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680"/>
              <a:gd name="textAreaBottom" fmla="*/ 535320 h 544680"/>
            </a:gdLst>
            <a:ahLst/>
            <a:rect l="textAreaLeft" t="textAreaTop" r="textAreaRight" b="textAreaBottom"/>
            <a:pathLst>
              <a:path w="21600" h="60225">
                <a:moveTo>
                  <a:pt x="3600" y="0"/>
                </a:moveTo>
                <a:arcTo wR="3600" hR="3600" stAng="16200000" swAng="-5400000"/>
                <a:lnTo>
                  <a:pt x="0" y="56625"/>
                </a:lnTo>
                <a:arcTo wR="3600" hR="3600" stAng="10800000" swAng="-5400000"/>
                <a:lnTo>
                  <a:pt x="18000" y="60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280040" y="550080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126040" y="536400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4280040" y="4951440"/>
            <a:ext cx="1199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4680000" y="4554360"/>
            <a:ext cx="196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849320" y="304812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916280" y="271476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477120" y="28861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654200" y="149544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451240" y="149544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5716440" y="4452480"/>
            <a:ext cx="0" cy="1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875640" y="3517920"/>
            <a:ext cx="295200" cy="363600"/>
          </a:xfrm>
          <a:prstGeom prst="flowChartDelay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477120" y="401148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6707160" y="379044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07160" y="3778200"/>
            <a:ext cx="16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19760" y="3613320"/>
            <a:ext cx="168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6716880" y="3384720"/>
            <a:ext cx="0" cy="220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551640" y="3129120"/>
            <a:ext cx="59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981680" y="4052880"/>
            <a:ext cx="0" cy="119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634280" y="38098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033880" y="5635800"/>
            <a:ext cx="0" cy="447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994280" y="59450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RegD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440" y="5251320"/>
            <a:ext cx="0" cy="266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210280" y="54468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ALU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170840" y="369252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7353360" y="1294920"/>
            <a:ext cx="0" cy="2397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1758960" y="1295280"/>
            <a:ext cx="559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1746360" y="1295280"/>
            <a:ext cx="0" cy="200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340040" y="15415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PC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590440" y="388152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477120" y="423072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543560" y="431964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477120" y="47991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578640" y="423072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578640" y="5103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307280" y="5000760"/>
            <a:ext cx="0" cy="26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99360" y="38941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056720" y="369900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Mem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10200" y="530856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Mem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089880" y="31669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476520" y="3424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141760" y="360504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MemtoR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574120" y="3855960"/>
            <a:ext cx="0" cy="20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151240" y="4919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116680" y="4916520"/>
            <a:ext cx="64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436280" y="52927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435560" y="50245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C2-40C5-47BF-8C72-2596910A33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minder: Seven Control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1821" name=""/>
          <p:cNvGraphicFramePr/>
          <p:nvPr/>
        </p:nvGraphicFramePr>
        <p:xfrm>
          <a:off x="309600" y="1104840"/>
          <a:ext cx="8620200" cy="5023080"/>
        </p:xfrm>
        <a:graphic>
          <a:graphicData uri="http://schemas.openxmlformats.org/drawingml/2006/table">
            <a:tbl>
              <a:tblPr/>
              <a:tblGrid>
                <a:gridCol w="1747800"/>
                <a:gridCol w="3400560"/>
                <a:gridCol w="34718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al 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ffect when deasser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ffect when asser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D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tination register number comes fro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tination register number comes fro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tination register is written with value on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rite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U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LU op comes from Read data 1 (i.e. 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LU op is the sign extended, lower 16 bit of the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C is replaced by PC +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C is replaced by the branch target 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ory is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ory is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to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value to the register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rite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put comes from the AL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value to the register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riteda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put comes from the data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7B4-95EA-4F04-8C7D-8E6415EFCF5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 Signals for Instru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ine control signals that start in the EX st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n control unit generates the control signal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uring the ID stag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24" name=""/>
          <p:cNvGraphicFramePr/>
          <p:nvPr/>
        </p:nvGraphicFramePr>
        <p:xfrm>
          <a:off x="457200" y="2712960"/>
          <a:ext cx="8381520" cy="3175200"/>
        </p:xfrm>
        <a:graphic>
          <a:graphicData uri="http://schemas.openxmlformats.org/drawingml/2006/table">
            <a:tbl>
              <a:tblPr/>
              <a:tblGrid>
                <a:gridCol w="1277640"/>
                <a:gridCol w="969480"/>
                <a:gridCol w="891000"/>
                <a:gridCol w="786600"/>
                <a:gridCol w="595800"/>
                <a:gridCol w="797760"/>
                <a:gridCol w="667800"/>
                <a:gridCol w="860040"/>
                <a:gridCol w="677160"/>
                <a:gridCol w="858240"/>
              </a:tblGrid>
              <a:tr h="466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 S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 S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 S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D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Wr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to-Re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-fo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BE2-BFAB-4F3D-B8C8-7089EA2B4C0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 Lines for the Last Three Stag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311760" y="3549600"/>
            <a:ext cx="708120" cy="2357640"/>
            <a:chOff x="311760" y="3549600"/>
            <a:chExt cx="708120" cy="2357640"/>
          </a:xfrm>
        </p:grpSpPr>
        <p:sp>
          <p:nvSpPr>
            <p:cNvPr id="1827" name=""/>
            <p:cNvSpPr/>
            <p:nvPr/>
          </p:nvSpPr>
          <p:spPr>
            <a:xfrm>
              <a:off x="371520" y="3549600"/>
              <a:ext cx="595440" cy="1893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1760" y="55389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2592360" y="2687760"/>
            <a:ext cx="1357200" cy="861840"/>
            <a:chOff x="2592360" y="2687760"/>
            <a:chExt cx="1357200" cy="861840"/>
          </a:xfrm>
        </p:grpSpPr>
        <p:sp>
          <p:nvSpPr>
            <p:cNvPr id="1830" name=""/>
            <p:cNvSpPr/>
            <p:nvPr/>
          </p:nvSpPr>
          <p:spPr>
            <a:xfrm>
              <a:off x="3355920" y="2687760"/>
              <a:ext cx="593640" cy="861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592360" y="3367080"/>
              <a:ext cx="763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92360" y="3195720"/>
              <a:ext cx="763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592360" y="3019320"/>
              <a:ext cx="763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09800" y="2847960"/>
              <a:ext cx="546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2809800" y="1976400"/>
            <a:ext cx="1139760" cy="711360"/>
            <a:chOff x="2809800" y="1976400"/>
            <a:chExt cx="1139760" cy="711360"/>
          </a:xfrm>
        </p:grpSpPr>
        <p:sp>
          <p:nvSpPr>
            <p:cNvPr id="1836" name=""/>
            <p:cNvSpPr/>
            <p:nvPr/>
          </p:nvSpPr>
          <p:spPr>
            <a:xfrm>
              <a:off x="3355920" y="1976400"/>
              <a:ext cx="593640" cy="711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09800" y="2573280"/>
              <a:ext cx="546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809800" y="2387520"/>
              <a:ext cx="546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809800" y="2176560"/>
              <a:ext cx="546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2592360" y="1523880"/>
            <a:ext cx="1357200" cy="452520"/>
            <a:chOff x="2592360" y="1523880"/>
            <a:chExt cx="1357200" cy="452520"/>
          </a:xfrm>
        </p:grpSpPr>
        <p:sp>
          <p:nvSpPr>
            <p:cNvPr id="1841" name=""/>
            <p:cNvSpPr/>
            <p:nvPr/>
          </p:nvSpPr>
          <p:spPr>
            <a:xfrm>
              <a:off x="3355920" y="1523880"/>
              <a:ext cx="593640" cy="452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592360" y="1847880"/>
              <a:ext cx="763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592360" y="1690560"/>
              <a:ext cx="7635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135600" y="3549600"/>
            <a:ext cx="813960" cy="2357640"/>
            <a:chOff x="3135600" y="3549600"/>
            <a:chExt cx="813960" cy="2357640"/>
          </a:xfrm>
        </p:grpSpPr>
        <p:sp>
          <p:nvSpPr>
            <p:cNvPr id="1845" name=""/>
            <p:cNvSpPr/>
            <p:nvPr/>
          </p:nvSpPr>
          <p:spPr>
            <a:xfrm>
              <a:off x="3355920" y="3549600"/>
              <a:ext cx="593640" cy="1893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135600" y="553896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5493960" y="3549600"/>
            <a:ext cx="1067760" cy="2357640"/>
            <a:chOff x="5493960" y="3549600"/>
            <a:chExt cx="1067760" cy="2357640"/>
          </a:xfrm>
        </p:grpSpPr>
        <p:sp>
          <p:nvSpPr>
            <p:cNvPr id="1848" name=""/>
            <p:cNvSpPr/>
            <p:nvPr/>
          </p:nvSpPr>
          <p:spPr>
            <a:xfrm>
              <a:off x="5599080" y="3549600"/>
              <a:ext cx="593640" cy="1893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3960" y="553896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445520" y="3559320"/>
            <a:ext cx="1169640" cy="2347920"/>
            <a:chOff x="7445520" y="3559320"/>
            <a:chExt cx="1169640" cy="2347920"/>
          </a:xfrm>
        </p:grpSpPr>
        <p:sp>
          <p:nvSpPr>
            <p:cNvPr id="1851" name=""/>
            <p:cNvSpPr/>
            <p:nvPr/>
          </p:nvSpPr>
          <p:spPr>
            <a:xfrm>
              <a:off x="7618320" y="3559320"/>
              <a:ext cx="593640" cy="189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445520" y="553896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3943440" y="2876400"/>
            <a:ext cx="295200" cy="486000"/>
            <a:chOff x="3943440" y="2876400"/>
            <a:chExt cx="295200" cy="486000"/>
          </a:xfrm>
        </p:grpSpPr>
        <p:sp>
          <p:nvSpPr>
            <p:cNvPr id="1854" name=""/>
            <p:cNvSpPr/>
            <p:nvPr/>
          </p:nvSpPr>
          <p:spPr>
            <a:xfrm>
              <a:off x="3949560" y="2876400"/>
              <a:ext cx="28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943440" y="3043080"/>
              <a:ext cx="288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943440" y="3216240"/>
              <a:ext cx="288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949560" y="3362400"/>
              <a:ext cx="28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3943440" y="2219400"/>
            <a:ext cx="2249280" cy="1339920"/>
            <a:chOff x="3943440" y="2219400"/>
            <a:chExt cx="2249280" cy="1339920"/>
          </a:xfrm>
        </p:grpSpPr>
        <p:sp>
          <p:nvSpPr>
            <p:cNvPr id="1859" name=""/>
            <p:cNvSpPr/>
            <p:nvPr/>
          </p:nvSpPr>
          <p:spPr>
            <a:xfrm>
              <a:off x="5599080" y="2847960"/>
              <a:ext cx="593640" cy="711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49560" y="2573280"/>
              <a:ext cx="636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586400" y="2597040"/>
              <a:ext cx="0" cy="819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586400" y="3416400"/>
              <a:ext cx="1012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43440" y="2387520"/>
              <a:ext cx="749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92600" y="2395440"/>
              <a:ext cx="0" cy="820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692600" y="3216240"/>
              <a:ext cx="906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949560" y="2219400"/>
              <a:ext cx="857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07080" y="2219400"/>
              <a:ext cx="0" cy="799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807080" y="3019320"/>
              <a:ext cx="792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3943440" y="1690560"/>
            <a:ext cx="2249280" cy="1157400"/>
            <a:chOff x="3943440" y="1690560"/>
            <a:chExt cx="2249280" cy="1157400"/>
          </a:xfrm>
        </p:grpSpPr>
        <p:sp>
          <p:nvSpPr>
            <p:cNvPr id="1870" name=""/>
            <p:cNvSpPr/>
            <p:nvPr/>
          </p:nvSpPr>
          <p:spPr>
            <a:xfrm>
              <a:off x="5599080" y="2395440"/>
              <a:ext cx="593640" cy="452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943440" y="1847880"/>
              <a:ext cx="1049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92840" y="1847880"/>
              <a:ext cx="0" cy="866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992840" y="2714760"/>
              <a:ext cx="606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943440" y="1690560"/>
              <a:ext cx="1252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95880" y="1690560"/>
              <a:ext cx="0" cy="882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95880" y="2573280"/>
              <a:ext cx="403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6200640" y="3021120"/>
            <a:ext cx="295560" cy="390240"/>
            <a:chOff x="6200640" y="3021120"/>
            <a:chExt cx="295560" cy="390240"/>
          </a:xfrm>
        </p:grpSpPr>
        <p:sp>
          <p:nvSpPr>
            <p:cNvPr id="1878" name=""/>
            <p:cNvSpPr/>
            <p:nvPr/>
          </p:nvSpPr>
          <p:spPr>
            <a:xfrm>
              <a:off x="6200640" y="3021120"/>
              <a:ext cx="28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200640" y="3222720"/>
              <a:ext cx="28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07120" y="3411360"/>
              <a:ext cx="28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6192720" y="2573280"/>
            <a:ext cx="2019240" cy="986040"/>
            <a:chOff x="6192720" y="2573280"/>
            <a:chExt cx="2019240" cy="986040"/>
          </a:xfrm>
        </p:grpSpPr>
        <p:sp>
          <p:nvSpPr>
            <p:cNvPr id="1882" name=""/>
            <p:cNvSpPr/>
            <p:nvPr/>
          </p:nvSpPr>
          <p:spPr>
            <a:xfrm>
              <a:off x="7618320" y="3106800"/>
              <a:ext cx="593640" cy="452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00640" y="2714760"/>
              <a:ext cx="750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951600" y="2714760"/>
              <a:ext cx="0" cy="696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951600" y="3416400"/>
              <a:ext cx="666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92720" y="2573280"/>
              <a:ext cx="96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155000" y="2573280"/>
              <a:ext cx="0" cy="62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155000" y="3195720"/>
              <a:ext cx="463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8205840" y="3235320"/>
            <a:ext cx="295200" cy="189000"/>
            <a:chOff x="8205840" y="3235320"/>
            <a:chExt cx="295200" cy="189000"/>
          </a:xfrm>
        </p:grpSpPr>
        <p:sp>
          <p:nvSpPr>
            <p:cNvPr id="1890" name=""/>
            <p:cNvSpPr/>
            <p:nvPr/>
          </p:nvSpPr>
          <p:spPr>
            <a:xfrm>
              <a:off x="8205840" y="3235320"/>
              <a:ext cx="288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211960" y="3424320"/>
              <a:ext cx="289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424080" y="1306440"/>
            <a:ext cx="2385720" cy="2917800"/>
            <a:chOff x="424080" y="1306440"/>
            <a:chExt cx="2385720" cy="2917800"/>
          </a:xfrm>
        </p:grpSpPr>
        <p:sp>
          <p:nvSpPr>
            <p:cNvPr id="1893" name=""/>
            <p:cNvSpPr/>
            <p:nvPr/>
          </p:nvSpPr>
          <p:spPr>
            <a:xfrm>
              <a:off x="966960" y="4224240"/>
              <a:ext cx="42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1387440" y="2714400"/>
              <a:ext cx="0" cy="15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87440" y="2714760"/>
              <a:ext cx="51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905120" y="1306440"/>
              <a:ext cx="904680" cy="2243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ontro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24080" y="23209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BC3-0FFC-43F0-A54C-3E60373D16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ipelined Datapath with Control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99" name=""/>
          <p:cNvSpPr/>
          <p:nvPr/>
        </p:nvSpPr>
        <p:spPr>
          <a:xfrm>
            <a:off x="4543560" y="486720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048120" y="3649680"/>
            <a:ext cx="86508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52480" y="3981600"/>
            <a:ext cx="1063800" cy="102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357200" y="2590920"/>
            <a:ext cx="492120" cy="97920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852480" y="42591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2127960" y="25876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92040" y="3981600"/>
            <a:ext cx="29376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955960" y="401328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4107600" y="25970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6304680" y="258444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807240" y="4121280"/>
            <a:ext cx="98424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8026560" y="259704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440360" y="293220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5186520" y="2558880"/>
            <a:ext cx="564480" cy="979200"/>
            <a:chOff x="5186520" y="2558880"/>
            <a:chExt cx="564480" cy="979200"/>
          </a:xfrm>
        </p:grpSpPr>
        <p:sp>
          <p:nvSpPr>
            <p:cNvPr id="1913" name=""/>
            <p:cNvSpPr/>
            <p:nvPr/>
          </p:nvSpPr>
          <p:spPr>
            <a:xfrm>
              <a:off x="5186520" y="255888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89840" y="295092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308560" y="3684600"/>
            <a:ext cx="698040" cy="1068480"/>
            <a:chOff x="5308560" y="3684600"/>
            <a:chExt cx="698040" cy="1068480"/>
          </a:xfrm>
        </p:grpSpPr>
        <p:sp>
          <p:nvSpPr>
            <p:cNvPr id="1916" name=""/>
            <p:cNvSpPr/>
            <p:nvPr/>
          </p:nvSpPr>
          <p:spPr>
            <a:xfrm>
              <a:off x="5308560" y="3684600"/>
              <a:ext cx="657720" cy="106848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07200" y="3989880"/>
              <a:ext cx="5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4876920" y="424188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103400" y="34034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968040" y="3117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1916280" y="24829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1239480" y="248292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1239840" y="1738440"/>
            <a:ext cx="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239840" y="17384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5678640" y="306072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V="1">
            <a:off x="2451240" y="155736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07240" y="155736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1473120" y="1993680"/>
            <a:ext cx="180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474920" y="199404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859040" y="179244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2128680" y="14410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207720" y="144144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08080" y="1441440"/>
            <a:ext cx="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08080" y="425916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85800" y="427500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43040" y="281772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43040" y="281772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916280" y="450864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309760" y="450864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2449080" y="3841920"/>
            <a:ext cx="1800" cy="17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2451240" y="3828600"/>
            <a:ext cx="5968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451240" y="40813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63800" y="450864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52640" y="450864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429000" y="471024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449440" y="50166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770280" y="50166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867040" y="5826240"/>
            <a:ext cx="595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8826480" y="450864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8696160" y="45086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314440" y="278460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280040" y="278460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072040" y="452268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280040" y="38606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913200" y="3841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913200" y="4389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294080" y="529596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543560" y="295596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876920" y="32940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4680000" y="3498840"/>
            <a:ext cx="0" cy="151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981760" y="430056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791480" y="438948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197920" y="438948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8215200" y="51912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H="1" flipV="1">
            <a:off x="8316720" y="4673520"/>
            <a:ext cx="61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8317080" y="466092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967360" y="4081320"/>
            <a:ext cx="316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863000" y="23605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239720" y="17654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085800" y="176832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741440" y="21574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3149640" y="4981680"/>
            <a:ext cx="651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887640" y="498636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153960" y="4765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789000" y="4746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727680" y="43513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473120" y="224784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479920" y="4675320"/>
            <a:ext cx="487440" cy="65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585520" y="47782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451240" y="53071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465280" y="5580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8215200" y="54450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833580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2600280" y="595476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2600280" y="431748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600280" y="4300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906280" y="50706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 1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918880" y="53532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280040" y="438948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930920" y="5160960"/>
            <a:ext cx="195120" cy="54468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680"/>
              <a:gd name="textAreaBottom" fmla="*/ 535320 h 544680"/>
            </a:gdLst>
            <a:ahLst/>
            <a:rect l="textAreaLeft" t="textAreaTop" r="textAreaRight" b="textAreaBottom"/>
            <a:pathLst>
              <a:path w="21600" h="60225">
                <a:moveTo>
                  <a:pt x="3600" y="0"/>
                </a:moveTo>
                <a:arcTo wR="3600" hR="3600" stAng="16200000" swAng="-5400000"/>
                <a:lnTo>
                  <a:pt x="0" y="56625"/>
                </a:lnTo>
                <a:arcTo wR="3600" hR="3600" stAng="10800000" swAng="-5400000"/>
                <a:lnTo>
                  <a:pt x="18000" y="60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80040" y="557064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26040" y="543384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4280040" y="5021280"/>
            <a:ext cx="1199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4680000" y="4624200"/>
            <a:ext cx="196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1849320" y="311796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916280" y="278460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477120" y="30607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654200" y="1565280"/>
            <a:ext cx="195120" cy="54468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680"/>
              <a:gd name="textAreaBottom" fmla="*/ 535320 h 544680"/>
            </a:gdLst>
            <a:ahLst/>
            <a:rect l="textAreaLeft" t="textAreaTop" r="textAreaRight" b="textAreaBottom"/>
            <a:pathLst>
              <a:path w="21600" h="60225">
                <a:moveTo>
                  <a:pt x="3600" y="0"/>
                </a:moveTo>
                <a:arcTo wR="3600" hR="3600" stAng="16200000" swAng="-5400000"/>
                <a:lnTo>
                  <a:pt x="0" y="56625"/>
                </a:lnTo>
                <a:arcTo wR="3600" hR="3600" stAng="10800000" swAng="-5400000"/>
                <a:lnTo>
                  <a:pt x="18000" y="60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451240" y="156528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716440" y="4522320"/>
            <a:ext cx="0" cy="157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875640" y="3587760"/>
            <a:ext cx="295200" cy="36360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477120" y="408132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707160" y="3860280"/>
            <a:ext cx="0" cy="22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7160" y="3848040"/>
            <a:ext cx="168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6578640" y="3683160"/>
            <a:ext cx="30960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6578640" y="2482920"/>
            <a:ext cx="0" cy="1192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510600" y="340200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981680" y="4122720"/>
            <a:ext cx="0" cy="11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634280" y="38797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033880" y="5705640"/>
            <a:ext cx="0" cy="447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248440" y="594036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egD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726160" y="5330880"/>
            <a:ext cx="0" cy="2667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482440" y="55688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LU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170840" y="3762360"/>
            <a:ext cx="68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7238880" y="1364760"/>
            <a:ext cx="0" cy="239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758960" y="1365120"/>
            <a:ext cx="547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1746360" y="1365120"/>
            <a:ext cx="0" cy="200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231680" y="13906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C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590440" y="395136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477120" y="430056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543560" y="438948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477120" y="48690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578640" y="430056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578640" y="51735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307280" y="5070600"/>
            <a:ext cx="0" cy="261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432560" y="2540160"/>
            <a:ext cx="0" cy="1563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124400" y="38289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661800" y="514980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89880" y="323676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476520" y="34941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197560" y="345600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to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8616960" y="2552760"/>
            <a:ext cx="0" cy="167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108320" y="2340000"/>
            <a:ext cx="171720" cy="272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021560" y="233352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108320" y="2109960"/>
            <a:ext cx="1717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108320" y="1878120"/>
            <a:ext cx="1717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649680" y="1990800"/>
            <a:ext cx="455760" cy="3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719520" y="2247840"/>
            <a:ext cx="385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691080" y="2482920"/>
            <a:ext cx="4143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6302520" y="235440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302520" y="212256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280040" y="2247840"/>
            <a:ext cx="1533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813280" y="2247840"/>
            <a:ext cx="0" cy="235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813280" y="2482920"/>
            <a:ext cx="49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89400" y="1990800"/>
            <a:ext cx="1685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5975280" y="1990800"/>
            <a:ext cx="0" cy="23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981760" y="2225520"/>
            <a:ext cx="333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4981680" y="2577600"/>
            <a:ext cx="0" cy="1576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4280040" y="2584440"/>
            <a:ext cx="712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5726160" y="5597640"/>
            <a:ext cx="280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033880" y="6165720"/>
            <a:ext cx="109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6006960" y="2717640"/>
            <a:ext cx="0" cy="28800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6130800" y="2612880"/>
            <a:ext cx="0" cy="354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5581440" y="2717640"/>
            <a:ext cx="4251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5568840" y="2495160"/>
            <a:ext cx="0" cy="235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4292640" y="2482920"/>
            <a:ext cx="1295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5678640" y="2616120"/>
            <a:ext cx="452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5678640" y="2389320"/>
            <a:ext cx="0" cy="226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4279680" y="2389320"/>
            <a:ext cx="139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V="1">
            <a:off x="2449440" y="2388960"/>
            <a:ext cx="1800" cy="14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465280" y="238932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6477120" y="2540160"/>
            <a:ext cx="955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026560" y="238284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480000" y="2209680"/>
            <a:ext cx="1311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91480" y="2209680"/>
            <a:ext cx="0" cy="273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791480" y="2482920"/>
            <a:ext cx="235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307280" y="5332320"/>
            <a:ext cx="55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8521560" y="4249800"/>
            <a:ext cx="195480" cy="544320"/>
          </a:xfrm>
          <a:custGeom>
            <a:avLst/>
            <a:gdLst>
              <a:gd name="textAreaLeft" fmla="*/ 9360 w 195480"/>
              <a:gd name="textAreaRight" fmla="*/ 186120 w 19548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075">
                <a:moveTo>
                  <a:pt x="3600" y="0"/>
                </a:moveTo>
                <a:arcTo wR="3600" hR="3600" stAng="16200000" swAng="-5400000"/>
                <a:lnTo>
                  <a:pt x="0" y="56475"/>
                </a:lnTo>
                <a:arcTo wR="3600" hR="3600" stAng="10800000" swAng="-5400000"/>
                <a:lnTo>
                  <a:pt x="18000" y="6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7864560" y="2955600"/>
            <a:ext cx="0" cy="237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7673760" y="295596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V="1">
            <a:off x="7674120" y="2382840"/>
            <a:ext cx="0" cy="573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6476760" y="2382840"/>
            <a:ext cx="1197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6477120" y="2482920"/>
            <a:ext cx="101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8197920" y="2482920"/>
            <a:ext cx="32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V="1">
            <a:off x="8521560" y="1738440"/>
            <a:ext cx="0" cy="744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3048120" y="1738440"/>
            <a:ext cx="5473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046320" y="1738440"/>
            <a:ext cx="1800" cy="1755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048120" y="3494160"/>
            <a:ext cx="428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8197920" y="2552760"/>
            <a:ext cx="41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473880" y="543384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232080" y="1878120"/>
            <a:ext cx="487440" cy="839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44B-D331-491F-8171-F9CA451DF6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these five instructions going through the pipeline:</a:t>
            </a:r>
            <a:br>
              <a:rPr sz="2800"/>
            </a:b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0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($1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1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2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3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6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7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4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9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A7A-F7C1-4AEB-AA31-DF4A9C2AFAB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-type Instru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8446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8446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8446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8446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8446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84464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23840" y="2178000"/>
            <a:ext cx="52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bits           5 bits      5 bits          5 bits        5 bits         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0560" y="1828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576680"/>
            <a:ext cx="8610480" cy="370080"/>
            <a:chOff x="304920" y="4576680"/>
            <a:chExt cx="8610480" cy="370080"/>
          </a:xfrm>
        </p:grpSpPr>
        <p:sp>
          <p:nvSpPr>
            <p:cNvPr id="78" name=""/>
            <p:cNvSpPr/>
            <p:nvPr/>
          </p:nvSpPr>
          <p:spPr>
            <a:xfrm>
              <a:off x="5562720" y="4576680"/>
              <a:ext cx="33526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b $s1, $s2, $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4576680"/>
              <a:ext cx="7621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6200" y="4576680"/>
              <a:ext cx="9144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4576680"/>
              <a:ext cx="7621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4576680"/>
              <a:ext cx="761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76520" y="4576680"/>
              <a:ext cx="6858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4576680"/>
              <a:ext cx="609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4576680"/>
              <a:ext cx="761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4920" y="4206960"/>
            <a:ext cx="8610480" cy="369720"/>
            <a:chOff x="304920" y="4206960"/>
            <a:chExt cx="8610480" cy="369720"/>
          </a:xfrm>
        </p:grpSpPr>
        <p:sp>
          <p:nvSpPr>
            <p:cNvPr id="87" name=""/>
            <p:cNvSpPr/>
            <p:nvPr/>
          </p:nvSpPr>
          <p:spPr>
            <a:xfrm>
              <a:off x="5562720" y="4206960"/>
              <a:ext cx="3352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b $s1, $s2, $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0600" y="4206960"/>
              <a:ext cx="762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6200" y="4206960"/>
              <a:ext cx="91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4080" y="4206960"/>
              <a:ext cx="762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2320" y="420696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4206960"/>
              <a:ext cx="685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4206960"/>
              <a:ext cx="60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20696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920" y="3838680"/>
            <a:ext cx="8610480" cy="368280"/>
            <a:chOff x="304920" y="3838680"/>
            <a:chExt cx="8610480" cy="368280"/>
          </a:xfrm>
        </p:grpSpPr>
        <p:sp>
          <p:nvSpPr>
            <p:cNvPr id="96" name=""/>
            <p:cNvSpPr/>
            <p:nvPr/>
          </p:nvSpPr>
          <p:spPr>
            <a:xfrm>
              <a:off x="5562720" y="38386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$s1, $s2, $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3838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3838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4080" y="3838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2320" y="38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38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3838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38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562720" y="3473280"/>
            <a:ext cx="3352680" cy="365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473280"/>
            <a:ext cx="4496040" cy="365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473280"/>
            <a:ext cx="761760" cy="365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473280"/>
            <a:ext cx="8610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83868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20696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57668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4676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4946760"/>
            <a:ext cx="8610480" cy="369720"/>
            <a:chOff x="304920" y="4946760"/>
            <a:chExt cx="8610480" cy="369720"/>
          </a:xfrm>
        </p:grpSpPr>
        <p:sp>
          <p:nvSpPr>
            <p:cNvPr id="113" name=""/>
            <p:cNvSpPr/>
            <p:nvPr/>
          </p:nvSpPr>
          <p:spPr>
            <a:xfrm>
              <a:off x="5562720" y="4946760"/>
              <a:ext cx="3352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jr $r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946760"/>
              <a:ext cx="762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4946760"/>
              <a:ext cx="91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4080" y="4946760"/>
              <a:ext cx="7621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94676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4946760"/>
              <a:ext cx="685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4946760"/>
              <a:ext cx="609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920" y="4946760"/>
              <a:ext cx="761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5316480"/>
              <a:ext cx="8610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920" y="3473280"/>
            <a:ext cx="0" cy="1843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347328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47328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15400" y="3473280"/>
            <a:ext cx="0" cy="1843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83868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83868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83868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383868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3838680"/>
            <a:ext cx="0" cy="14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426-6870-458F-A5F3-21D1990EC4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2214720" y="8618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41940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64008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8121600" y="890280"/>
            <a:ext cx="0" cy="5608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0000" y="10461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: lw $10, 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543560" y="515304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048120" y="3935520"/>
            <a:ext cx="86508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852480" y="426708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357200" y="2876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2127960" y="287352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92040" y="4267080"/>
            <a:ext cx="293760" cy="59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955960" y="429912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4107600" y="28828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6304680" y="2870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807240" y="4406760"/>
            <a:ext cx="984240" cy="9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8026560" y="288288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440360" y="321804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"/>
          <p:cNvGrpSpPr/>
          <p:nvPr/>
        </p:nvGrpSpPr>
        <p:grpSpPr>
          <a:xfrm>
            <a:off x="5186520" y="2844720"/>
            <a:ext cx="564480" cy="979200"/>
            <a:chOff x="5186520" y="2844720"/>
            <a:chExt cx="564480" cy="979200"/>
          </a:xfrm>
        </p:grpSpPr>
        <p:sp>
          <p:nvSpPr>
            <p:cNvPr id="2103" name=""/>
            <p:cNvSpPr/>
            <p:nvPr/>
          </p:nvSpPr>
          <p:spPr>
            <a:xfrm>
              <a:off x="5186520" y="284472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289840" y="32367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308560" y="3970440"/>
            <a:ext cx="698040" cy="1068120"/>
            <a:chOff x="5308560" y="3970440"/>
            <a:chExt cx="698040" cy="1068120"/>
          </a:xfrm>
        </p:grpSpPr>
        <p:sp>
          <p:nvSpPr>
            <p:cNvPr id="2106" name=""/>
            <p:cNvSpPr/>
            <p:nvPr/>
          </p:nvSpPr>
          <p:spPr>
            <a:xfrm>
              <a:off x="5308560" y="3970440"/>
              <a:ext cx="657720" cy="10681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407200" y="4275720"/>
              <a:ext cx="5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4876920" y="45277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103400" y="3689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968040" y="3403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1916280" y="2768400"/>
            <a:ext cx="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1239480" y="276876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1239840" y="2023560"/>
            <a:ext cx="0" cy="7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239840" y="202392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678640" y="334656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451240" y="184320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807240" y="184320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1473120" y="227952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474920" y="227952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859040" y="20779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2128680" y="1727280"/>
            <a:ext cx="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flipH="1">
            <a:off x="207720" y="172728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08080" y="1727280"/>
            <a:ext cx="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08080" y="45450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85800" y="45608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743040" y="310356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43040" y="310356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916280" y="47941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309760" y="47941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H="1">
            <a:off x="2449080" y="412740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451240" y="4124160"/>
            <a:ext cx="5968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451240" y="436716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863800" y="4794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86704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429000" y="4995720"/>
            <a:ext cx="333360" cy="5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449440" y="5302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789360" y="53020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67040" y="6111720"/>
            <a:ext cx="595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882648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8696160" y="479412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314440" y="307008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280040" y="307008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072040" y="480852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280040" y="41464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913200" y="41274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913200" y="467532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294080" y="558180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4543560" y="32418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876920" y="35798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80000" y="37843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981760" y="458640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791480" y="467532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8197920" y="46753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8215200" y="5477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 flipV="1">
            <a:off x="8316720" y="4959360"/>
            <a:ext cx="61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8317080" y="494676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967360" y="4367160"/>
            <a:ext cx="316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963080" y="26463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009320" y="19321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085800" y="205416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741440" y="24433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49640" y="526716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887640" y="5272200"/>
            <a:ext cx="651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153960" y="5051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789000" y="503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727680" y="463716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473120" y="25336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479920" y="4960800"/>
            <a:ext cx="487440" cy="65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585520" y="506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451240" y="55926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465280" y="58658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96120" y="588024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8335800" y="58770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2600280" y="62262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2600280" y="460332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00280" y="458640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906280" y="53560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 1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918880" y="5638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4280040" y="46753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4930920" y="544680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280040" y="585612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26040" y="571968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4280040" y="5306760"/>
            <a:ext cx="119988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4680000" y="4910040"/>
            <a:ext cx="196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1849320" y="340344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916280" y="307008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477120" y="33465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654200" y="18511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451240" y="1851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V="1">
            <a:off x="5716440" y="4808160"/>
            <a:ext cx="0" cy="157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75640" y="3873600"/>
            <a:ext cx="295200" cy="36360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77120" y="436716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6707160" y="4146120"/>
            <a:ext cx="0" cy="22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07160" y="4133880"/>
            <a:ext cx="168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6578640" y="3968280"/>
            <a:ext cx="30960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6578640" y="2768400"/>
            <a:ext cx="0" cy="119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510600" y="368784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981680" y="4408560"/>
            <a:ext cx="0" cy="11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634280" y="4165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033880" y="5991120"/>
            <a:ext cx="0" cy="447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5248440" y="62262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egD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726160" y="5616720"/>
            <a:ext cx="0" cy="266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482440" y="58546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LU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170840" y="4048200"/>
            <a:ext cx="68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7238880" y="1650600"/>
            <a:ext cx="0" cy="239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H="1">
            <a:off x="1758960" y="1650960"/>
            <a:ext cx="547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1746360" y="1650960"/>
            <a:ext cx="0" cy="200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2316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C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590440" y="423720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477120" y="458640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543560" y="46753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477120" y="51544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578640" y="4586400"/>
            <a:ext cx="0" cy="88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578640" y="5459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7307280" y="5356080"/>
            <a:ext cx="0" cy="262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432560" y="282564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124400" y="41148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962040" y="5649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089880" y="35226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76520" y="378000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8197560" y="37418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to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616960" y="2838600"/>
            <a:ext cx="0" cy="167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108320" y="2625840"/>
            <a:ext cx="171720" cy="272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021560" y="2619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108320" y="239544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08320" y="216360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614760" y="2279520"/>
            <a:ext cx="503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719520" y="2533680"/>
            <a:ext cx="385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614760" y="2819520"/>
            <a:ext cx="4906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305400" y="263988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305400" y="2408400"/>
            <a:ext cx="1717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280040" y="2484360"/>
            <a:ext cx="1533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813280" y="2484360"/>
            <a:ext cx="0" cy="28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813280" y="2768760"/>
            <a:ext cx="49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289400" y="2276640"/>
            <a:ext cx="1685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975280" y="2276640"/>
            <a:ext cx="0" cy="23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981760" y="2511360"/>
            <a:ext cx="33336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4981680" y="2882880"/>
            <a:ext cx="0" cy="15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4280040" y="2879640"/>
            <a:ext cx="712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726160" y="5883120"/>
            <a:ext cx="280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033880" y="6451560"/>
            <a:ext cx="109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6006960" y="3003120"/>
            <a:ext cx="0" cy="2879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6130800" y="2898720"/>
            <a:ext cx="0" cy="354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H="1">
            <a:off x="5568480" y="3003480"/>
            <a:ext cx="4381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5568840" y="2781360"/>
            <a:ext cx="0" cy="23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4282560" y="2787480"/>
            <a:ext cx="1295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5678640" y="2901960"/>
            <a:ext cx="452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5678640" y="2650680"/>
            <a:ext cx="0" cy="25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4279680" y="2651040"/>
            <a:ext cx="139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2449440" y="2674800"/>
            <a:ext cx="180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465280" y="267480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6477120" y="2825640"/>
            <a:ext cx="955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8026560" y="266868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80000" y="2495520"/>
            <a:ext cx="1311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791480" y="2495520"/>
            <a:ext cx="0" cy="27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7791480" y="2768760"/>
            <a:ext cx="2350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307280" y="5618160"/>
            <a:ext cx="55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521560" y="4535640"/>
            <a:ext cx="195480" cy="544320"/>
          </a:xfrm>
          <a:custGeom>
            <a:avLst/>
            <a:gdLst>
              <a:gd name="textAreaLeft" fmla="*/ 9360 w 195480"/>
              <a:gd name="textAreaRight" fmla="*/ 186120 w 19548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075">
                <a:moveTo>
                  <a:pt x="3600" y="0"/>
                </a:moveTo>
                <a:arcTo wR="3600" hR="3600" stAng="16200000" swAng="-5400000"/>
                <a:lnTo>
                  <a:pt x="0" y="56475"/>
                </a:lnTo>
                <a:arcTo wR="3600" hR="3600" stAng="10800000" swAng="-5400000"/>
                <a:lnTo>
                  <a:pt x="18000" y="6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7864560" y="3241440"/>
            <a:ext cx="0" cy="237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7673760" y="324180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7674120" y="2668680"/>
            <a:ext cx="0" cy="573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6476760" y="2668680"/>
            <a:ext cx="1197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6480000" y="2768760"/>
            <a:ext cx="98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8197920" y="2768760"/>
            <a:ext cx="32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8521560" y="2023560"/>
            <a:ext cx="0" cy="744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048120" y="2023920"/>
            <a:ext cx="5473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046320" y="2023920"/>
            <a:ext cx="1800" cy="1756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048120" y="3780000"/>
            <a:ext cx="428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8197920" y="2838600"/>
            <a:ext cx="41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440000" y="4267080"/>
            <a:ext cx="476280" cy="102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852480" y="454500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2125080" y="2876400"/>
            <a:ext cx="88920" cy="3181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696840" y="2077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690360" y="2335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732480" y="25909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274640" y="2075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342320" y="229860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284360" y="246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254480" y="2593800"/>
            <a:ext cx="37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782960" y="2825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446160" y="2317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56532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510240" y="2870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98680" y="2647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8211960" y="2562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8221320" y="278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36052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before&lt;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19112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: before&lt;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46740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: before&lt;3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8183520" y="1033560"/>
            <a:ext cx="9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: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232080" y="2077920"/>
            <a:ext cx="487440" cy="83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41A-47C1-49E0-9C8F-338C6886F78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2214720" y="8618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41940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64008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8121600" y="890280"/>
            <a:ext cx="0" cy="5608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70000" y="104616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: sub $11, 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543560" y="515304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048120" y="3935520"/>
            <a:ext cx="86508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852480" y="426708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357200" y="2876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H="1">
            <a:off x="2127960" y="287352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92040" y="4267080"/>
            <a:ext cx="293760" cy="59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4107600" y="2898720"/>
            <a:ext cx="171720" cy="31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6304680" y="2870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07240" y="4406760"/>
            <a:ext cx="984240" cy="9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H="1">
            <a:off x="8026560" y="288288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440360" y="321804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5186520" y="2844720"/>
            <a:ext cx="564480" cy="979200"/>
            <a:chOff x="5186520" y="2844720"/>
            <a:chExt cx="564480" cy="979200"/>
          </a:xfrm>
        </p:grpSpPr>
        <p:sp>
          <p:nvSpPr>
            <p:cNvPr id="2310" name=""/>
            <p:cNvSpPr/>
            <p:nvPr/>
          </p:nvSpPr>
          <p:spPr>
            <a:xfrm>
              <a:off x="5186520" y="284472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289840" y="32367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5308560" y="3970440"/>
            <a:ext cx="698040" cy="1068120"/>
            <a:chOff x="5308560" y="3970440"/>
            <a:chExt cx="698040" cy="1068120"/>
          </a:xfrm>
        </p:grpSpPr>
        <p:sp>
          <p:nvSpPr>
            <p:cNvPr id="2313" name=""/>
            <p:cNvSpPr/>
            <p:nvPr/>
          </p:nvSpPr>
          <p:spPr>
            <a:xfrm>
              <a:off x="5308560" y="3970440"/>
              <a:ext cx="657720" cy="10681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07200" y="4275720"/>
              <a:ext cx="5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4876920" y="45277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103400" y="3689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968040" y="3403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V="1">
            <a:off x="1916280" y="2768400"/>
            <a:ext cx="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1239480" y="276876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V="1">
            <a:off x="1239840" y="2023560"/>
            <a:ext cx="0" cy="7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239840" y="202392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5678640" y="334656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2451240" y="184320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807240" y="184320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1473120" y="227952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1474920" y="227952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859040" y="20779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2128680" y="1727280"/>
            <a:ext cx="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H="1">
            <a:off x="207720" y="172728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08080" y="1727280"/>
            <a:ext cx="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08080" y="45450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85800" y="45608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743040" y="310356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43040" y="310356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916280" y="47941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309760" y="47941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449080" y="412740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51240" y="4124160"/>
            <a:ext cx="5968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451240" y="436716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863800" y="4794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86704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429000" y="4995720"/>
            <a:ext cx="333360" cy="54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449440" y="5302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789360" y="53020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867040" y="6111720"/>
            <a:ext cx="595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882648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8696160" y="479412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2314440" y="307008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280040" y="307008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072040" y="480852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280040" y="41464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913200" y="41274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13200" y="467532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294080" y="558180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543560" y="32418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876920" y="35798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4694400" y="375552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981760" y="458640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791480" y="467532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8197920" y="46753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8215200" y="5477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H="1" flipV="1">
            <a:off x="8316720" y="4959360"/>
            <a:ext cx="61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317080" y="494676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967360" y="4367160"/>
            <a:ext cx="316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863000" y="26463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009320" y="19321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085800" y="205416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741440" y="24433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149640" y="526716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7640" y="5272200"/>
            <a:ext cx="651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53960" y="5051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789000" y="503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727680" y="463716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473120" y="25336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479920" y="4960800"/>
            <a:ext cx="487440" cy="65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585520" y="506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451240" y="55926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465280" y="58658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8215200" y="58737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8335800" y="5883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H="1">
            <a:off x="2600280" y="62262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2600280" y="460332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600280" y="458640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906280" y="53560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 1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18880" y="5638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280040" y="46753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930920" y="544680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280040" y="585612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126040" y="571968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4280040" y="5306760"/>
            <a:ext cx="119988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4680000" y="4910040"/>
            <a:ext cx="196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1849320" y="340344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16280" y="307008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477120" y="33465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654200" y="18511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451240" y="1851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5716440" y="4808160"/>
            <a:ext cx="0" cy="157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875640" y="3873600"/>
            <a:ext cx="295200" cy="36360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477120" y="436716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6707160" y="4146120"/>
            <a:ext cx="0" cy="22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707160" y="4133880"/>
            <a:ext cx="168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6578640" y="3968280"/>
            <a:ext cx="30960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6578640" y="2768400"/>
            <a:ext cx="0" cy="119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6510600" y="368784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981680" y="4408560"/>
            <a:ext cx="0" cy="11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634280" y="4165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033880" y="5991120"/>
            <a:ext cx="0" cy="447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248440" y="62262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egD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726160" y="5616720"/>
            <a:ext cx="0" cy="266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482440" y="58546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LU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170840" y="4048200"/>
            <a:ext cx="68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7238880" y="1650600"/>
            <a:ext cx="0" cy="239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758960" y="1650960"/>
            <a:ext cx="547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1746360" y="1650960"/>
            <a:ext cx="0" cy="200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2316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C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590440" y="423720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477120" y="458640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543560" y="46753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477120" y="51544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78640" y="4586400"/>
            <a:ext cx="0" cy="88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578640" y="5459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307280" y="5356080"/>
            <a:ext cx="0" cy="262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7432560" y="282564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7124400" y="41148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962040" y="5649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089880" y="35226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476520" y="378000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8197560" y="37418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to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8616960" y="2838600"/>
            <a:ext cx="0" cy="167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108320" y="2625840"/>
            <a:ext cx="171720" cy="272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021560" y="2619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108320" y="239544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614760" y="2279520"/>
            <a:ext cx="503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719520" y="2533680"/>
            <a:ext cx="385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649680" y="2819520"/>
            <a:ext cx="4557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02520" y="2639880"/>
            <a:ext cx="17136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6302520" y="240840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280040" y="2533680"/>
            <a:ext cx="1533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5813280" y="2533680"/>
            <a:ext cx="0" cy="23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813280" y="2768760"/>
            <a:ext cx="49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289400" y="2276640"/>
            <a:ext cx="1685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975280" y="2276640"/>
            <a:ext cx="0" cy="23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981760" y="2511360"/>
            <a:ext cx="33336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4981680" y="2873520"/>
            <a:ext cx="0" cy="156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H="1">
            <a:off x="4279680" y="2870280"/>
            <a:ext cx="701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726160" y="5883120"/>
            <a:ext cx="280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033880" y="6451560"/>
            <a:ext cx="109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6006960" y="3003120"/>
            <a:ext cx="0" cy="2879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6130800" y="2898720"/>
            <a:ext cx="0" cy="354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5568480" y="3003480"/>
            <a:ext cx="4381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5568840" y="2825280"/>
            <a:ext cx="0" cy="190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4280040" y="2819520"/>
            <a:ext cx="12952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5678640" y="2901960"/>
            <a:ext cx="452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5678640" y="2674440"/>
            <a:ext cx="0" cy="227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4279680" y="2674800"/>
            <a:ext cx="139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2449440" y="2674800"/>
            <a:ext cx="180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465280" y="267480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6477120" y="2825640"/>
            <a:ext cx="955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8026560" y="266868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480000" y="2495520"/>
            <a:ext cx="1311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91480" y="2495520"/>
            <a:ext cx="0" cy="27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791480" y="2768760"/>
            <a:ext cx="2350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307280" y="5618160"/>
            <a:ext cx="55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8521560" y="4535640"/>
            <a:ext cx="195480" cy="544320"/>
          </a:xfrm>
          <a:custGeom>
            <a:avLst/>
            <a:gdLst>
              <a:gd name="textAreaLeft" fmla="*/ 9360 w 195480"/>
              <a:gd name="textAreaRight" fmla="*/ 186120 w 19548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075">
                <a:moveTo>
                  <a:pt x="3600" y="0"/>
                </a:moveTo>
                <a:arcTo wR="3600" hR="3600" stAng="16200000" swAng="-5400000"/>
                <a:lnTo>
                  <a:pt x="0" y="56475"/>
                </a:lnTo>
                <a:arcTo wR="3600" hR="3600" stAng="10800000" swAng="-5400000"/>
                <a:lnTo>
                  <a:pt x="18000" y="6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7864560" y="3241440"/>
            <a:ext cx="0" cy="237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7673760" y="324180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7674120" y="2668680"/>
            <a:ext cx="0" cy="573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6476760" y="2668680"/>
            <a:ext cx="1197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6473520" y="2768760"/>
            <a:ext cx="104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8197920" y="2768760"/>
            <a:ext cx="32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8521560" y="2023560"/>
            <a:ext cx="0" cy="744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3048120" y="2023920"/>
            <a:ext cx="5473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046320" y="2023920"/>
            <a:ext cx="1800" cy="1756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048120" y="3780000"/>
            <a:ext cx="428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8197920" y="2838600"/>
            <a:ext cx="41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440000" y="4267080"/>
            <a:ext cx="476280" cy="102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52480" y="454500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696840" y="2077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690360" y="2335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746880" y="25909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274640" y="2075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4280760" y="2335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4284360" y="249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254480" y="2612880"/>
            <a:ext cx="37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4787640" y="2819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446160" y="2317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456240" y="249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535440" y="2610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392960" y="2806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211960" y="2562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8221320" y="278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36052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lw $10, 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19112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: before&lt;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46740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: before&lt;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451320" y="3940200"/>
            <a:ext cx="476280" cy="1028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955960" y="429912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H="1">
            <a:off x="4107600" y="2889360"/>
            <a:ext cx="889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108320" y="216360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232080" y="2112840"/>
            <a:ext cx="487440" cy="839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8183520" y="1033560"/>
            <a:ext cx="9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: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03B-BCEF-4BFC-9C6B-FC81987E13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2214720" y="8618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4194000" y="8888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64008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8121600" y="890280"/>
            <a:ext cx="0" cy="5608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70000" y="104616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:and $12, 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543560" y="515304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048120" y="3935520"/>
            <a:ext cx="86508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852480" y="426708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357200" y="2876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flipH="1">
            <a:off x="2127960" y="287352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92040" y="4267080"/>
            <a:ext cx="293760" cy="59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4107600" y="289260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H="1">
            <a:off x="6304680" y="2870280"/>
            <a:ext cx="1717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807240" y="4406760"/>
            <a:ext cx="984240" cy="9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flipH="1">
            <a:off x="8026560" y="288288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440360" y="321804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5186520" y="2844720"/>
            <a:ext cx="564480" cy="979200"/>
            <a:chOff x="5186520" y="2844720"/>
            <a:chExt cx="564480" cy="979200"/>
          </a:xfrm>
        </p:grpSpPr>
        <p:sp>
          <p:nvSpPr>
            <p:cNvPr id="2519" name=""/>
            <p:cNvSpPr/>
            <p:nvPr/>
          </p:nvSpPr>
          <p:spPr>
            <a:xfrm>
              <a:off x="5186520" y="284472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289840" y="32367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1" name=""/>
          <p:cNvSpPr/>
          <p:nvPr/>
        </p:nvSpPr>
        <p:spPr>
          <a:xfrm>
            <a:off x="5308560" y="3970440"/>
            <a:ext cx="658800" cy="106812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349960" y="427500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876920" y="45277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103400" y="3689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68040" y="3403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1916280" y="2768400"/>
            <a:ext cx="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H="1">
            <a:off x="1239480" y="276876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239840" y="2023560"/>
            <a:ext cx="0" cy="7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239840" y="202392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678640" y="334656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2451240" y="184320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807240" y="184320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1473120" y="227952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474920" y="227952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859040" y="20779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2128680" y="1727280"/>
            <a:ext cx="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H="1">
            <a:off x="207720" y="172728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08080" y="1727280"/>
            <a:ext cx="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08080" y="45450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85800" y="45608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743040" y="310356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43040" y="310356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16280" y="47941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309760" y="47941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H="1">
            <a:off x="2449080" y="412740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451240" y="4124160"/>
            <a:ext cx="5968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451240" y="436716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863800" y="4794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86704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429000" y="4995720"/>
            <a:ext cx="333360" cy="5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449440" y="5302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762360" y="53020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867040" y="6111720"/>
            <a:ext cx="595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882648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8696160" y="479412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314440" y="307008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280040" y="307008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072040" y="4808520"/>
            <a:ext cx="23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280040" y="4146480"/>
            <a:ext cx="1028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913200" y="41274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913200" y="467532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680000" y="5592600"/>
            <a:ext cx="250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543560" y="32418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876920" y="35798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4680000" y="378468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967360" y="4586400"/>
            <a:ext cx="352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7791480" y="467532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8197920" y="46753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8215200" y="5477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 flipV="1">
            <a:off x="8316720" y="4959360"/>
            <a:ext cx="61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8317080" y="494676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967360" y="4367160"/>
            <a:ext cx="316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1863000" y="26463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09320" y="19321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6085800" y="205416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741440" y="24433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3149640" y="526716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887640" y="5272200"/>
            <a:ext cx="651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3153960" y="5051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789000" y="503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6727680" y="463716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473120" y="25336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5479920" y="4960800"/>
            <a:ext cx="487440" cy="65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585520" y="506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451240" y="55926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465280" y="58658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8215200" y="58737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8335800" y="5883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2600280" y="62262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2600280" y="460332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00280" y="458640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2906280" y="53560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 1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2918880" y="5638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280040" y="467532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930920" y="544680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280040" y="585612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126040" y="571968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680000" y="53132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V="1">
            <a:off x="4680000" y="4910040"/>
            <a:ext cx="196920" cy="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>
            <a:off x="1849320" y="340344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916280" y="307008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6477120" y="33465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654200" y="18511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451240" y="1851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V="1">
            <a:off x="5716440" y="4808160"/>
            <a:ext cx="0" cy="157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875640" y="3873600"/>
            <a:ext cx="295200" cy="36360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477120" y="436716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6707160" y="4146120"/>
            <a:ext cx="0" cy="22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707160" y="4133880"/>
            <a:ext cx="168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6578640" y="3968280"/>
            <a:ext cx="30960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6578640" y="2768400"/>
            <a:ext cx="0" cy="119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6510600" y="368784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4981680" y="4408560"/>
            <a:ext cx="0" cy="11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634280" y="4165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033880" y="5991120"/>
            <a:ext cx="0" cy="447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248440" y="62262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egD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726160" y="5616720"/>
            <a:ext cx="0" cy="266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482440" y="58546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LU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7170840" y="4048200"/>
            <a:ext cx="68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7238880" y="1650600"/>
            <a:ext cx="0" cy="239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H="1">
            <a:off x="1758960" y="1650960"/>
            <a:ext cx="547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1746360" y="1650960"/>
            <a:ext cx="0" cy="200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72316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C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590440" y="423720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6477120" y="458640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543560" y="46753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477120" y="51544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6578640" y="4586400"/>
            <a:ext cx="0" cy="88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578640" y="5459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307280" y="5356080"/>
            <a:ext cx="0" cy="262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432560" y="282564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7124400" y="41148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962040" y="5649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3089880" y="35226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476520" y="378000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197560" y="37418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to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8616960" y="2838600"/>
            <a:ext cx="0" cy="167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108320" y="2625840"/>
            <a:ext cx="171720" cy="272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021560" y="2619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108320" y="239544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614760" y="2279520"/>
            <a:ext cx="503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719520" y="2533680"/>
            <a:ext cx="385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656160" y="2825640"/>
            <a:ext cx="455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302520" y="2639880"/>
            <a:ext cx="17136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302520" y="240840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280040" y="2533680"/>
            <a:ext cx="1533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813280" y="2533680"/>
            <a:ext cx="0" cy="23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813280" y="2768760"/>
            <a:ext cx="49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289400" y="2276640"/>
            <a:ext cx="1685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975280" y="2276640"/>
            <a:ext cx="0" cy="23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981760" y="2511360"/>
            <a:ext cx="33336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V="1">
            <a:off x="4981680" y="287640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 flipH="1">
            <a:off x="4279680" y="2870280"/>
            <a:ext cx="701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726160" y="5883120"/>
            <a:ext cx="280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033880" y="6451560"/>
            <a:ext cx="109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6006960" y="3003120"/>
            <a:ext cx="0" cy="2879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6130800" y="2898720"/>
            <a:ext cx="0" cy="354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5562720" y="3003480"/>
            <a:ext cx="4442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5562720" y="2819520"/>
            <a:ext cx="0" cy="1965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4266720" y="2819520"/>
            <a:ext cx="1295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5678640" y="2901960"/>
            <a:ext cx="452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5678640" y="2674440"/>
            <a:ext cx="0" cy="227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>
            <a:off x="4279680" y="2674800"/>
            <a:ext cx="139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2449440" y="2674800"/>
            <a:ext cx="180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465280" y="267480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>
            <a:off x="6477120" y="2825640"/>
            <a:ext cx="955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8026560" y="266868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6480000" y="2495520"/>
            <a:ext cx="1311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791480" y="2495520"/>
            <a:ext cx="0" cy="27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791480" y="2768760"/>
            <a:ext cx="2350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7307280" y="5618160"/>
            <a:ext cx="55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8521560" y="4535640"/>
            <a:ext cx="195480" cy="544320"/>
          </a:xfrm>
          <a:custGeom>
            <a:avLst/>
            <a:gdLst>
              <a:gd name="textAreaLeft" fmla="*/ 9360 w 195480"/>
              <a:gd name="textAreaRight" fmla="*/ 186120 w 19548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075">
                <a:moveTo>
                  <a:pt x="3600" y="0"/>
                </a:moveTo>
                <a:arcTo wR="3600" hR="3600" stAng="16200000" swAng="-5400000"/>
                <a:lnTo>
                  <a:pt x="0" y="56475"/>
                </a:lnTo>
                <a:arcTo wR="3600" hR="3600" stAng="10800000" swAng="-5400000"/>
                <a:lnTo>
                  <a:pt x="18000" y="6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V="1">
            <a:off x="7864560" y="3241440"/>
            <a:ext cx="0" cy="237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flipH="1">
            <a:off x="7673760" y="324180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7674120" y="2668680"/>
            <a:ext cx="0" cy="573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H="1">
            <a:off x="6476760" y="2668680"/>
            <a:ext cx="1197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 flipH="1">
            <a:off x="6467040" y="2768760"/>
            <a:ext cx="11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8197920" y="2768760"/>
            <a:ext cx="32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8521560" y="2023560"/>
            <a:ext cx="0" cy="744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3048120" y="2023920"/>
            <a:ext cx="5473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046320" y="2023920"/>
            <a:ext cx="1800" cy="1756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3048120" y="3780000"/>
            <a:ext cx="428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 flipH="1">
            <a:off x="8197920" y="2838600"/>
            <a:ext cx="41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440000" y="4267080"/>
            <a:ext cx="476280" cy="102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852480" y="454500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696840" y="2077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690360" y="22860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3746880" y="25909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274640" y="2075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4280760" y="2335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284360" y="249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254480" y="2612880"/>
            <a:ext cx="37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4787640" y="2857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6446160" y="2286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65462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6554520" y="2610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7373880" y="2808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8211960" y="2562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8221320" y="278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2360520" y="1033560"/>
            <a:ext cx="17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sub $11, 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4191120" y="1033560"/>
            <a:ext cx="181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: lw $10, 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6467400" y="1033560"/>
            <a:ext cx="16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: before&lt;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8183520" y="1033560"/>
            <a:ext cx="9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: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3451320" y="3940200"/>
            <a:ext cx="476280" cy="1028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2955960" y="429912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108320" y="216360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4282560" y="5592600"/>
            <a:ext cx="39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680000" y="4910040"/>
            <a:ext cx="0" cy="40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4282560" y="5313240"/>
            <a:ext cx="397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6301800" y="2870280"/>
            <a:ext cx="889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3232080" y="2112840"/>
            <a:ext cx="487440" cy="839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BAB-5339-49DC-B959-FB842BF78F9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4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8126280" y="893520"/>
            <a:ext cx="0" cy="5608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2214720" y="8618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41940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64008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70000" y="104616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:or $13, $6,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543560" y="515304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3048120" y="3935520"/>
            <a:ext cx="86508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852480" y="426708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357200" y="2876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2127960" y="287352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392040" y="4267080"/>
            <a:ext cx="293760" cy="59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 flipH="1">
            <a:off x="4107600" y="289260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6304680" y="287028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07240" y="4406760"/>
            <a:ext cx="984240" cy="9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 flipH="1">
            <a:off x="8026560" y="2882880"/>
            <a:ext cx="1713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440360" y="321804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9" name=""/>
          <p:cNvGrpSpPr/>
          <p:nvPr/>
        </p:nvGrpSpPr>
        <p:grpSpPr>
          <a:xfrm>
            <a:off x="5186520" y="2844720"/>
            <a:ext cx="564480" cy="979200"/>
            <a:chOff x="5186520" y="2844720"/>
            <a:chExt cx="564480" cy="979200"/>
          </a:xfrm>
        </p:grpSpPr>
        <p:sp>
          <p:nvSpPr>
            <p:cNvPr id="2730" name=""/>
            <p:cNvSpPr/>
            <p:nvPr/>
          </p:nvSpPr>
          <p:spPr>
            <a:xfrm>
              <a:off x="5186520" y="284472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289840" y="32367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2" name=""/>
          <p:cNvSpPr/>
          <p:nvPr/>
        </p:nvSpPr>
        <p:spPr>
          <a:xfrm>
            <a:off x="5308560" y="3970440"/>
            <a:ext cx="658800" cy="106812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5349960" y="427500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876920" y="45277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1103400" y="3689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68040" y="3403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 flipV="1">
            <a:off x="1916280" y="2768400"/>
            <a:ext cx="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1239480" y="276876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V="1">
            <a:off x="1239840" y="2023560"/>
            <a:ext cx="0" cy="7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239840" y="202392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678640" y="334656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2451240" y="184320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807240" y="184320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1473120" y="227952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1474920" y="227952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859040" y="20779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2128680" y="1727280"/>
            <a:ext cx="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207720" y="172728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208080" y="1727280"/>
            <a:ext cx="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208080" y="45450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85800" y="45608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743040" y="310356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43040" y="310356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916280" y="47941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2309760" y="47941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H="1">
            <a:off x="2449080" y="412740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451240" y="4124160"/>
            <a:ext cx="5968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451240" y="436716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2863800" y="479412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286704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429000" y="4995720"/>
            <a:ext cx="333360" cy="5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449440" y="5302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789360" y="53020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867040" y="6111720"/>
            <a:ext cx="595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flipV="1">
            <a:off x="8826480" y="4794120"/>
            <a:ext cx="0" cy="13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8696160" y="479412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2314440" y="307008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280040" y="307008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072040" y="4808520"/>
            <a:ext cx="23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280040" y="4146480"/>
            <a:ext cx="1028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913200" y="41274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913200" y="467532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680000" y="55818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543560" y="32418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876920" y="35798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4680000" y="378468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996160" y="45864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7791480" y="4675320"/>
            <a:ext cx="235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8197920" y="46753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8215200" y="5477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 flipV="1">
            <a:off x="8316720" y="4959360"/>
            <a:ext cx="61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8317080" y="494676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5967360" y="4367160"/>
            <a:ext cx="316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863000" y="26463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09320" y="19321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085800" y="205416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7741440" y="24433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3149640" y="526716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887640" y="5272200"/>
            <a:ext cx="651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3153960" y="5051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789000" y="503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473120" y="25336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5479920" y="4960800"/>
            <a:ext cx="487440" cy="65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585520" y="506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451240" y="55926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465280" y="58658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8215200" y="58737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8335800" y="5883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2600280" y="62262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2600280" y="460332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600280" y="458640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2906280" y="53560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 1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918880" y="5638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280040" y="4675320"/>
            <a:ext cx="59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4930920" y="544680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4280040" y="585612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126040" y="571968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4680000" y="5306760"/>
            <a:ext cx="7999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V="1">
            <a:off x="4680000" y="4910040"/>
            <a:ext cx="196920" cy="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1849320" y="340344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916280" y="307008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477120" y="33465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654200" y="18511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451240" y="1851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V="1">
            <a:off x="5716440" y="4808160"/>
            <a:ext cx="0" cy="157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875640" y="3873600"/>
            <a:ext cx="295200" cy="36360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477120" y="436716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6707160" y="4133880"/>
            <a:ext cx="0" cy="233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6707160" y="4133880"/>
            <a:ext cx="168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6578640" y="3968280"/>
            <a:ext cx="30960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V="1">
            <a:off x="6578640" y="2768400"/>
            <a:ext cx="0" cy="119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510600" y="368784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4981680" y="4408560"/>
            <a:ext cx="0" cy="11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4634280" y="4165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033880" y="5991120"/>
            <a:ext cx="0" cy="447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248440" y="62262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egD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726160" y="5616720"/>
            <a:ext cx="0" cy="266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482440" y="58546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LU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7170840" y="4048200"/>
            <a:ext cx="68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7238880" y="1650600"/>
            <a:ext cx="0" cy="239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1758960" y="1650960"/>
            <a:ext cx="547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1746360" y="1650960"/>
            <a:ext cx="0" cy="200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2316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C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590440" y="423720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6477120" y="4586400"/>
            <a:ext cx="3301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3560" y="46753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6477120" y="51544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6578640" y="4586400"/>
            <a:ext cx="0" cy="88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578640" y="5459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307280" y="5356080"/>
            <a:ext cx="0" cy="262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7432560" y="282564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124400" y="41148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6962040" y="5649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089880" y="35226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76520" y="378000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8197560" y="37418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to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616960" y="2838600"/>
            <a:ext cx="0" cy="167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108320" y="2625840"/>
            <a:ext cx="171720" cy="272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021560" y="2619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108320" y="239544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614760" y="2279520"/>
            <a:ext cx="503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719520" y="2533680"/>
            <a:ext cx="385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659040" y="2830680"/>
            <a:ext cx="4557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302520" y="2639880"/>
            <a:ext cx="17136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302520" y="240840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280040" y="2533680"/>
            <a:ext cx="1533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5813280" y="2533680"/>
            <a:ext cx="0" cy="23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813280" y="2768760"/>
            <a:ext cx="49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4289400" y="2276640"/>
            <a:ext cx="1685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5975280" y="2276640"/>
            <a:ext cx="0" cy="23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81760" y="2511360"/>
            <a:ext cx="33336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4981680" y="2882880"/>
            <a:ext cx="0" cy="15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H="1" flipV="1">
            <a:off x="4279680" y="2869920"/>
            <a:ext cx="701640" cy="3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5726160" y="5883120"/>
            <a:ext cx="280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033880" y="6451560"/>
            <a:ext cx="109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6006960" y="3003120"/>
            <a:ext cx="0" cy="2879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6130800" y="2898720"/>
            <a:ext cx="0" cy="354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5568480" y="3003480"/>
            <a:ext cx="4381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flipV="1">
            <a:off x="5568840" y="2806560"/>
            <a:ext cx="0" cy="209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 flipH="1">
            <a:off x="4282920" y="2806560"/>
            <a:ext cx="1285920" cy="1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5678640" y="2901960"/>
            <a:ext cx="452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V="1">
            <a:off x="5678640" y="2674440"/>
            <a:ext cx="0" cy="227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4279680" y="2674800"/>
            <a:ext cx="139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V="1">
            <a:off x="2449440" y="2674800"/>
            <a:ext cx="180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465280" y="267480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flipH="1">
            <a:off x="6477120" y="2825640"/>
            <a:ext cx="955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8026560" y="266868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480000" y="2495520"/>
            <a:ext cx="1311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7791480" y="2495520"/>
            <a:ext cx="0" cy="27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 flipV="1">
            <a:off x="7791480" y="2765160"/>
            <a:ext cx="231840" cy="3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307280" y="5618160"/>
            <a:ext cx="55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8521560" y="4535640"/>
            <a:ext cx="195480" cy="544320"/>
          </a:xfrm>
          <a:custGeom>
            <a:avLst/>
            <a:gdLst>
              <a:gd name="textAreaLeft" fmla="*/ 9360 w 195480"/>
              <a:gd name="textAreaRight" fmla="*/ 186120 w 19548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075">
                <a:moveTo>
                  <a:pt x="3600" y="0"/>
                </a:moveTo>
                <a:arcTo wR="3600" hR="3600" stAng="16200000" swAng="-5400000"/>
                <a:lnTo>
                  <a:pt x="0" y="56475"/>
                </a:lnTo>
                <a:arcTo wR="3600" hR="3600" stAng="10800000" swAng="-5400000"/>
                <a:lnTo>
                  <a:pt x="18000" y="6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7864560" y="3241440"/>
            <a:ext cx="0" cy="237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 flipH="1">
            <a:off x="7673760" y="324180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7674120" y="2668680"/>
            <a:ext cx="0" cy="573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 flipH="1">
            <a:off x="6476760" y="2668680"/>
            <a:ext cx="1197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 flipH="1">
            <a:off x="6477120" y="2768760"/>
            <a:ext cx="101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8197920" y="2768760"/>
            <a:ext cx="32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 flipV="1">
            <a:off x="8521560" y="2023560"/>
            <a:ext cx="0" cy="744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 flipH="1">
            <a:off x="3048120" y="2023920"/>
            <a:ext cx="5473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046320" y="2023920"/>
            <a:ext cx="1800" cy="1756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048120" y="3780000"/>
            <a:ext cx="428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 flipH="1">
            <a:off x="8197920" y="2838600"/>
            <a:ext cx="41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440000" y="4267080"/>
            <a:ext cx="476280" cy="102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852480" y="454500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696840" y="2077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732840" y="233532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746880" y="25909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274640" y="2075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4280760" y="2335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284360" y="249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254480" y="2612880"/>
            <a:ext cx="37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4808520" y="2830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6446160" y="2317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65462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7392960" y="276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8211960" y="2562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8221320" y="278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360520" y="1033560"/>
            <a:ext cx="17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and $12, 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191120" y="1033560"/>
            <a:ext cx="181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: sub $11, $2, $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6353280" y="103356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: lw $10, 20($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8183520" y="1033560"/>
            <a:ext cx="9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: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451320" y="3940200"/>
            <a:ext cx="476280" cy="1028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2955960" y="429912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 flipH="1">
            <a:off x="8022600" y="2887560"/>
            <a:ext cx="889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108320" y="216360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4282560" y="5592600"/>
            <a:ext cx="3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4680000" y="491004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4282920" y="531324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7321680" y="4416480"/>
            <a:ext cx="476280" cy="9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727680" y="463716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232080" y="2112840"/>
            <a:ext cx="487440" cy="839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572160" y="2892600"/>
            <a:ext cx="15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BFA-9CC7-44FF-8B82-F8C2DEE05D1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ock 5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8126280" y="893520"/>
            <a:ext cx="0" cy="56084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2214720" y="8618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41940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6400800" y="903240"/>
            <a:ext cx="0" cy="5608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70000" y="1046160"/>
            <a:ext cx="17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:add $14, $8, $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543560" y="515304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048120" y="3935520"/>
            <a:ext cx="865080" cy="1030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852480" y="4267080"/>
            <a:ext cx="1063800" cy="10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357200" y="2876400"/>
            <a:ext cx="492120" cy="979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33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H="1">
            <a:off x="2127960" y="287352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92040" y="4267080"/>
            <a:ext cx="293760" cy="598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H="1">
            <a:off x="4107600" y="289260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 flipH="1">
            <a:off x="6304680" y="2870280"/>
            <a:ext cx="17172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6807240" y="4406760"/>
            <a:ext cx="984240" cy="93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>
            <a:off x="8026560" y="2882880"/>
            <a:ext cx="171360" cy="3181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1440360" y="321804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5186520" y="2844720"/>
            <a:ext cx="564480" cy="979200"/>
            <a:chOff x="5186520" y="2844720"/>
            <a:chExt cx="564480" cy="979200"/>
          </a:xfrm>
        </p:grpSpPr>
        <p:sp>
          <p:nvSpPr>
            <p:cNvPr id="2942" name=""/>
            <p:cNvSpPr/>
            <p:nvPr/>
          </p:nvSpPr>
          <p:spPr>
            <a:xfrm>
              <a:off x="5186520" y="2844720"/>
              <a:ext cx="492120" cy="979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117" y="251"/>
                  </a:lnTo>
                  <a:lnTo>
                    <a:pt x="117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289840" y="32367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4" name=""/>
          <p:cNvSpPr/>
          <p:nvPr/>
        </p:nvSpPr>
        <p:spPr>
          <a:xfrm>
            <a:off x="5303880" y="3970440"/>
            <a:ext cx="658800" cy="106812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5530680" y="4275000"/>
            <a:ext cx="385920" cy="366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876920" y="45277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103400" y="36892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68040" y="3403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1916280" y="2768400"/>
            <a:ext cx="0" cy="63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H="1">
            <a:off x="1239480" y="276876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1239840" y="2023560"/>
            <a:ext cx="0" cy="7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239840" y="202392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678640" y="334656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2451240" y="1843200"/>
            <a:ext cx="4356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807240" y="1843200"/>
            <a:ext cx="0" cy="15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1473120" y="2279520"/>
            <a:ext cx="18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1474920" y="227952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859040" y="20779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 flipV="1">
            <a:off x="2128680" y="1727280"/>
            <a:ext cx="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H="1">
            <a:off x="207720" y="172728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08080" y="1727280"/>
            <a:ext cx="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08080" y="45450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85800" y="45608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743040" y="310356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743040" y="310356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916280" y="479412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2309760" y="4794120"/>
            <a:ext cx="1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2449080" y="412740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2451240" y="4124160"/>
            <a:ext cx="5968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2451240" y="436716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2863800" y="4794120"/>
            <a:ext cx="182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2867040" y="4794120"/>
            <a:ext cx="0" cy="1317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3429000" y="4995720"/>
            <a:ext cx="333360" cy="5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2449440" y="53020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789360" y="53020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2867040" y="6111720"/>
            <a:ext cx="5959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8826480" y="4794120"/>
            <a:ext cx="0" cy="1317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8696160" y="4794120"/>
            <a:ext cx="1303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2314440" y="3070080"/>
            <a:ext cx="180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4280040" y="3070080"/>
            <a:ext cx="90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072040" y="4808520"/>
            <a:ext cx="23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280040" y="4146480"/>
            <a:ext cx="1028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3913200" y="41274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913200" y="467532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680000" y="55818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4543560" y="3241800"/>
            <a:ext cx="333360" cy="54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876920" y="35798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4680000" y="3784680"/>
            <a:ext cx="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996160" y="4586400"/>
            <a:ext cx="323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791480" y="467532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8197920" y="467532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8215200" y="5477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 flipV="1">
            <a:off x="8316720" y="4959360"/>
            <a:ext cx="61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8317080" y="4946760"/>
            <a:ext cx="20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967360" y="4367160"/>
            <a:ext cx="316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863000" y="264636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4009320" y="19321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085800" y="205416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7741440" y="244332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3149640" y="5267160"/>
            <a:ext cx="6516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887640" y="5272200"/>
            <a:ext cx="6516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153960" y="50515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3789000" y="5032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473120" y="253368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479920" y="4960800"/>
            <a:ext cx="487440" cy="657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n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2585520" y="506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 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451240" y="55926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465280" y="58658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8215200" y="58737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8335800" y="58831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H="1">
            <a:off x="2600280" y="62262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 flipV="1">
            <a:off x="2600280" y="460332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600280" y="458640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2906280" y="535608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 1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2918880" y="5638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5  1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280040" y="4675320"/>
            <a:ext cx="59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930920" y="544680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280040" y="585612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5126040" y="5719680"/>
            <a:ext cx="11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 flipV="1">
            <a:off x="4680000" y="5306760"/>
            <a:ext cx="7999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 flipV="1">
            <a:off x="4680000" y="4910040"/>
            <a:ext cx="196920" cy="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1849320" y="340344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1916280" y="307008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6477120" y="334656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654200" y="1851120"/>
            <a:ext cx="195120" cy="544320"/>
          </a:xfrm>
          <a:custGeom>
            <a:avLst/>
            <a:gdLst>
              <a:gd name="textAreaLeft" fmla="*/ 9360 w 195120"/>
              <a:gd name="textAreaRight" fmla="*/ 185760 w 19512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186">
                <a:moveTo>
                  <a:pt x="3600" y="0"/>
                </a:moveTo>
                <a:arcTo wR="3600" hR="3600" stAng="16200000" swAng="-5400000"/>
                <a:lnTo>
                  <a:pt x="0" y="56586"/>
                </a:lnTo>
                <a:arcTo wR="3600" hR="3600" stAng="10800000" swAng="-5400000"/>
                <a:lnTo>
                  <a:pt x="18000" y="601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2451240" y="1851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 flipV="1">
            <a:off x="5716440" y="4808160"/>
            <a:ext cx="0" cy="157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6875640" y="3873600"/>
            <a:ext cx="295200" cy="36360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6477120" y="436716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6707160" y="4127400"/>
            <a:ext cx="0" cy="239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6707160" y="4133880"/>
            <a:ext cx="1684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 flipV="1">
            <a:off x="6578640" y="3968280"/>
            <a:ext cx="30960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6578640" y="2768400"/>
            <a:ext cx="0" cy="1191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6510600" y="368784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4981680" y="4408560"/>
            <a:ext cx="0" cy="119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634280" y="4165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ALUS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5033880" y="5991120"/>
            <a:ext cx="0" cy="447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248440" y="62262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egD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5726160" y="5616720"/>
            <a:ext cx="0" cy="266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482440" y="585468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LU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7170840" y="4048200"/>
            <a:ext cx="68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V="1">
            <a:off x="7238880" y="1650600"/>
            <a:ext cx="0" cy="2397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1758960" y="1650960"/>
            <a:ext cx="5479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1746360" y="1650960"/>
            <a:ext cx="0" cy="200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723168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CSr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5590440" y="4237200"/>
            <a:ext cx="41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z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6477120" y="4586400"/>
            <a:ext cx="330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4543560" y="46753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6477120" y="51544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6578640" y="4586400"/>
            <a:ext cx="0" cy="885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6578640" y="5459400"/>
            <a:ext cx="14479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307280" y="5356080"/>
            <a:ext cx="0" cy="262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7432560" y="282564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7124400" y="411480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Wr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962040" y="5649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089880" y="35226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3476520" y="378000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8197560" y="37418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emto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8616960" y="2838600"/>
            <a:ext cx="0" cy="167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4108320" y="2625840"/>
            <a:ext cx="171720" cy="272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021560" y="26193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4108320" y="239544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3614760" y="2279520"/>
            <a:ext cx="5032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3719520" y="2533680"/>
            <a:ext cx="385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3656160" y="2825640"/>
            <a:ext cx="455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6305400" y="263988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6305400" y="2408400"/>
            <a:ext cx="1717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4280040" y="2533680"/>
            <a:ext cx="1533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5813280" y="2533680"/>
            <a:ext cx="0" cy="23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5813280" y="2768760"/>
            <a:ext cx="49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4289400" y="2276640"/>
            <a:ext cx="16858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5975280" y="2276640"/>
            <a:ext cx="0" cy="234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5981760" y="2511360"/>
            <a:ext cx="33336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4981680" y="2876400"/>
            <a:ext cx="0" cy="1563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 flipH="1">
            <a:off x="4279680" y="2870280"/>
            <a:ext cx="701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726160" y="5883120"/>
            <a:ext cx="280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5033880" y="6451560"/>
            <a:ext cx="1096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 flipV="1">
            <a:off x="6006960" y="3003120"/>
            <a:ext cx="0" cy="2879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6130800" y="2898720"/>
            <a:ext cx="0" cy="3540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 flipH="1">
            <a:off x="5568480" y="3003480"/>
            <a:ext cx="4381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 flipV="1">
            <a:off x="5568840" y="2819520"/>
            <a:ext cx="0" cy="1965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flipH="1">
            <a:off x="4292280" y="2819520"/>
            <a:ext cx="1276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 flipH="1">
            <a:off x="5678640" y="2901960"/>
            <a:ext cx="4521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 flipV="1">
            <a:off x="5678640" y="2674440"/>
            <a:ext cx="0" cy="227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 flipH="1">
            <a:off x="4279680" y="2674800"/>
            <a:ext cx="139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 flipV="1">
            <a:off x="2449440" y="2674800"/>
            <a:ext cx="180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465280" y="267480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 flipH="1">
            <a:off x="6477120" y="2825640"/>
            <a:ext cx="955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8026560" y="2668680"/>
            <a:ext cx="1713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6480000" y="2495520"/>
            <a:ext cx="1311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7791480" y="2495520"/>
            <a:ext cx="0" cy="2732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7791480" y="2768760"/>
            <a:ext cx="2350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307280" y="5618160"/>
            <a:ext cx="55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8521560" y="4535640"/>
            <a:ext cx="195480" cy="544320"/>
          </a:xfrm>
          <a:custGeom>
            <a:avLst/>
            <a:gdLst>
              <a:gd name="textAreaLeft" fmla="*/ 9360 w 195480"/>
              <a:gd name="textAreaRight" fmla="*/ 186120 w 195480"/>
              <a:gd name="textAreaTop" fmla="*/ 9360 h 544320"/>
              <a:gd name="textAreaBottom" fmla="*/ 534960 h 544320"/>
            </a:gdLst>
            <a:ahLst/>
            <a:rect l="textAreaLeft" t="textAreaTop" r="textAreaRight" b="textAreaBottom"/>
            <a:pathLst>
              <a:path w="21600" h="60075">
                <a:moveTo>
                  <a:pt x="3600" y="0"/>
                </a:moveTo>
                <a:arcTo wR="3600" hR="3600" stAng="16200000" swAng="-5400000"/>
                <a:lnTo>
                  <a:pt x="0" y="56475"/>
                </a:lnTo>
                <a:arcTo wR="3600" hR="3600" stAng="10800000" swAng="-5400000"/>
                <a:lnTo>
                  <a:pt x="18000" y="6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V="1">
            <a:off x="7864560" y="3241440"/>
            <a:ext cx="0" cy="237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7673760" y="324180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 flipV="1">
            <a:off x="7674120" y="2668680"/>
            <a:ext cx="0" cy="573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>
            <a:off x="6476760" y="2668680"/>
            <a:ext cx="1197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6477120" y="2768760"/>
            <a:ext cx="101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8197920" y="2768760"/>
            <a:ext cx="32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8521560" y="2023560"/>
            <a:ext cx="0" cy="744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3048120" y="2023920"/>
            <a:ext cx="5473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046320" y="2023920"/>
            <a:ext cx="1800" cy="1756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3048120" y="3780000"/>
            <a:ext cx="428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>
            <a:off x="8197920" y="2838600"/>
            <a:ext cx="41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1440000" y="4267080"/>
            <a:ext cx="476280" cy="1028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852480" y="454500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696840" y="20779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732840" y="233532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3746880" y="2590920"/>
            <a:ext cx="25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274640" y="2075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4280760" y="2335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4284360" y="2495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4254480" y="2666880"/>
            <a:ext cx="37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4754520" y="2857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6536520" y="231768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546240" y="2495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535440" y="2876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8211960" y="2562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8221320" y="2787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360520" y="1033560"/>
            <a:ext cx="17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or $13, $6,$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4191120" y="1033560"/>
            <a:ext cx="20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:and $12, $4, $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6353280" y="103356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:sub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8183520" y="1033560"/>
            <a:ext cx="96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B:  l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955960" y="429912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4108320" y="2163600"/>
            <a:ext cx="1717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 flipH="1">
            <a:off x="4282560" y="5592600"/>
            <a:ext cx="3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4680000" y="491004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 flipH="1">
            <a:off x="4282920" y="531324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727680" y="463716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232080" y="2112840"/>
            <a:ext cx="487440" cy="839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7463880" y="28908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3BA-8F82-4DCC-A483-FD608028454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Example: Exception in the Pipelined Datapath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4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b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1, $2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44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2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48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or   $13, $2, $6</a:t>
            </a:r>
            <a:br>
              <a:rPr sz="2600"/>
            </a:b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0x4C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add 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$1, 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$2, 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urier New"/>
              </a:rPr>
              <a:t>$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5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lt  $15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6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7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54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   $16,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($7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se an overflow exception occurs i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nstruction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ception handling routi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4000004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5, 1000($0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x40000044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6, 1004($0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CB2-C7C5-44D0-872C-C32D2904C86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clock 6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36" name=""/>
          <p:cNvSpPr/>
          <p:nvPr/>
        </p:nvSpPr>
        <p:spPr>
          <a:xfrm>
            <a:off x="4724280" y="898560"/>
            <a:ext cx="1729080" cy="559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441600" y="3803760"/>
            <a:ext cx="600120" cy="9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1047600" y="4118040"/>
            <a:ext cx="76860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1387440" y="2863800"/>
            <a:ext cx="379440" cy="925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047600" y="4379760"/>
            <a:ext cx="768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2013840" y="2792520"/>
            <a:ext cx="166680" cy="30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598320" y="4118040"/>
            <a:ext cx="287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241800" y="4148280"/>
            <a:ext cx="103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4643280" y="2809800"/>
            <a:ext cx="168480" cy="30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6365160" y="2797200"/>
            <a:ext cx="166680" cy="30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7002360" y="3919680"/>
            <a:ext cx="819360" cy="88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8043120" y="2809800"/>
            <a:ext cx="166680" cy="30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480680" y="3165480"/>
            <a:ext cx="3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5646600" y="3621240"/>
            <a:ext cx="403200" cy="11379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5602320" y="3784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5221440" y="4292640"/>
            <a:ext cx="190440" cy="51444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440"/>
              <a:gd name="textAreaBottom" fmla="*/ 505440 h 514440"/>
            </a:gdLst>
            <a:ahLst/>
            <a:rect l="textAreaLeft" t="textAreaTop" r="textAreaRight" b="textAreaBottom"/>
            <a:pathLst>
              <a:path w="21600" h="58279">
                <a:moveTo>
                  <a:pt x="3600" y="0"/>
                </a:moveTo>
                <a:arcTo wR="3600" hR="3600" stAng="16200000" swAng="-5400000"/>
                <a:lnTo>
                  <a:pt x="0" y="54679"/>
                </a:lnTo>
                <a:arcTo wR="3600" hR="3600" stAng="10800000" swAng="-5400000"/>
                <a:lnTo>
                  <a:pt x="18000" y="58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1155600" y="3595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046160" y="36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V="1">
            <a:off x="1846440" y="2701800"/>
            <a:ext cx="0" cy="6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941400" y="2701800"/>
            <a:ext cx="90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928800" y="2253960"/>
            <a:ext cx="612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934920" y="225252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544760" y="210996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V="1">
            <a:off x="1778040" y="1717560"/>
            <a:ext cx="0" cy="3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418680" y="17175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19040" y="1717560"/>
            <a:ext cx="0" cy="26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419040" y="43797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885960" y="4395960"/>
            <a:ext cx="16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V="1">
            <a:off x="941400" y="301788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941400" y="3017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1816200" y="461808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181240" y="46134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2330280" y="3994200"/>
            <a:ext cx="1800" cy="14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325600" y="4073400"/>
            <a:ext cx="11257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332080" y="427356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2797200" y="46134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2952720" y="4840200"/>
            <a:ext cx="324000" cy="51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2332080" y="509580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3276720" y="509580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2752560" y="6199200"/>
            <a:ext cx="471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V="1">
            <a:off x="8823240" y="4615920"/>
            <a:ext cx="0" cy="14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8695800" y="461628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5416560" y="45482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4044960" y="390204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4046400" y="467352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818240" y="538308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2724120" y="3443400"/>
            <a:ext cx="325440" cy="51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6059520" y="420372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813800" y="450360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8210520" y="45036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8228160" y="5261040"/>
            <a:ext cx="1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 flipV="1">
            <a:off x="8332920" y="47592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8326440" y="47592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1850400" y="2465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4484160" y="192420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6169680" y="209880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7755840" y="239400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934320" y="4203720"/>
            <a:ext cx="103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2332080" y="5383080"/>
            <a:ext cx="231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2332080" y="5491080"/>
            <a:ext cx="232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8228160" y="5635800"/>
            <a:ext cx="1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8345520" y="56451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2796840" y="6113520"/>
            <a:ext cx="602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V="1">
            <a:off x="2797200" y="4613040"/>
            <a:ext cx="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V="1">
            <a:off x="2752560" y="4430520"/>
            <a:ext cx="6987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221440" y="5176800"/>
            <a:ext cx="118800" cy="432000"/>
          </a:xfrm>
          <a:custGeom>
            <a:avLst/>
            <a:gdLst>
              <a:gd name="textAreaLeft" fmla="*/ 5760 w 118800"/>
              <a:gd name="textAreaRight" fmla="*/ 113040 w 118800"/>
              <a:gd name="textAreaTop" fmla="*/ 5760 h 432000"/>
              <a:gd name="textAreaBottom" fmla="*/ 426240 h 432000"/>
            </a:gdLst>
            <a:ahLst/>
            <a:rect l="textAreaLeft" t="textAreaTop" r="textAreaRight" b="textAreaBottom"/>
            <a:pathLst>
              <a:path w="21600" h="78373">
                <a:moveTo>
                  <a:pt x="3600" y="0"/>
                </a:moveTo>
                <a:arcTo wR="3600" hR="3600" stAng="16200000" swAng="-5400000"/>
                <a:lnTo>
                  <a:pt x="0" y="74773"/>
                </a:lnTo>
                <a:arcTo wR="3600" hR="3600" stAng="10800000" swAng="-5400000"/>
                <a:lnTo>
                  <a:pt x="18000" y="7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340240" y="5383080"/>
            <a:ext cx="102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1774440" y="3328920"/>
            <a:ext cx="6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1852560" y="301320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1349280" y="1846440"/>
            <a:ext cx="190440" cy="5140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080"/>
              <a:gd name="textAreaBottom" fmla="*/ 505080 h 514080"/>
            </a:gdLst>
            <a:ahLst/>
            <a:rect l="textAreaLeft" t="textAreaTop" r="textAreaRight" b="textAreaBottom"/>
            <a:pathLst>
              <a:path w="21600" h="58238">
                <a:moveTo>
                  <a:pt x="3600" y="0"/>
                </a:moveTo>
                <a:arcTo wR="3600" hR="3600" stAng="16200000" swAng="-5400000"/>
                <a:lnTo>
                  <a:pt x="0" y="54638"/>
                </a:lnTo>
                <a:arcTo wR="3600" hR="3600" stAng="10800000" swAng="-5400000"/>
                <a:lnTo>
                  <a:pt x="18000" y="5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6540480" y="4203720"/>
            <a:ext cx="46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4646520" y="450360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6532560" y="5384880"/>
            <a:ext cx="11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630840" y="419400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630840" y="52452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3440520" y="35370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643280" y="2550960"/>
            <a:ext cx="168480" cy="258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4566240" y="25509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4643280" y="2333520"/>
            <a:ext cx="1684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4643280" y="2116080"/>
            <a:ext cx="1684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2744640" y="2109960"/>
            <a:ext cx="474840" cy="79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4389480" y="2252520"/>
            <a:ext cx="268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4389480" y="2479680"/>
            <a:ext cx="237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4389480" y="2701800"/>
            <a:ext cx="25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362640" y="2579760"/>
            <a:ext cx="1666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6362640" y="2360520"/>
            <a:ext cx="1666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4818240" y="2479680"/>
            <a:ext cx="255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5884920" y="2638440"/>
            <a:ext cx="480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4811760" y="2236680"/>
            <a:ext cx="171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146640" y="2155680"/>
            <a:ext cx="0" cy="303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 flipV="1">
            <a:off x="6146640" y="2458800"/>
            <a:ext cx="227160" cy="6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 flipV="1">
            <a:off x="2330280" y="2612520"/>
            <a:ext cx="1800" cy="13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2328840" y="252252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8043840" y="2606760"/>
            <a:ext cx="1666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6535800" y="2503440"/>
            <a:ext cx="1278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7813800" y="2503440"/>
            <a:ext cx="0" cy="198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7813800" y="270180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8526600" y="4371840"/>
            <a:ext cx="190440" cy="51444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440"/>
              <a:gd name="textAreaBottom" fmla="*/ 505440 h 514440"/>
            </a:gdLst>
            <a:ahLst/>
            <a:rect l="textAreaLeft" t="textAreaTop" r="textAreaRight" b="textAreaBottom"/>
            <a:pathLst>
              <a:path w="21600" h="58279">
                <a:moveTo>
                  <a:pt x="3600" y="0"/>
                </a:moveTo>
                <a:arcTo wR="3600" hR="3600" stAng="16200000" swAng="-5400000"/>
                <a:lnTo>
                  <a:pt x="0" y="54679"/>
                </a:lnTo>
                <a:arcTo wR="3600" hR="3600" stAng="10800000" swAng="-5400000"/>
                <a:lnTo>
                  <a:pt x="18000" y="58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8210520" y="2701800"/>
            <a:ext cx="190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 flipV="1">
            <a:off x="8400960" y="1827000"/>
            <a:ext cx="0" cy="874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 flipH="1">
            <a:off x="3774960" y="1827360"/>
            <a:ext cx="462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3774960" y="1827360"/>
            <a:ext cx="0" cy="1976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2752560" y="1371600"/>
            <a:ext cx="733680" cy="5284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 flipH="1">
            <a:off x="763560" y="1484280"/>
            <a:ext cx="2005200" cy="7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746280" y="1484280"/>
            <a:ext cx="0" cy="26416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 flipH="1">
            <a:off x="2096640" y="1627200"/>
            <a:ext cx="647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2097000" y="1616040"/>
            <a:ext cx="0" cy="11667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 flipV="1">
            <a:off x="2332080" y="182736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332080" y="182736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3189240" y="2867040"/>
            <a:ext cx="252360" cy="7221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4194000" y="4062240"/>
            <a:ext cx="25272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4321080" y="45144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4321080" y="3905280"/>
            <a:ext cx="0" cy="15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3387600" y="4784400"/>
            <a:ext cx="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 flipH="1">
            <a:off x="2860560" y="47847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2860560" y="395604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860560" y="3403080"/>
            <a:ext cx="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2860560" y="340344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2181240" y="3013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2606760" y="1900080"/>
            <a:ext cx="1620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606760" y="2130480"/>
            <a:ext cx="0" cy="37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818240" y="55134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870440" y="5383080"/>
            <a:ext cx="0" cy="4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 flipH="1">
            <a:off x="2606760" y="5861160"/>
            <a:ext cx="22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416560" y="5572080"/>
            <a:ext cx="730080" cy="4208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Forwar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2752560" y="443088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395440" y="4073400"/>
            <a:ext cx="0" cy="15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2395440" y="5635800"/>
            <a:ext cx="22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2498760" y="4273560"/>
            <a:ext cx="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flipV="1">
            <a:off x="2498760" y="5743440"/>
            <a:ext cx="214776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4818240" y="564516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4811760" y="575316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3206520" y="3076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014720" y="2610000"/>
            <a:ext cx="190440" cy="5140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080"/>
              <a:gd name="textAreaBottom" fmla="*/ 505080 h 514080"/>
            </a:gdLst>
            <a:ahLst/>
            <a:rect l="textAreaLeft" t="textAreaTop" r="textAreaRight" b="textAreaBottom"/>
            <a:pathLst>
              <a:path w="21600" h="58238">
                <a:moveTo>
                  <a:pt x="3600" y="0"/>
                </a:moveTo>
                <a:arcTo wR="3600" hR="3600" stAng="16200000" swAng="-5400000"/>
                <a:lnTo>
                  <a:pt x="0" y="54638"/>
                </a:lnTo>
                <a:arcTo wR="3600" hR="3600" stAng="10800000" swAng="-5400000"/>
                <a:lnTo>
                  <a:pt x="18000" y="5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4389480" y="2257200"/>
            <a:ext cx="0" cy="22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3189240" y="2717640"/>
            <a:ext cx="825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3440160" y="324792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3616200" y="131760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1155240" y="1317600"/>
            <a:ext cx="24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flipV="1">
            <a:off x="1155600" y="1317600"/>
            <a:ext cx="0" cy="22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3457440" y="2981160"/>
            <a:ext cx="5605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3360240" y="273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5226120" y="3533760"/>
            <a:ext cx="190440" cy="51444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440"/>
              <a:gd name="textAreaBottom" fmla="*/ 505440 h 514440"/>
            </a:gdLst>
            <a:ahLst/>
            <a:rect l="textAreaLeft" t="textAreaTop" r="textAreaRight" b="textAreaBottom"/>
            <a:pathLst>
              <a:path w="21600" h="58279">
                <a:moveTo>
                  <a:pt x="3600" y="0"/>
                </a:moveTo>
                <a:arcTo wR="3600" hR="3600" stAng="16200000" swAng="-5400000"/>
                <a:lnTo>
                  <a:pt x="0" y="54679"/>
                </a:lnTo>
                <a:arcTo wR="3600" hR="3600" stAng="10800000" swAng="-5400000"/>
                <a:lnTo>
                  <a:pt x="18000" y="58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421240" y="380052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5467320" y="5100480"/>
            <a:ext cx="0" cy="4716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 flipV="1">
            <a:off x="5518080" y="4233600"/>
            <a:ext cx="0" cy="13381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5313240" y="5100480"/>
            <a:ext cx="154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flipV="1">
            <a:off x="5313240" y="4806720"/>
            <a:ext cx="0" cy="2934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5312880" y="4232160"/>
            <a:ext cx="2048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5313240" y="4033440"/>
            <a:ext cx="0" cy="1983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917960" y="362124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983120" y="603720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4917960" y="362124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4817880" y="3902040"/>
            <a:ext cx="9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4917960" y="4395960"/>
            <a:ext cx="3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4917960" y="43959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H="1">
            <a:off x="4817880" y="4675320"/>
            <a:ext cx="9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4983120" y="3795840"/>
            <a:ext cx="0" cy="22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983120" y="379584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983120" y="456552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V="1">
            <a:off x="5073480" y="395568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073480" y="3956040"/>
            <a:ext cx="14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073480" y="4724280"/>
            <a:ext cx="14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6724800" y="53830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 flipH="1">
            <a:off x="6146640" y="581652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H="1">
            <a:off x="6146280" y="5905440"/>
            <a:ext cx="218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6854760" y="2503440"/>
            <a:ext cx="0" cy="395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H="1">
            <a:off x="5665680" y="6458040"/>
            <a:ext cx="118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5651640" y="5992920"/>
            <a:ext cx="0" cy="465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7464600" y="590544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8400960" y="2701800"/>
            <a:ext cx="0" cy="3611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884920" y="6313320"/>
            <a:ext cx="2516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5884920" y="5992920"/>
            <a:ext cx="0" cy="320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>
            <a:off x="2180880" y="2257560"/>
            <a:ext cx="617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V="1">
            <a:off x="2181240" y="1371240"/>
            <a:ext cx="0" cy="88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>
            <a:off x="315720" y="1371600"/>
            <a:ext cx="1865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16080" y="1371600"/>
            <a:ext cx="0" cy="4273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316080" y="5635800"/>
            <a:ext cx="1698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432720" y="568008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F.FL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flipV="1">
            <a:off x="5073480" y="161568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H="1">
            <a:off x="3485880" y="1616040"/>
            <a:ext cx="15872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7434360" y="588024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6702480" y="535932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6613560" y="417348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6603840" y="5219640"/>
            <a:ext cx="5904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849920" y="5357880"/>
            <a:ext cx="58680" cy="5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5045040" y="469260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951440" y="4538520"/>
            <a:ext cx="58680" cy="5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048280" y="245268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4361040" y="244800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3357720" y="507528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297320" y="387684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292640" y="4649760"/>
            <a:ext cx="58680" cy="5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374920" y="404352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470320" y="4248000"/>
            <a:ext cx="58680" cy="5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2297160" y="506736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300400" y="5357880"/>
            <a:ext cx="58680" cy="5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912960" y="436392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6826320" y="248292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8369280" y="268452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389480" y="2465280"/>
            <a:ext cx="0" cy="401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 flipH="1">
            <a:off x="4205160" y="2867040"/>
            <a:ext cx="1843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4361040" y="268452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 rot="16200000">
            <a:off x="3918600" y="2145240"/>
            <a:ext cx="373320" cy="307800"/>
          </a:xfrm>
          <a:prstGeom prst="flowChartOnlineStorag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4111560" y="2490840"/>
            <a:ext cx="0" cy="12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219480" y="2503440"/>
            <a:ext cx="666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3886200" y="2027160"/>
            <a:ext cx="0" cy="48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886200" y="2027160"/>
            <a:ext cx="131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4014720" y="2027160"/>
            <a:ext cx="0" cy="128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3710160" y="1335240"/>
            <a:ext cx="0" cy="941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 flipV="1">
            <a:off x="3188880" y="2276640"/>
            <a:ext cx="52092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3184920" y="2289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D.Flu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5372280" y="1898640"/>
            <a:ext cx="190440" cy="5158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5880"/>
              <a:gd name="textAreaBottom" fmla="*/ 506880 h 515880"/>
            </a:gdLst>
            <a:ahLst/>
            <a:rect l="textAreaLeft" t="textAreaTop" r="textAreaRight" b="textAreaBottom"/>
            <a:pathLst>
              <a:path w="21600" h="58442">
                <a:moveTo>
                  <a:pt x="3600" y="0"/>
                </a:moveTo>
                <a:arcTo wR="3600" hR="3600" stAng="16200000" swAng="-5400000"/>
                <a:lnTo>
                  <a:pt x="0" y="54842"/>
                </a:lnTo>
                <a:arcTo wR="3600" hR="3600" stAng="10800000" swAng="-5400000"/>
                <a:lnTo>
                  <a:pt x="18000" y="58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 flipV="1">
            <a:off x="4983120" y="2030400"/>
            <a:ext cx="0" cy="209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 flipV="1">
            <a:off x="4983120" y="2026800"/>
            <a:ext cx="389160" cy="3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5562720" y="2155680"/>
            <a:ext cx="583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5694480" y="2359080"/>
            <a:ext cx="190440" cy="5158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5880"/>
              <a:gd name="textAreaBottom" fmla="*/ 506880 h 515880"/>
            </a:gdLst>
            <a:ahLst/>
            <a:rect l="textAreaLeft" t="textAreaTop" r="textAreaRight" b="textAreaBottom"/>
            <a:pathLst>
              <a:path w="21600" h="58442">
                <a:moveTo>
                  <a:pt x="3600" y="0"/>
                </a:moveTo>
                <a:arcTo wR="3600" hR="3600" stAng="16200000" swAng="-5400000"/>
                <a:lnTo>
                  <a:pt x="0" y="54842"/>
                </a:lnTo>
                <a:arcTo wR="3600" hR="3600" stAng="10800000" swAng="-5400000"/>
                <a:lnTo>
                  <a:pt x="18000" y="58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073480" y="2479680"/>
            <a:ext cx="621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5187960" y="2289240"/>
            <a:ext cx="189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5072040" y="2098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5508720" y="2766960"/>
            <a:ext cx="188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400360" y="257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3710160" y="1335240"/>
            <a:ext cx="2074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784840" y="1335240"/>
            <a:ext cx="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467320" y="1335240"/>
            <a:ext cx="0" cy="563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3927600" y="131112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X.Fl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5057640" y="3119400"/>
            <a:ext cx="39240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5048280" y="2824200"/>
            <a:ext cx="3920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818240" y="3259080"/>
            <a:ext cx="23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2054160" y="890640"/>
            <a:ext cx="0" cy="55958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4724280" y="898560"/>
            <a:ext cx="0" cy="55958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6453360" y="865080"/>
            <a:ext cx="0" cy="5596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8131320" y="890640"/>
            <a:ext cx="0" cy="55958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495720" y="90324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w $16, 50($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2674080" y="90324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t $15, $6, $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4992120" y="90324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d $1, $2, $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6841080" y="90324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$13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6121440" y="479520"/>
            <a:ext cx="812880" cy="466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6881760" y="236520"/>
            <a:ext cx="197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using an ex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486240" y="1717560"/>
            <a:ext cx="707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194000" y="1717560"/>
            <a:ext cx="0" cy="451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E76-5D3A-4607-A6F8-A705578891A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clock 7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378" name=""/>
          <p:cNvSpPr/>
          <p:nvPr/>
        </p:nvSpPr>
        <p:spPr>
          <a:xfrm>
            <a:off x="212760" y="927000"/>
            <a:ext cx="1781280" cy="5559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6350040" y="890640"/>
            <a:ext cx="1677960" cy="560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4608360" y="898560"/>
            <a:ext cx="1741680" cy="558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1994040" y="890640"/>
            <a:ext cx="2627280" cy="560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338640" y="3803760"/>
            <a:ext cx="600120" cy="9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944640" y="4118040"/>
            <a:ext cx="76824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1284120" y="2863800"/>
            <a:ext cx="379440" cy="9255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944640" y="4379760"/>
            <a:ext cx="768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struction Mem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 flipH="1">
            <a:off x="1910520" y="2792520"/>
            <a:ext cx="166680" cy="30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495360" y="4118040"/>
            <a:ext cx="28728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3138480" y="4148280"/>
            <a:ext cx="103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 flipH="1">
            <a:off x="4539600" y="2809800"/>
            <a:ext cx="168120" cy="30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 flipH="1">
            <a:off x="6261840" y="2797200"/>
            <a:ext cx="166680" cy="30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899400" y="3919680"/>
            <a:ext cx="819000" cy="88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7939800" y="2809800"/>
            <a:ext cx="166680" cy="30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377720" y="3165480"/>
            <a:ext cx="32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543640" y="3621240"/>
            <a:ext cx="403200" cy="11379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5499000" y="37846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118120" y="4292640"/>
            <a:ext cx="190440" cy="51444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440"/>
              <a:gd name="textAreaBottom" fmla="*/ 505440 h 514440"/>
            </a:gdLst>
            <a:ahLst/>
            <a:rect l="textAreaLeft" t="textAreaTop" r="textAreaRight" b="textAreaBottom"/>
            <a:pathLst>
              <a:path w="21600" h="58279">
                <a:moveTo>
                  <a:pt x="3600" y="0"/>
                </a:moveTo>
                <a:arcTo wR="3600" hR="3600" stAng="16200000" swAng="-5400000"/>
                <a:lnTo>
                  <a:pt x="0" y="54679"/>
                </a:lnTo>
                <a:arcTo wR="3600" hR="3600" stAng="10800000" swAng="-5400000"/>
                <a:lnTo>
                  <a:pt x="18000" y="58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052640" y="3595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942840" y="36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 flipV="1">
            <a:off x="1743120" y="2701800"/>
            <a:ext cx="0" cy="6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H="1">
            <a:off x="838080" y="2701800"/>
            <a:ext cx="90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825480" y="2253960"/>
            <a:ext cx="648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831960" y="225252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441440" y="210996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1674720" y="1717560"/>
            <a:ext cx="0" cy="39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316080" y="1717560"/>
            <a:ext cx="135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16080" y="1717560"/>
            <a:ext cx="0" cy="26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16080" y="43797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782640" y="439596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838080" y="301788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838080" y="3017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712880" y="461808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077920" y="461340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227320" y="3994200"/>
            <a:ext cx="1440" cy="149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222640" y="4073400"/>
            <a:ext cx="11253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2228760" y="427356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693880" y="46134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849400" y="4840200"/>
            <a:ext cx="324000" cy="51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g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228760" y="509580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3173400" y="50958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649600" y="6199200"/>
            <a:ext cx="471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8720280" y="4615920"/>
            <a:ext cx="0" cy="14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8592840" y="461628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313240" y="4548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3941640" y="390204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3943440" y="4673520"/>
            <a:ext cx="60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4714920" y="538308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20800" y="3443400"/>
            <a:ext cx="325440" cy="51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ft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5956200" y="4203720"/>
            <a:ext cx="31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7710480" y="4503600"/>
            <a:ext cx="230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8107200" y="4503600"/>
            <a:ext cx="3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8124840" y="5261040"/>
            <a:ext cx="1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8229600" y="47592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8223120" y="47592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747080" y="2465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F/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4380840" y="192420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/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066720" y="2098800"/>
            <a:ext cx="7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/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7652520" y="239400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M/W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6831000" y="4203720"/>
            <a:ext cx="103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228760" y="5383080"/>
            <a:ext cx="231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228760" y="5491080"/>
            <a:ext cx="232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8124840" y="5635800"/>
            <a:ext cx="1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8242200" y="56451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 flipH="1">
            <a:off x="2693880" y="6113520"/>
            <a:ext cx="602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2693880" y="4613040"/>
            <a:ext cx="0" cy="15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2649600" y="4430520"/>
            <a:ext cx="6984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5118120" y="5176800"/>
            <a:ext cx="119160" cy="432000"/>
          </a:xfrm>
          <a:custGeom>
            <a:avLst/>
            <a:gdLst>
              <a:gd name="textAreaLeft" fmla="*/ 5760 w 119160"/>
              <a:gd name="textAreaRight" fmla="*/ 113400 w 119160"/>
              <a:gd name="textAreaTop" fmla="*/ 5760 h 432000"/>
              <a:gd name="textAreaBottom" fmla="*/ 426240 h 432000"/>
            </a:gdLst>
            <a:ahLst/>
            <a:rect l="textAreaLeft" t="textAreaTop" r="textAreaRight" b="textAreaBottom"/>
            <a:pathLst>
              <a:path w="21600" h="78137">
                <a:moveTo>
                  <a:pt x="3600" y="0"/>
                </a:moveTo>
                <a:arcTo wR="3600" hR="3600" stAng="16200000" swAng="-5400000"/>
                <a:lnTo>
                  <a:pt x="0" y="74537"/>
                </a:lnTo>
                <a:arcTo wR="3600" hR="3600" stAng="10800000" swAng="-5400000"/>
                <a:lnTo>
                  <a:pt x="18000" y="78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5237280" y="5383080"/>
            <a:ext cx="102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671120" y="3328920"/>
            <a:ext cx="6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749600" y="301320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246320" y="1846440"/>
            <a:ext cx="190440" cy="5140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080"/>
              <a:gd name="textAreaBottom" fmla="*/ 505080 h 514080"/>
            </a:gdLst>
            <a:ahLst/>
            <a:rect l="textAreaLeft" t="textAreaTop" r="textAreaRight" b="textAreaBottom"/>
            <a:pathLst>
              <a:path w="21600" h="58238">
                <a:moveTo>
                  <a:pt x="3600" y="0"/>
                </a:moveTo>
                <a:arcTo wR="3600" hR="3600" stAng="16200000" swAng="-5400000"/>
                <a:lnTo>
                  <a:pt x="0" y="54638"/>
                </a:lnTo>
                <a:arcTo wR="3600" hR="3600" stAng="10800000" swAng="-5400000"/>
                <a:lnTo>
                  <a:pt x="18000" y="5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6437160" y="420372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4543560" y="4503600"/>
            <a:ext cx="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429240" y="5384880"/>
            <a:ext cx="116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527880" y="419400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6527880" y="5245200"/>
            <a:ext cx="141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337200" y="353700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g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4540320" y="2550960"/>
            <a:ext cx="168120" cy="258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4462920" y="255096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4540320" y="2333520"/>
            <a:ext cx="16812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540320" y="2116080"/>
            <a:ext cx="16812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2641680" y="2109960"/>
            <a:ext cx="474480" cy="79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4286160" y="2252520"/>
            <a:ext cx="268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4286160" y="2479680"/>
            <a:ext cx="2383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4286160" y="2701800"/>
            <a:ext cx="2574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6259680" y="2579760"/>
            <a:ext cx="1666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259680" y="2360520"/>
            <a:ext cx="1666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4714920" y="2479680"/>
            <a:ext cx="255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781600" y="2638440"/>
            <a:ext cx="480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4708440" y="2236680"/>
            <a:ext cx="171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6043680" y="2155680"/>
            <a:ext cx="0" cy="303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 flipV="1">
            <a:off x="6043680" y="2458800"/>
            <a:ext cx="226800" cy="6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 flipV="1">
            <a:off x="2227320" y="2612520"/>
            <a:ext cx="1440" cy="13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2225520" y="2522520"/>
            <a:ext cx="40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7940520" y="2606760"/>
            <a:ext cx="166680" cy="217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W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6432480" y="2503440"/>
            <a:ext cx="1278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710480" y="2503440"/>
            <a:ext cx="0" cy="198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7710480" y="2701800"/>
            <a:ext cx="230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8423280" y="4371840"/>
            <a:ext cx="190440" cy="51444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440"/>
              <a:gd name="textAreaBottom" fmla="*/ 505440 h 514440"/>
            </a:gdLst>
            <a:ahLst/>
            <a:rect l="textAreaLeft" t="textAreaTop" r="textAreaRight" b="textAreaBottom"/>
            <a:pathLst>
              <a:path w="21600" h="58279">
                <a:moveTo>
                  <a:pt x="3600" y="0"/>
                </a:moveTo>
                <a:arcTo wR="3600" hR="3600" stAng="16200000" swAng="-5400000"/>
                <a:lnTo>
                  <a:pt x="0" y="54679"/>
                </a:lnTo>
                <a:arcTo wR="3600" hR="3600" stAng="10800000" swAng="-5400000"/>
                <a:lnTo>
                  <a:pt x="18000" y="58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8107200" y="2701800"/>
            <a:ext cx="190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8298000" y="1827000"/>
            <a:ext cx="0" cy="874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 flipH="1">
            <a:off x="3672000" y="1827360"/>
            <a:ext cx="462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3672000" y="1827360"/>
            <a:ext cx="0" cy="1976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2649600" y="1371600"/>
            <a:ext cx="733320" cy="5284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 flipH="1">
            <a:off x="660240" y="1484280"/>
            <a:ext cx="2005200" cy="7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42960" y="1484280"/>
            <a:ext cx="0" cy="26416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H="1">
            <a:off x="1993680" y="1627200"/>
            <a:ext cx="647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1994040" y="1616040"/>
            <a:ext cx="0" cy="11667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2228760" y="182736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2228760" y="182736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3086280" y="2867040"/>
            <a:ext cx="252360" cy="722160"/>
          </a:xfrm>
          <a:custGeom>
            <a:avLst/>
            <a:gdLst/>
            <a:ahLst/>
            <a:rect l="l" t="t" r="r" b="b"/>
            <a:pathLst>
              <a:path w="117" h="362">
                <a:moveTo>
                  <a:pt x="0" y="0"/>
                </a:moveTo>
                <a:lnTo>
                  <a:pt x="0" y="145"/>
                </a:lnTo>
                <a:lnTo>
                  <a:pt x="38" y="180"/>
                </a:lnTo>
                <a:lnTo>
                  <a:pt x="0" y="214"/>
                </a:lnTo>
                <a:lnTo>
                  <a:pt x="0" y="362"/>
                </a:lnTo>
                <a:lnTo>
                  <a:pt x="117" y="251"/>
                </a:lnTo>
                <a:lnTo>
                  <a:pt x="117" y="11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4091040" y="4062240"/>
            <a:ext cx="252360" cy="45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4218120" y="45144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4218120" y="3905280"/>
            <a:ext cx="0" cy="15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 flipV="1">
            <a:off x="3284640" y="4784400"/>
            <a:ext cx="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 flipH="1">
            <a:off x="2757600" y="478476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2757600" y="395604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V="1">
            <a:off x="2757600" y="3403080"/>
            <a:ext cx="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757600" y="340344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077920" y="30132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2503440" y="1900080"/>
            <a:ext cx="1620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503440" y="2130480"/>
            <a:ext cx="0" cy="37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4714920" y="55134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767120" y="5383080"/>
            <a:ext cx="0" cy="4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 flipH="1">
            <a:off x="2503440" y="5861160"/>
            <a:ext cx="22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313240" y="5572080"/>
            <a:ext cx="730440" cy="4208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Forwar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649600" y="443088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92480" y="4073400"/>
            <a:ext cx="0" cy="15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292480" y="5635800"/>
            <a:ext cx="22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95440" y="4273560"/>
            <a:ext cx="0" cy="14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 flipV="1">
            <a:off x="2395440" y="5743440"/>
            <a:ext cx="21481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4714920" y="5645160"/>
            <a:ext cx="59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4708440" y="5753160"/>
            <a:ext cx="59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103200" y="3076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3911760" y="2610000"/>
            <a:ext cx="190440" cy="5140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080"/>
              <a:gd name="textAreaBottom" fmla="*/ 505080 h 514080"/>
            </a:gdLst>
            <a:ahLst/>
            <a:rect l="textAreaLeft" t="textAreaTop" r="textAreaRight" b="textAreaBottom"/>
            <a:pathLst>
              <a:path w="21600" h="58238">
                <a:moveTo>
                  <a:pt x="3600" y="0"/>
                </a:moveTo>
                <a:arcTo wR="3600" hR="3600" stAng="16200000" swAng="-5400000"/>
                <a:lnTo>
                  <a:pt x="0" y="54638"/>
                </a:lnTo>
                <a:arcTo wR="3600" hR="3600" stAng="10800000" swAng="-5400000"/>
                <a:lnTo>
                  <a:pt x="18000" y="58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4286160" y="2257200"/>
            <a:ext cx="0" cy="22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086280" y="2717640"/>
            <a:ext cx="825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3336840" y="324792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3513240" y="131760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 flipH="1">
            <a:off x="1052280" y="1317600"/>
            <a:ext cx="24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1052640" y="1317600"/>
            <a:ext cx="0" cy="22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3354480" y="2981160"/>
            <a:ext cx="560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3256920" y="273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122800" y="3533760"/>
            <a:ext cx="190440" cy="51444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4440"/>
              <a:gd name="textAreaBottom" fmla="*/ 505440 h 514440"/>
            </a:gdLst>
            <a:ahLst/>
            <a:rect l="textAreaLeft" t="textAreaTop" r="textAreaRight" b="textAreaBottom"/>
            <a:pathLst>
              <a:path w="21600" h="58279">
                <a:moveTo>
                  <a:pt x="3600" y="0"/>
                </a:moveTo>
                <a:arcTo wR="3600" hR="3600" stAng="16200000" swAng="-5400000"/>
                <a:lnTo>
                  <a:pt x="0" y="54679"/>
                </a:lnTo>
                <a:arcTo wR="3600" hR="3600" stAng="10800000" swAng="-5400000"/>
                <a:lnTo>
                  <a:pt x="18000" y="58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318280" y="38005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 flipV="1">
            <a:off x="5364000" y="5100480"/>
            <a:ext cx="0" cy="4716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 flipV="1">
            <a:off x="5415120" y="4233600"/>
            <a:ext cx="0" cy="13381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 flipH="1">
            <a:off x="5209920" y="5100480"/>
            <a:ext cx="1537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 flipV="1">
            <a:off x="5210280" y="4806720"/>
            <a:ext cx="0" cy="2934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5209920" y="4232160"/>
            <a:ext cx="2048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 flipV="1">
            <a:off x="5210280" y="4033440"/>
            <a:ext cx="0" cy="1983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4815000" y="362124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4879800" y="6037200"/>
            <a:ext cx="164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815000" y="362124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4714920" y="39020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815000" y="439596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4815000" y="43959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4714920" y="467532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879800" y="3795840"/>
            <a:ext cx="0" cy="22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879800" y="379584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4879800" y="456552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4970520" y="395568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70520" y="395604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4970520" y="472428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6621480" y="53830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 flipH="1">
            <a:off x="6043320" y="581652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 flipH="1">
            <a:off x="6043680" y="5905440"/>
            <a:ext cx="21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6751800" y="2503440"/>
            <a:ext cx="0" cy="395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H="1">
            <a:off x="5562360" y="6458040"/>
            <a:ext cx="1184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5548320" y="5992920"/>
            <a:ext cx="0" cy="465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7361280" y="590544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8298000" y="2701800"/>
            <a:ext cx="0" cy="3611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5781600" y="6313320"/>
            <a:ext cx="2516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5781600" y="5992920"/>
            <a:ext cx="0" cy="320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 flipH="1">
            <a:off x="2077920" y="2257560"/>
            <a:ext cx="617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 flipV="1">
            <a:off x="2077920" y="1371240"/>
            <a:ext cx="0" cy="88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 flipH="1">
            <a:off x="212400" y="1371600"/>
            <a:ext cx="1865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212760" y="1371600"/>
            <a:ext cx="0" cy="4273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12760" y="5635800"/>
            <a:ext cx="1698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329760" y="568008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F.FL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4970520" y="161568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>
            <a:off x="3382920" y="1616040"/>
            <a:ext cx="1587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7331040" y="588024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6599160" y="535932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6510240" y="417348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500880" y="521964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4746600" y="5357880"/>
            <a:ext cx="58680" cy="5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4941720" y="4692600"/>
            <a:ext cx="5904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4848120" y="4538520"/>
            <a:ext cx="58680" cy="5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4944960" y="245268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4257720" y="244800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3254400" y="507528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194000" y="3876840"/>
            <a:ext cx="5904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4189320" y="4649760"/>
            <a:ext cx="58680" cy="5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271600" y="404352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2367000" y="4248000"/>
            <a:ext cx="58680" cy="5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2193840" y="506736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2197080" y="5357880"/>
            <a:ext cx="58680" cy="5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809640" y="4363920"/>
            <a:ext cx="5868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6723000" y="248292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8265960" y="2684520"/>
            <a:ext cx="5904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286160" y="2465280"/>
            <a:ext cx="0" cy="401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 flipH="1">
            <a:off x="4101840" y="2867040"/>
            <a:ext cx="1839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257720" y="2684520"/>
            <a:ext cx="58680" cy="507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 rot="16200000">
            <a:off x="3815280" y="2144880"/>
            <a:ext cx="373320" cy="308160"/>
          </a:xfrm>
          <a:prstGeom prst="flowChartOnlineStorag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4008600" y="2490840"/>
            <a:ext cx="0" cy="12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3116160" y="2503440"/>
            <a:ext cx="666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3782880" y="2027160"/>
            <a:ext cx="0" cy="48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782880" y="2027160"/>
            <a:ext cx="131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911760" y="2027160"/>
            <a:ext cx="0" cy="128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606840" y="1335240"/>
            <a:ext cx="0" cy="941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H="1" flipV="1">
            <a:off x="3086280" y="2276640"/>
            <a:ext cx="52056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3081600" y="228924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D.Flu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5268960" y="1898640"/>
            <a:ext cx="190440" cy="5158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5880"/>
              <a:gd name="textAreaBottom" fmla="*/ 506880 h 515880"/>
            </a:gdLst>
            <a:ahLst/>
            <a:rect l="textAreaLeft" t="textAreaTop" r="textAreaRight" b="textAreaBottom"/>
            <a:pathLst>
              <a:path w="21600" h="58442">
                <a:moveTo>
                  <a:pt x="3600" y="0"/>
                </a:moveTo>
                <a:arcTo wR="3600" hR="3600" stAng="16200000" swAng="-5400000"/>
                <a:lnTo>
                  <a:pt x="0" y="54842"/>
                </a:lnTo>
                <a:arcTo wR="3600" hR="3600" stAng="10800000" swAng="-5400000"/>
                <a:lnTo>
                  <a:pt x="18000" y="58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 flipV="1">
            <a:off x="4879800" y="2030400"/>
            <a:ext cx="0" cy="209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4879800" y="2026800"/>
            <a:ext cx="389160" cy="3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H="1">
            <a:off x="5459040" y="2155680"/>
            <a:ext cx="584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5591160" y="2359080"/>
            <a:ext cx="190440" cy="5158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515880"/>
              <a:gd name="textAreaBottom" fmla="*/ 506880 h 515880"/>
            </a:gdLst>
            <a:ahLst/>
            <a:rect l="textAreaLeft" t="textAreaTop" r="textAreaRight" b="textAreaBottom"/>
            <a:pathLst>
              <a:path w="21600" h="58442">
                <a:moveTo>
                  <a:pt x="3600" y="0"/>
                </a:moveTo>
                <a:arcTo wR="3600" hR="3600" stAng="16200000" swAng="-5400000"/>
                <a:lnTo>
                  <a:pt x="0" y="54842"/>
                </a:lnTo>
                <a:arcTo wR="3600" hR="3600" stAng="10800000" swAng="-5400000"/>
                <a:lnTo>
                  <a:pt x="18000" y="58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970520" y="2479680"/>
            <a:ext cx="620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5084640" y="2289240"/>
            <a:ext cx="189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4968720" y="2098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405400" y="2766960"/>
            <a:ext cx="189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5297400" y="257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3606840" y="1335240"/>
            <a:ext cx="2074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5681520" y="1335240"/>
            <a:ext cx="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364000" y="1335240"/>
            <a:ext cx="0" cy="563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824640" y="131112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EX.Fl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954680" y="3119400"/>
            <a:ext cx="3920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4944960" y="2824200"/>
            <a:ext cx="39204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4714920" y="325908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994040" y="890640"/>
            <a:ext cx="0" cy="55958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4621320" y="898560"/>
            <a:ext cx="0" cy="55958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350040" y="865080"/>
            <a:ext cx="0" cy="559620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8028000" y="890640"/>
            <a:ext cx="0" cy="55958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279000" y="90324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 $25, 1000($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2859840" y="90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5188680" y="90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6868080" y="90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8109360" y="89856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$13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382920" y="1717560"/>
            <a:ext cx="708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4091040" y="1717560"/>
            <a:ext cx="0" cy="451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449-8A5E-43CF-B75A-0EC85306CB8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-type Instru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145260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145260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145260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1452600"/>
            <a:ext cx="27432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-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600" y="13716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3105000"/>
          <a:ext cx="8610480" cy="1843200"/>
        </p:xfrm>
        <a:graphic>
          <a:graphicData uri="http://schemas.openxmlformats.org/drawingml/2006/table">
            <a:tbl>
              <a:tblPr/>
              <a:tblGrid>
                <a:gridCol w="761760"/>
                <a:gridCol w="609840"/>
                <a:gridCol w="685800"/>
                <a:gridCol w="761760"/>
                <a:gridCol w="2438640"/>
                <a:gridCol w="3352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med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w $s1, 100($s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med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w $s1, 100($s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med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eq $s1, $s2,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med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ne $s1, $s2,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A76-DAC5-480C-9493-11F1A9FE1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ddressing Mod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216080"/>
            <a:ext cx="8515080" cy="2341800"/>
            <a:chOff x="304920" y="1216080"/>
            <a:chExt cx="8515080" cy="2341800"/>
          </a:xfrm>
        </p:grpSpPr>
        <p:sp>
          <p:nvSpPr>
            <p:cNvPr id="140" name=""/>
            <p:cNvSpPr/>
            <p:nvPr/>
          </p:nvSpPr>
          <p:spPr>
            <a:xfrm>
              <a:off x="6270480" y="1711440"/>
              <a:ext cx="2190960" cy="1393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920" y="1973160"/>
              <a:ext cx="6858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1973160"/>
              <a:ext cx="60948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973160"/>
              <a:ext cx="53352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1973160"/>
              <a:ext cx="2057400" cy="3682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6-bit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2782800"/>
              <a:ext cx="3886200" cy="3682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00600" y="228744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7520" y="232560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44880" y="24717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4040" y="23464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64040" y="2492280"/>
              <a:ext cx="16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4000" y="3000240"/>
              <a:ext cx="79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992840" y="26668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70480" y="2247840"/>
              <a:ext cx="2205360" cy="4064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95880" y="246384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20840" y="2316240"/>
              <a:ext cx="5868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1960" y="12160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ta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96080" y="3159000"/>
              <a:ext cx="292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w $s1, index($s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4080" y="1338120"/>
              <a:ext cx="25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 addr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49640" y="3835440"/>
            <a:ext cx="8510400" cy="2491200"/>
            <a:chOff x="449640" y="3835440"/>
            <a:chExt cx="8510400" cy="2491200"/>
          </a:xfrm>
        </p:grpSpPr>
        <p:sp>
          <p:nvSpPr>
            <p:cNvPr id="160" name=""/>
            <p:cNvSpPr/>
            <p:nvPr/>
          </p:nvSpPr>
          <p:spPr>
            <a:xfrm>
              <a:off x="6426360" y="4330800"/>
              <a:ext cx="2190600" cy="1393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440" y="4592520"/>
              <a:ext cx="6858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6240" y="4592520"/>
              <a:ext cx="60948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5720" y="4592520"/>
              <a:ext cx="53352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9240" y="4592520"/>
              <a:ext cx="2057400" cy="3682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6-bit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440" y="5402160"/>
              <a:ext cx="3886200" cy="3682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6120" y="490680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53040" y="494496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00760" y="50911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19560" y="49658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19560" y="5111640"/>
              <a:ext cx="16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49880" y="5619600"/>
              <a:ext cx="7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148360" y="52862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6360" y="4867200"/>
              <a:ext cx="2205000" cy="4064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51400" y="5083200"/>
              <a:ext cx="10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240" y="3835440"/>
              <a:ext cx="301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struction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64320" y="5927760"/>
              <a:ext cx="292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eq $s1, $s2, Lo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640" y="3873600"/>
              <a:ext cx="33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C-relative addres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278-B358-44B2-96E5-ACCBF9D5E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810040" y="3429000"/>
            <a:ext cx="3016800" cy="2308680"/>
            <a:chOff x="5810040" y="3429000"/>
            <a:chExt cx="3016800" cy="2308680"/>
          </a:xfrm>
        </p:grpSpPr>
        <p:sp>
          <p:nvSpPr>
            <p:cNvPr id="179" name=""/>
            <p:cNvSpPr/>
            <p:nvPr/>
          </p:nvSpPr>
          <p:spPr>
            <a:xfrm>
              <a:off x="6292800" y="3924360"/>
              <a:ext cx="2190960" cy="1393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10040" y="3429000"/>
              <a:ext cx="301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struction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47040" y="53388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j 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J-type Instru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1371600"/>
            <a:ext cx="9144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4572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-bi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5120" y="12906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12840" y="4073400"/>
            <a:ext cx="3886200" cy="368280"/>
            <a:chOff x="312840" y="4073400"/>
            <a:chExt cx="3886200" cy="368280"/>
          </a:xfrm>
        </p:grpSpPr>
        <p:sp>
          <p:nvSpPr>
            <p:cNvPr id="187" name=""/>
            <p:cNvSpPr/>
            <p:nvPr/>
          </p:nvSpPr>
          <p:spPr>
            <a:xfrm>
              <a:off x="312840" y="4073400"/>
              <a:ext cx="685800" cy="36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3600" y="4073400"/>
              <a:ext cx="3205440" cy="3682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6-bit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12840" y="4883040"/>
            <a:ext cx="388620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03800" y="4348080"/>
            <a:ext cx="3294000" cy="406440"/>
            <a:chOff x="5203800" y="4348080"/>
            <a:chExt cx="3294000" cy="406440"/>
          </a:xfrm>
        </p:grpSpPr>
        <p:sp>
          <p:nvSpPr>
            <p:cNvPr id="191" name=""/>
            <p:cNvSpPr/>
            <p:nvPr/>
          </p:nvSpPr>
          <p:spPr>
            <a:xfrm>
              <a:off x="6292800" y="4348080"/>
              <a:ext cx="2205000" cy="40644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03800" y="457200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71960" y="4387680"/>
            <a:ext cx="2017440" cy="712800"/>
            <a:chOff x="3171960" y="4387680"/>
            <a:chExt cx="2017440" cy="712800"/>
          </a:xfrm>
        </p:grpSpPr>
        <p:sp>
          <p:nvSpPr>
            <p:cNvPr id="194" name=""/>
            <p:cNvSpPr/>
            <p:nvPr/>
          </p:nvSpPr>
          <p:spPr>
            <a:xfrm>
              <a:off x="4202280" y="5100480"/>
              <a:ext cx="79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000760" y="47671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171960" y="4387680"/>
              <a:ext cx="2017440" cy="381240"/>
              <a:chOff x="3171960" y="4387680"/>
              <a:chExt cx="2017440" cy="381240"/>
            </a:xfrm>
          </p:grpSpPr>
          <p:sp>
            <p:nvSpPr>
              <p:cNvPr id="197" name=""/>
              <p:cNvSpPr/>
              <p:nvPr/>
            </p:nvSpPr>
            <p:spPr>
              <a:xfrm>
                <a:off x="4808520" y="43876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71960" y="4446720"/>
                <a:ext cx="0" cy="1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71960" y="4592520"/>
                <a:ext cx="163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57920" y="4475160"/>
                <a:ext cx="88920" cy="8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57920" y="4622760"/>
                <a:ext cx="88920" cy="88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419040" y="553716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-direct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12840" y="1992240"/>
          <a:ext cx="8610480" cy="1103400"/>
        </p:xfrm>
        <a:graphic>
          <a:graphicData uri="http://schemas.openxmlformats.org/drawingml/2006/table">
            <a:tbl>
              <a:tblPr/>
              <a:tblGrid>
                <a:gridCol w="761760"/>
                <a:gridCol w="609840"/>
                <a:gridCol w="3886200"/>
                <a:gridCol w="3352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med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 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med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jal 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1CB-2B46-402D-8592-8DE2F88B5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U Symbol &amp; Contro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05" name="f0421" descr=""/>
          <p:cNvPicPr/>
          <p:nvPr/>
        </p:nvPicPr>
        <p:blipFill>
          <a:blip r:embed="rId1"/>
          <a:stretch/>
        </p:blipFill>
        <p:spPr>
          <a:xfrm>
            <a:off x="5127480" y="1523880"/>
            <a:ext cx="3726000" cy="380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685800" y="2201760"/>
          <a:ext cx="3962520" cy="2675160"/>
        </p:xfrm>
        <a:graphic>
          <a:graphicData uri="http://schemas.openxmlformats.org/drawingml/2006/table">
            <a:tbl>
              <a:tblPr/>
              <a:tblGrid>
                <a:gridCol w="1523880"/>
                <a:gridCol w="2438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 control 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 on 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6FB-42A3-44A6-B79C-291E6DA5F9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4-01-13T11:44:13Z</dcterms:modified>
  <cp:revision>5036</cp:revision>
  <dc:subject/>
  <dc:title>PowerPoint Presentation</dc:title>
</cp:coreProperties>
</file>