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65D-B5FB-489A-B388-591A73C3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418-7B93-41D6-BD71-7D573E26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70E-9FC8-4310-94A4-6D498FBE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9903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6572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EF9-D616-493A-B645-9BBC77A7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228-DBDD-44F9-85C6-7626A79D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325-5184-421E-9CAB-E3AD22C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3AA-8669-4F36-B97C-9EBB97E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072-74D6-4B69-A553-8E5F181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818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665-E6F8-4FCF-BED1-DBC0843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652-A672-4454-88A0-3E3CFF2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6572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E2E-5D43-419A-93DE-0F65214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1340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9903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134-63FA-4516-9490-1F1691E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FE3-72BF-4B37-885D-7CD518EC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ing Behavior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rom Simulation Perspectiv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3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kay Sava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bancı Univer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705-B626-4289-A170-3801898CE9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141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perties of Process Construc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18720"/>
            <a:ext cx="838188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flow is strictly sequ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ed by construct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-then-els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can be thought of a traditional sequential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a process can assign internally computed values to signals in the interface after a specified de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_data &lt;= data_mem(addr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_mem(addr) := write_dat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rnally, discrete event execution model is applicable to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ly, many complex behavior are describ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 respect to simulation time, a process executes in zero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680-FC22-437C-84BD-5B6E84CCA4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C5A-BE75-4DF1-9A61-71F6291DA58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structing VHDL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brary-name-1, library-name-2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brary-name-1.package-name.all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brary-name-2.package-name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put signa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yp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utput signal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ype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-nam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ch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declare internal signals, you may have multiple signal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of different typ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ernal signa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type :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first proces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second proces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simple, conditional, or selected C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-- other processes or CS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ch_nam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ABA-F5E3-4127-ACD1-34BF661371F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nstructing VHDL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890640"/>
            <a:ext cx="8381880" cy="532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ch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_na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bel-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sensitivity list--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declare variables to be used in the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variable nam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type: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process body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abel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label-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declare variables to be used in the proces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variable nam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type: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ait until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(--predicate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sequential statement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--predicate--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sequential statement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abel-2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nal-signal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rts&lt;=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imple,conditional,or selec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C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other processes or CS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rch_nam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6F5-9FC5-4C77-A317-E4A6C162678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SA and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in the same architecture bo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many CSA or process as we w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cess and a CSA are concurrently executed with respect to each ot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use process when the computation of the signal values are too complex for CSA stat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declared in a process’ declaration field is only visible within this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F93-AF7B-4062-8028-FE46570F539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mon Syntax Err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ls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not elsei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 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t endi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micolon (;) af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f-then-els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ns (10ns is incorre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score is OK in label names (not hyphe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imulators cannot do the following assignment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: std_logic_vector(7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:=“00000000”;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ay have to 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_stdlogicvector(“00000000”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to make this assignment wor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235-319E-421C-A8BB-0E1018825ED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mon Run-Time Err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if you need a signal or var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 are updated with the evaluated value in the next execution cyc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are assigned immediat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ultiple drivers exist for a signal, the type of the signal must resolved (i.e. a resolution function must be defined and associated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cess should have either a sensitivity list or a wait statement; not bo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ocesses are executed once when the simulation is sta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538-D4C5-4FA7-B0F8-1570C964F36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mon Run-Time Erro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areful of the assigned values of signals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ising_edge(clk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_a &lt;= sig_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ig_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_b &lt;= sig_a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g_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g_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being stored in flip-flo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EE2-BC8F-4AA2-A039-1C7A2BD2E4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stat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-then-else, case,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statement of sensitivity 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ing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ing state mach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both CSA statements and processes within the same architecture descri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098-0901-481D-B197-FACFD75B4FD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nsitivity_li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urrent signal assignment statements are executed when there is an event on the signals in RHS of the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statements are executed when there is an event on the signals in the sensitivity li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n input that is not in the sensitivity list changes, process won’t execu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started, process executes to the end and may generate further ev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an think of a process as a big and complex, nevertheless, CSA statement that executes concurrently with other CSA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CSA can be seen a simple and special proc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940-18CD-45E9-BCE5-E55D1D926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iscellaneou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type defini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_arr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7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_vector(31 downto 0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declaration of the new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ta_mem: mem_array := (...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type description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sign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_ari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memory addr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onversion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v_integer(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d_logic_ari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array is indexed by integ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BC76-0766-48A9-B657-71319CC47F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Behavioral Model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938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HDL models using process constructs are usually referred to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ehavioral mode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in a structural programming languages, we can write complex VHDL code incorporating several processes and CSA stat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we can gain insight, we will know when and how to use processes in order to effectively describe digital systems for both simulation &amp; synthe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havioral models often make synthesis more challenging while it offers many advantages in simul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5B8-291B-4A11-AD99-E12D3EB06D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If-Then-Else and If-Then-Elsif Statement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2364840"/>
            <a:ext cx="8381880" cy="16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Write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_mem(addr) := write_dat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Read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data &lt;= data_mem(add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else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311-702B-46D6-BF3C-488A03CFD3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as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41280"/>
            <a:ext cx="8381880" cy="14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oic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quential-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branch #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oic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quential-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branch #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-- Can have any number of branc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quential-statemen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]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– last branc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3484080"/>
            <a:ext cx="8381880" cy="267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eek_d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n, tue, wed, thu, fri, sat, sun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lla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ran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ay: week_day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cket_money: dollar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ue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pocket_money := 6;     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branch #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n|wed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pocket_money := 2;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branch #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un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&gt; pocket_money := 7;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branch #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pocket_money := 0;  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– last branc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FC3-432A-4516-855F-79941ED7A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4-by-1 MUX with Case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0484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b,c,d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ctrl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d_logic_vector(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1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z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_behavi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_delay:time:=10 n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_process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b,c,d,ctrl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mp:std_logic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tr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“00”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tmp := a;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branch #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” =&gt; tmp := b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branch #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“10”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tmp := c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branch #3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“11”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&gt; tmp := d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- branch #4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&gt; tmp := ‘X’;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-– last branc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 &lt;= tmp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mux_delay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_process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x_behavio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D39-1862-48C9-93F4-D302EC691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141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VHDL Model with Two Proces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61920"/>
            <a:ext cx="828828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sum, carry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lf_add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_proc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 = 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&lt;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&lt;= (x or 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_pro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_proc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_proc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F69-CE7C-4A87-9B51-ACA5E7C63A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429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VHDL Model with Two Process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3382560"/>
            <a:ext cx="838188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value of the case expression being tested can belong to only one branch of the stat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branch can have more then one sequential stat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ranches of case statements must cover all possible values of expression being tes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 signals (in the interface) are visible within proc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an have a mix of processes and CSA in a VHDL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790560" y="762120"/>
            <a:ext cx="70833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_proc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0’ =&gt; carry &lt;= 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1’ =&gt; carry &lt;= 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carry &lt;= ‘X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cas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ry_pro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FA8-CC63-43E5-BDFF-F5C44A803C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cess + CSA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875880"/>
            <a:ext cx="83818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y with four 8-bit wor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rocess combined with CS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lock is pre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76120" y="2446200"/>
            <a:ext cx="8650440" cy="37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gister_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dress, write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Mem Read, MemWrite, clk, reset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ad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 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gister_fi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gister_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0, reg1, reg2, reg3:std_logic_vector(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097-BCAB-4AAE-A4DD-4E7B337E5F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tiv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odeled the digital components as delay elements and their internal behavior is describe using CSA 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approach works well when modeling digital systems at gate lev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 and complex systems cannot always be built at gate lev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oal is to hide the unnecessary details while capturing and preserving the external behavi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abs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powerful statements than CSA 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u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27C-9A6E-4737-9A3C-FB3DCDCF2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Register File Model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762120"/>
            <a:ext cx="8288280" cy="54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_proc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clk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 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wait until next clock edg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et=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          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initializ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values on reset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0 &lt;= x”00”;           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memory locations are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eg1 &lt;= x”11”;           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initialized to random valu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eg2 &lt;= x”22”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eg3 &lt;= x”33”;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Write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   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if not reset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ddress(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w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“00”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=&gt; reg0 &lt;= write_data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“01”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=&gt; reg1 &lt;= write_data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“10”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=&gt; reg2 &lt;= write_data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“11”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=&gt; reg3 &lt;= write_data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 other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=&gt; reg0 &lt;= x”ff”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cas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endif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if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_pro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CSA stat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639-191D-4534-8AF5-352CB81F25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Register File Model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96920"/>
            <a:ext cx="8381880" cy="47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_proc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clk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_proc;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CSA statement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-- memory read is implemented with a conditional signal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-- assignment and concurrent to mem_proc process.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-- Read operations are not synchronous to rising clk edge.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ad_data &lt;= reg0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ddress( 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=“00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Read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ddress( 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=“01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Read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2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ddress( 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=“10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Read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ddress( 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=“11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emRead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x”00”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279-73E4-42DC-880C-9C88E34D1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 Register File Model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309680"/>
            <a:ext cx="8381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unctio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sing_ed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lk) is defined in the package std_logic_1164,  and is true when the signal clk has just experienced a rising edge (i.e. a true 0-to-1 transi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address is out of rang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reset synchronous or asynchronou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for memory write is executing concurrently with a CSA performing memory read oper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read operation could be included within the process. What if we did s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20A-C6D6-4BC2-8834-AE3A40BD4F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ultiplie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05" name="f0431" descr=""/>
          <p:cNvPicPr/>
          <p:nvPr/>
        </p:nvPicPr>
        <p:blipFill>
          <a:blip r:embed="rId1"/>
          <a:stretch/>
        </p:blipFill>
        <p:spPr>
          <a:xfrm>
            <a:off x="304920" y="1101600"/>
            <a:ext cx="8381880" cy="50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467-6F4D-466A-BC05-0715D7936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32-bit Multiplier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7" name=""/>
          <p:cNvSpPr/>
          <p:nvPr/>
        </p:nvSpPr>
        <p:spPr>
          <a:xfrm>
            <a:off x="276120" y="1238400"/>
            <a:ext cx="8650440" cy="48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arith.all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unsigned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mult32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multiplicand, multiplie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product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_vector 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mult32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mult32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odule_delay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ime: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s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   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for architecture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_process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multiplier, multiplicand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variabl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_reg: std_logic_vector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:=X”00000000”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iplicand_reg: 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                                      0):=X”00000000”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_proces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581-6398-44A5-966B-6F1FB9431B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32-bit Multiplier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1238400"/>
            <a:ext cx="8650440" cy="48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_process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multiplier, multiplicand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– for proces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iplicand_reg := multiplicand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_reg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):= X”00000000” &amp; multiplier;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 repeated shift-and-add loop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ndex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32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_reg (0)=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_reg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32) :=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  prod_reg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32) + multiplicand_reg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perform a right shift with zero fill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_reg 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) :=‘0’ &amp; prod_reg(6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)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loop;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write result to output port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duct &lt;= prod_reg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odule_delay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ult_proces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DB8-0B2E-4AF6-BC4C-A46BE2921D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is New?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04400"/>
            <a:ext cx="838188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stat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or lo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de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ile lo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15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j &lt; 3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:= j + 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loo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atenation operator &am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ft right by one bit using concaten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_reg(6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 :=‘0’ &amp; prod_reg(6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are other ways to implement shift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EEE.std_logic_unsign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age contains the definition for the “+” opera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1AA-F2D8-4CA5-9CA0-67597FFB76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re on Lo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for lo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riable is declared implicit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local to the loop. If a variable or signal is declared with the same name elsewhere in the process or architecture, it is treated as a distinct object. Within the loop, loop index is tak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index cannot be modified in the loo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le loop enables that the loop index be assigned new values within the body of the lo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, the loop can execute for data dependent number of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DD2-9F98-4500-9382-1E87A6D329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cess Behavi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n initialization all processes are executed o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after dataflow determines process exec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 when events occur on the signals in sensitivity li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is used for process initi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sitivity list may be imagined as inputs to a digital circ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n input changes, output of the circuit is re-evaluated for the new input independent of whether the output changes its value or no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08D-F355-4800-8653-B02A73E639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vs. Variabl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17" name=""/>
          <p:cNvSpPr/>
          <p:nvPr/>
        </p:nvSpPr>
        <p:spPr>
          <a:xfrm>
            <a:off x="276120" y="995400"/>
            <a:ext cx="8650440" cy="48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x, y, z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res1, res2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ig_va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ig_var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ig_s1, sig_s2: std_logic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1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variabl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ar_s1, var_s2:std_logic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1: var_s1 := x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2: var_s2 := var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3: res1  &lt;= var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ar_s2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2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6120" y="5995800"/>
            <a:ext cx="83822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rocesses: proc1 and proc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38A-4378-4074-8E14-E41D6A7914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odeling Complex Behavior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A statements are good for simple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ical operations, simple arithmetic operations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digital components feature more complex behavi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feasible or possible to capture the behavior of complex digital systems such as CPU, memory, communication protocols with CSA statemen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model can still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and complex systems utilize stat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incorporate complex data struc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D69-4A63-46AC-9CFC-EF3601397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vs. Variabl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457056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1 uses intermediate variables var_s1, var_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2 uses intermediate signals sig_s1, sig_s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elta delay mod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demonstrate different execution behavi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85680"/>
            <a:ext cx="8381880" cy="34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1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1: var_s1 := x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L2: var_s2 := var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L3: res1  &lt;= var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var_s2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2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x,y,z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1: sig_s1 &lt;= x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2: sig_s2 &lt;= sig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3: res2  &lt;= sig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ig_s2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F15-3A83-41A4-8BE4-32A26CCAE0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vs. Variables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ew value of var_s1 computed in L1 is used in L2 in the same exec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3 is executed with the new values of var_s1 and var_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 and L2 computes the new values of sig_s1 and sig_s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signals will not acquire these new values until after delta delay elap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means that the new values of sig_s1 and sig_s2 will not be used in this execution of the proc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2F3-2EC6-4F96-A180-2D54BCB738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285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s vs. Variables 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758880"/>
            <a:ext cx="8381880" cy="5495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11360" y="1395360"/>
            <a:ext cx="449280" cy="3309840"/>
          </a:xfrm>
          <a:custGeom>
            <a:avLst/>
            <a:gdLst>
              <a:gd name="textAreaLeft" fmla="*/ 21600 w 449280"/>
              <a:gd name="textAreaRight" fmla="*/ 427680 w 449280"/>
              <a:gd name="textAreaTop" fmla="*/ 21600 h 3309840"/>
              <a:gd name="textAreaBottom" fmla="*/ 3288240 h 3309840"/>
            </a:gdLst>
            <a:ahLst/>
            <a:rect l="textAreaLeft" t="textAreaTop" r="textAreaRight" b="textAreaBottom"/>
            <a:pathLst>
              <a:path w="21600" h="159017">
                <a:moveTo>
                  <a:pt x="3600" y="0"/>
                </a:moveTo>
                <a:arcTo wR="3600" hR="3600" stAng="16200000" swAng="-5400000"/>
                <a:lnTo>
                  <a:pt x="0" y="155417"/>
                </a:lnTo>
                <a:arcTo wR="3600" hR="3600" stAng="10800000" swAng="-5400000"/>
                <a:lnTo>
                  <a:pt x="18000" y="159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4960" y="3686040"/>
            <a:ext cx="449280" cy="1162080"/>
          </a:xfrm>
          <a:custGeom>
            <a:avLst/>
            <a:gdLst>
              <a:gd name="textAreaLeft" fmla="*/ 21600 w 449280"/>
              <a:gd name="textAreaRight" fmla="*/ 427680 w 449280"/>
              <a:gd name="textAreaTop" fmla="*/ 21600 h 1162080"/>
              <a:gd name="textAreaBottom" fmla="*/ 1140480 h 1162080"/>
            </a:gdLst>
            <a:ahLst/>
            <a:rect l="textAreaLeft" t="textAreaTop" r="textAreaRight" b="textAreaBottom"/>
            <a:pathLst>
              <a:path w="21600" h="55842">
                <a:moveTo>
                  <a:pt x="3600" y="0"/>
                </a:moveTo>
                <a:arcTo wR="3600" hR="3600" stAng="16200000" swAng="-5400000"/>
                <a:lnTo>
                  <a:pt x="0" y="52242"/>
                </a:lnTo>
                <a:arcTo wR="3600" hR="3600" stAng="10800000" swAng="-5400000"/>
                <a:lnTo>
                  <a:pt x="18000" y="55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4240" y="1814400"/>
            <a:ext cx="449280" cy="682560"/>
          </a:xfrm>
          <a:custGeom>
            <a:avLst/>
            <a:gdLst>
              <a:gd name="textAreaLeft" fmla="*/ 21600 w 449280"/>
              <a:gd name="textAreaRight" fmla="*/ 427680 w 449280"/>
              <a:gd name="textAreaTop" fmla="*/ 21600 h 682560"/>
              <a:gd name="textAreaBottom" fmla="*/ 660960 h 682560"/>
            </a:gdLst>
            <a:ahLst/>
            <a:rect l="textAreaLeft" t="textAreaTop" r="textAreaRight" b="textAreaBottom"/>
            <a:pathLst>
              <a:path w="21600" h="32806">
                <a:moveTo>
                  <a:pt x="3600" y="0"/>
                </a:moveTo>
                <a:arcTo wR="3600" hR="3600" stAng="16200000" swAng="-5400000"/>
                <a:lnTo>
                  <a:pt x="0" y="29206"/>
                </a:lnTo>
                <a:arcTo wR="3600" hR="3600" stAng="10800000" swAng="-5400000"/>
                <a:lnTo>
                  <a:pt x="18000" y="32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77000" y="2220840"/>
            <a:ext cx="479520" cy="1465200"/>
          </a:xfrm>
          <a:custGeom>
            <a:avLst/>
            <a:gdLst/>
            <a:ahLst/>
            <a:rect l="l" t="t" r="r" b="b"/>
            <a:pathLst>
              <a:path w="302" h="923">
                <a:moveTo>
                  <a:pt x="28" y="923"/>
                </a:moveTo>
                <a:cubicBezTo>
                  <a:pt x="14" y="703"/>
                  <a:pt x="0" y="483"/>
                  <a:pt x="46" y="329"/>
                </a:cubicBezTo>
                <a:cubicBezTo>
                  <a:pt x="92" y="175"/>
                  <a:pt x="197" y="87"/>
                  <a:pt x="30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FC9-158E-4D58-AFDA-35ECC394AAD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4284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 Subtleti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676440"/>
            <a:ext cx="8381880" cy="5263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7400" y="1209600"/>
            <a:ext cx="449280" cy="3309840"/>
          </a:xfrm>
          <a:custGeom>
            <a:avLst/>
            <a:gdLst>
              <a:gd name="textAreaLeft" fmla="*/ 21600 w 449280"/>
              <a:gd name="textAreaRight" fmla="*/ 427680 w 449280"/>
              <a:gd name="textAreaTop" fmla="*/ 21600 h 3309840"/>
              <a:gd name="textAreaBottom" fmla="*/ 3288240 h 3309840"/>
            </a:gdLst>
            <a:ahLst/>
            <a:rect l="textAreaLeft" t="textAreaTop" r="textAreaRight" b="textAreaBottom"/>
            <a:pathLst>
              <a:path w="21600" h="159017">
                <a:moveTo>
                  <a:pt x="3600" y="0"/>
                </a:moveTo>
                <a:arcTo wR="3600" hR="3600" stAng="16200000" swAng="-5400000"/>
                <a:lnTo>
                  <a:pt x="0" y="155417"/>
                </a:lnTo>
                <a:arcTo wR="3600" hR="3600" stAng="10800000" swAng="-5400000"/>
                <a:lnTo>
                  <a:pt x="18000" y="159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33600" y="6119640"/>
            <a:ext cx="33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2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B91-A611-4AC0-A143-7CE5D86D4A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 Subtleti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1400040"/>
            <a:ext cx="8381880" cy="4861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4520" y="879480"/>
            <a:ext cx="58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2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,z, sig_s1, sig_s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03840" y="1863720"/>
            <a:ext cx="448920" cy="3309840"/>
          </a:xfrm>
          <a:custGeom>
            <a:avLst/>
            <a:gdLst>
              <a:gd name="textAreaLeft" fmla="*/ 21600 w 448920"/>
              <a:gd name="textAreaRight" fmla="*/ 427320 w 448920"/>
              <a:gd name="textAreaTop" fmla="*/ 21600 h 3309840"/>
              <a:gd name="textAreaBottom" fmla="*/ 3288240 h 3309840"/>
            </a:gdLst>
            <a:ahLst/>
            <a:rect l="textAreaLeft" t="textAreaTop" r="textAreaRight" b="textAreaBottom"/>
            <a:pathLst>
              <a:path w="21600" h="159144">
                <a:moveTo>
                  <a:pt x="3600" y="0"/>
                </a:moveTo>
                <a:arcTo wR="3600" hR="3600" stAng="16200000" swAng="-5400000"/>
                <a:lnTo>
                  <a:pt x="0" y="155544"/>
                </a:lnTo>
                <a:arcTo wR="3600" hR="3600" stAng="10800000" swAng="-5400000"/>
                <a:lnTo>
                  <a:pt x="18000" y="1591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E80-BE60-470A-96CC-861750EECA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nsitivity List Subtleti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n of the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1 : 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(an e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2 : 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2 : 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n of the process (af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ay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1 : 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2 : 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(an e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2 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n of the process (after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ay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1 : 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_s2 : 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2 : 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B71-8297-48EF-BA37-ABE24C1418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How Processes Communica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e ports of the entity and the signals declared within an architecture are visible to any process in the architec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cess can read and update these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es use these signals to commun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 process A writes signal which is in the sensitivity list of process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vent on this signal will cause process B to exec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29E-8452-4A6D-B68A-CC543438EE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munication Process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2046240"/>
            <a:ext cx="944640" cy="10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4120" y="2046240"/>
            <a:ext cx="944280" cy="10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83040" y="22604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83120" y="3121200"/>
            <a:ext cx="858960" cy="696600"/>
          </a:xfrm>
          <a:custGeom>
            <a:avLst/>
            <a:gdLst/>
            <a:ahLst/>
            <a:rect l="l" t="t" r="r" b="b"/>
            <a:pathLst>
              <a:path w="40" h="30">
                <a:moveTo>
                  <a:pt x="40" y="15"/>
                </a:moveTo>
                <a:cubicBezTo>
                  <a:pt x="35" y="23"/>
                  <a:pt x="25" y="28"/>
                  <a:pt x="12" y="30"/>
                </a:cubicBezTo>
                <a:lnTo>
                  <a:pt x="12" y="30"/>
                </a:lnTo>
                <a:lnTo>
                  <a:pt x="0" y="30"/>
                </a:lnTo>
                <a:cubicBezTo>
                  <a:pt x="8" y="21"/>
                  <a:pt x="8" y="10"/>
                  <a:pt x="0" y="0"/>
                </a:cubicBezTo>
                <a:lnTo>
                  <a:pt x="0" y="0"/>
                </a:lnTo>
                <a:lnTo>
                  <a:pt x="12" y="0"/>
                </a:lnTo>
                <a:cubicBezTo>
                  <a:pt x="25" y="2"/>
                  <a:pt x="35" y="8"/>
                  <a:pt x="40" y="15"/>
                </a:cubicBezTo>
                <a:close/>
              </a:path>
            </a:pathLst>
          </a:custGeom>
          <a:solidFill>
            <a:srgbClr val="3333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8400" y="284328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8400" y="2260440"/>
            <a:ext cx="206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28432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73560" y="2843280"/>
            <a:ext cx="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3560" y="3657600"/>
            <a:ext cx="259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35720" y="28432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35720" y="33098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42080" y="346716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4720" y="2260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74720" y="284328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4720" y="3481560"/>
            <a:ext cx="21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36880" y="284292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36880" y="284328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8400" y="20462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8760" y="26449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3600" y="3309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49960" y="204624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4000" y="324648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_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99840" y="186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24462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90200" y="3303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7440" y="3986280"/>
            <a:ext cx="846936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er can be modeled as three communicating processes through internal signals: HA1, HA2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reate events on signals s1, s2 and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1 must be in the sensitivity list of H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0F5-5341-49DC-ABBD-CCFAE2A4D0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4284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munication Process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1" name=""/>
          <p:cNvSpPr/>
          <p:nvPr/>
        </p:nvSpPr>
        <p:spPr>
          <a:xfrm>
            <a:off x="276120" y="652320"/>
            <a:ext cx="8650440" cy="560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in1, in2, c_in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sum, c_out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full_adde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full_adder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1, s2, s3: std_logic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5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1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in1,in2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1 &lt;= (in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n2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s3 &lt;= (in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n2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1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2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s1,c_in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um &lt;= (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s2 &lt;= (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2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s2,s3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_out &lt;= (s2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3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lay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R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4A-15FF-40AB-B62B-B5A91E6BC1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Wait Statement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S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an event occurs on signal in RHS, then CSA statement is execu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an event occurs on signal in the sensitivity list, then process is executed. Otherwise the process is suspend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statement allows to model circui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output values are computed at specific points in time independent of event on the 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respond to only certain events on the input signals (rising edge of the clo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a more general way of specifying when a process is executed or suspen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can suspend the process at multiple points not just beginning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7BD-288B-4B12-B401-314CDC1800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mory as a Complex Digital Compon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3352680"/>
            <a:ext cx="83818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 model is still vali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s on input address, data or control lines produce events that can cause the memory model to be execu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access for read an write operations can be assigned for propagation delay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bout internal behavior of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708200"/>
            <a:ext cx="1249560" cy="1465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12720" y="290196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12720" y="245916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12720" y="2023920"/>
            <a:ext cx="696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12720" y="1444680"/>
            <a:ext cx="10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29000" y="144468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2720" y="104760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1240" y="1047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440" y="7621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600" y="12142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00" y="18255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_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5560" y="222264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_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4920" y="27036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5F5-CA5F-4B33-85A3-D8F9146AA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Wait Statement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ime expressio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spen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rocess for a certain period of time and when this time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ime express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pses the process is execu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on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igna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spend a process until an event occurs on any one of one or more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k, reset, statu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conditi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spends a process unti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comes TR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and sensitivity list shouldn’t be used toget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45-4F6D-412C-9C2D-8569881BE5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it Statement: Exampl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890640"/>
            <a:ext cx="838188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2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1,c_i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&lt;= (s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2 &lt;= (s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208240"/>
            <a:ext cx="8381880" cy="13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2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&lt;= (s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2 &lt;= (s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_i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a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, c_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040" y="354636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 for 0 ns;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065480"/>
            <a:ext cx="8381880" cy="21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oc2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wait o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x, y, z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1: sig_s1 &lt;= x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y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 ns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2: sig_s2 &lt;= sig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z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 ns;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L3: res2  &lt;= sig_s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ig_s2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144-4EAE-4CCE-A506-312FCBEB79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65320" y="1482840"/>
            <a:ext cx="195480" cy="40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it Statement: Exampl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73320" y="1290600"/>
            <a:ext cx="12600" cy="411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880" y="1878120"/>
            <a:ext cx="5970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79800" y="1306440"/>
            <a:ext cx="0" cy="40975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3200" y="1865160"/>
            <a:ext cx="90648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9920" y="22226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120" y="1530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57480" y="1496880"/>
            <a:ext cx="1778040" cy="12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71880" y="1854000"/>
            <a:ext cx="906120" cy="12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160" y="2570040"/>
            <a:ext cx="59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0160" y="3211560"/>
            <a:ext cx="5972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73320" y="2568600"/>
            <a:ext cx="887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81240" y="2843280"/>
            <a:ext cx="89856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17880"/>
            <a:ext cx="5970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45744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g_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51000" y="3206880"/>
            <a:ext cx="268452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85920" y="3917880"/>
            <a:ext cx="262872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56040" y="1298520"/>
            <a:ext cx="1440" cy="4105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62160" y="1509840"/>
            <a:ext cx="0" cy="3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79800" y="2187720"/>
            <a:ext cx="0" cy="3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71880" y="2208240"/>
            <a:ext cx="2657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17880" y="1298520"/>
            <a:ext cx="0" cy="4105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29040" y="1309320"/>
            <a:ext cx="6480" cy="4094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713560" y="1301400"/>
            <a:ext cx="2880" cy="41022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649920" y="1290600"/>
            <a:ext cx="0" cy="41133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0440" y="2811600"/>
            <a:ext cx="7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74760" y="2843280"/>
            <a:ext cx="0" cy="3952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0480" y="35449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79800" y="4267080"/>
            <a:ext cx="0" cy="39528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0480" y="3544920"/>
            <a:ext cx="1785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1480" y="54230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7880" y="54039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89120" y="5403960"/>
            <a:ext cx="7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98400" y="5403960"/>
            <a:ext cx="9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+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79200" y="5403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0800" y="4651200"/>
            <a:ext cx="5972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2880" y="5403960"/>
            <a:ext cx="5972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6840" y="421488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g_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6840" y="484344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303200" y="4257720"/>
            <a:ext cx="871560" cy="936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79800" y="4641840"/>
            <a:ext cx="871200" cy="936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57480" y="4632480"/>
            <a:ext cx="1766880" cy="936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257720"/>
            <a:ext cx="0" cy="39528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24360" y="4238640"/>
            <a:ext cx="917640" cy="9360"/>
          </a:xfrm>
          <a:prstGeom prst="line">
            <a:avLst/>
          </a:prstGeom>
          <a:ln w="28440">
            <a:solidFill>
              <a:srgbClr val="ff7a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08240" y="5008680"/>
            <a:ext cx="44053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4980960"/>
            <a:ext cx="2880" cy="4093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63560" y="5400720"/>
            <a:ext cx="9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+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3560" y="5391000"/>
            <a:ext cx="936360" cy="9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1698480"/>
            <a:ext cx="815760" cy="2001960"/>
          </a:xfrm>
          <a:custGeom>
            <a:avLst/>
            <a:gdLst/>
            <a:ahLst/>
            <a:rect l="l" t="t" r="r" b="b"/>
            <a:pathLst>
              <a:path w="514" h="1261">
                <a:moveTo>
                  <a:pt x="66" y="0"/>
                </a:moveTo>
                <a:cubicBezTo>
                  <a:pt x="33" y="393"/>
                  <a:pt x="0" y="786"/>
                  <a:pt x="75" y="996"/>
                </a:cubicBezTo>
                <a:cubicBezTo>
                  <a:pt x="150" y="1206"/>
                  <a:pt x="332" y="1233"/>
                  <a:pt x="514" y="126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3713040"/>
            <a:ext cx="841320" cy="698760"/>
          </a:xfrm>
          <a:custGeom>
            <a:avLst/>
            <a:gdLst/>
            <a:ahLst/>
            <a:rect l="l" t="t" r="r" b="b"/>
            <a:pathLst>
              <a:path w="530" h="440">
                <a:moveTo>
                  <a:pt x="0" y="2"/>
                </a:moveTo>
                <a:cubicBezTo>
                  <a:pt x="103" y="1"/>
                  <a:pt x="207" y="0"/>
                  <a:pt x="256" y="56"/>
                </a:cubicBezTo>
                <a:cubicBezTo>
                  <a:pt x="305" y="112"/>
                  <a:pt x="247" y="276"/>
                  <a:pt x="293" y="340"/>
                </a:cubicBezTo>
                <a:cubicBezTo>
                  <a:pt x="339" y="404"/>
                  <a:pt x="434" y="422"/>
                  <a:pt x="530" y="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48120" y="4257720"/>
            <a:ext cx="855720" cy="1033560"/>
          </a:xfrm>
          <a:custGeom>
            <a:avLst/>
            <a:gdLst/>
            <a:ahLst/>
            <a:rect l="l" t="t" r="r" b="b"/>
            <a:pathLst>
              <a:path w="539" h="651">
                <a:moveTo>
                  <a:pt x="0" y="88"/>
                </a:moveTo>
                <a:cubicBezTo>
                  <a:pt x="78" y="44"/>
                  <a:pt x="156" y="0"/>
                  <a:pt x="192" y="79"/>
                </a:cubicBezTo>
                <a:cubicBezTo>
                  <a:pt x="228" y="158"/>
                  <a:pt x="161" y="477"/>
                  <a:pt x="219" y="564"/>
                </a:cubicBezTo>
                <a:cubicBezTo>
                  <a:pt x="277" y="651"/>
                  <a:pt x="408" y="625"/>
                  <a:pt x="539" y="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993-BC16-4EB4-979E-A8CF364F4B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ait Statements: Examples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on x, y, z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until A = B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for 10 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on CLOCK for 20 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until SUM &gt; 100 for 50 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it on CLOCK until SUM &gt; 10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C7D-2B88-4690-B4EA-5060F63A4C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ositive-Edge-Triggered D Flip-Fl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input is sampled at the rising edge of the clock and transferred to the outpu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ation is done at a particular e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lk’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vent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k = ‘1’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276120" y="2698920"/>
            <a:ext cx="8650440" cy="35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D, clk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Q, Qba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ff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put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clk’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vent 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k = ‘1’);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Qbar &lt;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pu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ED8-911F-4196-926A-E03FA6D84B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ositive-Edge-Triggered D Flip-Flop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k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t is said to be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ignal clk a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dica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k’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RUE when there is a transition from 0 to 1 in the clock in the most recent simulation cyc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an event is a transition on a signal while a transaction occurs on a signal when a new assignment has been made to the signal, but the value may not have chang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d_logic_1164 package provides useful function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sing_edge(cl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ling_edge(clk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functions t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_log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ype signal and return a Boolean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8EF-CC75-45FE-9BFD-3816EFFD968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y Use </a:t>
            </a:r>
            <a:r>
              <a:rPr b="0" lang="en-US" sz="4000" spc="-1" strike="noStrike">
                <a:solidFill>
                  <a:srgbClr val="ff3300"/>
                </a:solidFill>
                <a:latin typeface="Courier New"/>
              </a:rPr>
              <a:t>rising_edge()?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847800"/>
            <a:ext cx="838188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at a signal of type std_logic may have nine different valu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fore, the predic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lk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ent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k = ‘1’)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really capture a 0 to 1 tran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ition may be X to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ising_edge(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ling_edge(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etecting a true rising edge and falling edge of a signal, respective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xt iss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how do we initialize a flip-flo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system is powered, flip-flops are set to a known initial s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ever, what we want is to have some control over the initial stat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625-743B-431A-9568-BC468D78CB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 Flip-Flops with Asynchronous Inpu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nchronous input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es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used to initialize flip-flops to known st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signals do not work with the clock, on the contrary they override its eff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285920" y="4013280"/>
            <a:ext cx="942840" cy="869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1276920" y="4591800"/>
            <a:ext cx="245880" cy="2034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23840" y="46944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17720" y="42512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5240" y="42512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22640" y="46735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41600" y="4095720"/>
            <a:ext cx="35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63920" y="4510080"/>
            <a:ext cx="544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040" y="4087800"/>
            <a:ext cx="35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6120" y="4510080"/>
            <a:ext cx="528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35240" y="4614840"/>
            <a:ext cx="9684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8480" y="4884840"/>
            <a:ext cx="9684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85880" y="3895560"/>
            <a:ext cx="9684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4280" y="500220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39880" y="374004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0200" y="3537000"/>
            <a:ext cx="4651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09680" y="4884840"/>
            <a:ext cx="4651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605040" y="3637080"/>
          <a:ext cx="4464360" cy="2190600"/>
        </p:xfrm>
        <a:graphic>
          <a:graphicData uri="http://schemas.openxmlformats.org/drawingml/2006/table">
            <a:tbl>
              <a:tblPr/>
              <a:tblGrid>
                <a:gridCol w="552600"/>
                <a:gridCol w="784080"/>
                <a:gridCol w="725760"/>
                <a:gridCol w="841320"/>
                <a:gridCol w="725400"/>
                <a:gridCol w="83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336960" y="593424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 and R are active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59C-7AA8-48BD-90FD-D784959915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 Flip-Flops with Asynchronous Input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5821200"/>
            <a:ext cx="8381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synchronous operation both R and S must be held to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804960"/>
            <a:ext cx="8650080" cy="50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synch_df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D, Clk, R, S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Q, Qba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synch_dff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synch_df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put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R, S, Clk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R = ‘0’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‘0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Qbar &lt;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S = ‘0’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Qbar &lt;= ‘0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Qbar &lt;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if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pu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26F-C1B9-4974-ADF2-5D0F0646FCB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egisters and Counter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6161040"/>
            <a:ext cx="838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ing a 4-bit register from D flip-fl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276120" y="947880"/>
            <a:ext cx="8650440" cy="50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reg4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D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td_logic_vector(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Cl, enable, Clk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Q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std_logic_vector(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reg4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reg4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_process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Cl, Clk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Cl = ‘1’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“0000”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rising_edge(Clk)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  i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enable = ‘1’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Q &lt;= D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i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if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g_proces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F0D-F51A-4970-B160-C362A42FF5E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we represent the memory word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we address the correct word given the values of address lin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memory write operations store values to be accessed by subsequent memory read operat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VHDL had convent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quenti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ming language construct these problems would be easily overco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urrent behavior is sometimes not appropri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y construct, address as an index to this arr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ing on the value of control signals, we can decide whether the array element is to be read or writt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BB8-9CBF-4E8E-A919-F67F23A5CA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flipH="1" flipV="1">
            <a:off x="4446720" y="1837800"/>
            <a:ext cx="1440" cy="14576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48160" y="2765520"/>
            <a:ext cx="9720" cy="4046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How to Model Asynchronous Communication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6240" y="3744720"/>
            <a:ext cx="83502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–phase protocol for asynchronous data trans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modeled two processes communicating via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odel uses wait statement that can suspend the process at multiple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possible with sensitivity li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411800" y="292752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881680" y="1838160"/>
            <a:ext cx="14400" cy="14148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049560" y="1838160"/>
            <a:ext cx="1440" cy="14414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0280" y="206064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2200" y="2506680"/>
            <a:ext cx="555444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2200" y="3138480"/>
            <a:ext cx="5554440" cy="1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27082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186520" y="2517840"/>
            <a:ext cx="163188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37240" y="2519280"/>
            <a:ext cx="779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86360" y="2736000"/>
            <a:ext cx="9720" cy="405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462560" y="2755440"/>
            <a:ext cx="71424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4920" y="3152880"/>
            <a:ext cx="65232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6800" y="210348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62160" y="2093760"/>
            <a:ext cx="2124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7440" y="3138480"/>
            <a:ext cx="2159280" cy="792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298240" y="1838160"/>
            <a:ext cx="1800" cy="1285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785760" y="1837800"/>
            <a:ext cx="1800" cy="14497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164200" y="1837800"/>
            <a:ext cx="1440" cy="14576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85120" y="2084040"/>
            <a:ext cx="1440" cy="10825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560" y="2084400"/>
            <a:ext cx="9720" cy="404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17680" y="2513160"/>
            <a:ext cx="741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537240" y="3138480"/>
            <a:ext cx="779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149800" y="2760840"/>
            <a:ext cx="7146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02040" y="225108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2640" y="2259000"/>
            <a:ext cx="1305000" cy="728640"/>
          </a:xfrm>
          <a:custGeom>
            <a:avLst/>
            <a:gdLst/>
            <a:ahLst/>
            <a:rect l="l" t="t" r="r" b="b"/>
            <a:pathLst>
              <a:path w="822" h="459">
                <a:moveTo>
                  <a:pt x="0" y="25"/>
                </a:moveTo>
                <a:cubicBezTo>
                  <a:pt x="134" y="12"/>
                  <a:pt x="269" y="0"/>
                  <a:pt x="357" y="61"/>
                </a:cubicBezTo>
                <a:cubicBezTo>
                  <a:pt x="445" y="122"/>
                  <a:pt x="451" y="329"/>
                  <a:pt x="528" y="394"/>
                </a:cubicBezTo>
                <a:cubicBezTo>
                  <a:pt x="605" y="459"/>
                  <a:pt x="713" y="455"/>
                  <a:pt x="822" y="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89560" y="2284560"/>
            <a:ext cx="647640" cy="699840"/>
          </a:xfrm>
          <a:custGeom>
            <a:avLst/>
            <a:gdLst/>
            <a:ahLst/>
            <a:rect l="l" t="t" r="r" b="b"/>
            <a:pathLst>
              <a:path w="408" h="441">
                <a:moveTo>
                  <a:pt x="0" y="441"/>
                </a:moveTo>
                <a:cubicBezTo>
                  <a:pt x="45" y="440"/>
                  <a:pt x="90" y="439"/>
                  <a:pt x="123" y="399"/>
                </a:cubicBezTo>
                <a:cubicBezTo>
                  <a:pt x="156" y="359"/>
                  <a:pt x="172" y="259"/>
                  <a:pt x="201" y="198"/>
                </a:cubicBezTo>
                <a:cubicBezTo>
                  <a:pt x="230" y="137"/>
                  <a:pt x="262" y="66"/>
                  <a:pt x="297" y="33"/>
                </a:cubicBezTo>
                <a:cubicBezTo>
                  <a:pt x="332" y="0"/>
                  <a:pt x="370" y="1"/>
                  <a:pt x="408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30720" y="223668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35600" y="2889360"/>
            <a:ext cx="11592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1320" y="2284560"/>
            <a:ext cx="576360" cy="71568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0"/>
                </a:moveTo>
                <a:cubicBezTo>
                  <a:pt x="68" y="3"/>
                  <a:pt x="136" y="6"/>
                  <a:pt x="171" y="42"/>
                </a:cubicBezTo>
                <a:cubicBezTo>
                  <a:pt x="206" y="78"/>
                  <a:pt x="198" y="154"/>
                  <a:pt x="213" y="216"/>
                </a:cubicBezTo>
                <a:cubicBezTo>
                  <a:pt x="228" y="278"/>
                  <a:pt x="236" y="383"/>
                  <a:pt x="261" y="417"/>
                </a:cubicBezTo>
                <a:cubicBezTo>
                  <a:pt x="286" y="451"/>
                  <a:pt x="324" y="435"/>
                  <a:pt x="363" y="4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82B-8E95-4D88-9C57-47F7E34A44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71640" y="2903400"/>
            <a:ext cx="6589800" cy="25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9536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How to Model Asynchronous Communication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04" name=""/>
          <p:cNvSpPr/>
          <p:nvPr/>
        </p:nvSpPr>
        <p:spPr>
          <a:xfrm>
            <a:off x="2049480" y="3335400"/>
            <a:ext cx="1509840" cy="14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2000" y="3335400"/>
            <a:ext cx="1509840" cy="14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59320" y="3552840"/>
            <a:ext cx="30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558960" y="3886200"/>
            <a:ext cx="30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08520" y="315612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97360" y="35542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59320" y="4097160"/>
            <a:ext cx="3082680" cy="479520"/>
          </a:xfrm>
          <a:prstGeom prst="rightArrow">
            <a:avLst>
              <a:gd name="adj1" fmla="val 62250"/>
              <a:gd name="adj2" fmla="val 1089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1960" y="4125960"/>
            <a:ext cx="19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mit_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3951360"/>
            <a:ext cx="1744560" cy="571320"/>
          </a:xfrm>
          <a:prstGeom prst="rightArrow">
            <a:avLst>
              <a:gd name="adj1" fmla="val 57222"/>
              <a:gd name="adj2" fmla="val 486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8520" y="403704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put_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C27-7CD2-4405-91CD-ADCECE83B2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1404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Asynchronous Communication 1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719280"/>
            <a:ext cx="865008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input_data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_data: 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Q, ACK: std_logic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te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 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beg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put_data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’even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wait until input data is </a:t>
            </a:r>
            <a:br>
              <a:rPr sz="1700"/>
            </a:b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                                 -- available</a:t>
            </a:r>
            <a:br>
              <a:rPr sz="1700"/>
            </a:b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_data &lt;= input_data;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provide the data as produc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Q = ‘1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CK = ‘1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Q = ‘0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CK = ‘0’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te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ceive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 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begin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ceiver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35B-DC90-4804-8F8A-5E0A7B4D06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85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Asynchronous Communication 2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5138280"/>
            <a:ext cx="838188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776160"/>
            <a:ext cx="8650080" cy="55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input_data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handshak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_data: 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Q, ACK: std_logic;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ter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 is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begin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ransmitter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ceiver :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  variabl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ceive_data: std_logic_vector(31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begin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–- </a:t>
            </a:r>
            <a:r>
              <a:rPr b="0" i="1" lang="en-US" sz="1700" spc="-1" strike="noStrike">
                <a:solidFill>
                  <a:srgbClr val="3333cc"/>
                </a:solidFill>
                <a:latin typeface="Courier New"/>
              </a:rPr>
              <a:t>for process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Q = ‘1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receive_data:= transmit_data;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read the data as consumer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ACK = ‘1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Q = ‘0’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ACK = ‘0’;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ceiver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30D-E8C4-4B08-8A6F-1C3391E59D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ttribut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seen that an attribute is used to determine various type of information about a 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k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TRUE if there has been a change in the value of the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aid to be an attribute of a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can also be used to gather information about the other type of VHDL constructs such as entities and arra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ttributes are predefined by the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 can also creat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6E6-CD1B-4A2A-BB35-A51BDC28AC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ttribut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ttribute can be a value, function, type, range, signal, or constant that can be associated with certain names within a VHDL descri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95C-2A75-48EC-9D15-C8CA01D2BC7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ype of Attribut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okes a function which returns a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a constan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a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a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a r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EF3-AE3C-4ABD-8322-3C8A119984B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 Attribut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590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ttributes represent functions that are called to obtain a val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61880" y="1420920"/>
          <a:ext cx="8520120" cy="4900680"/>
        </p:xfrm>
        <a:graphic>
          <a:graphicData uri="http://schemas.openxmlformats.org/drawingml/2006/table">
            <a:tbl>
              <a:tblPr/>
              <a:tblGrid>
                <a:gridCol w="3716280"/>
                <a:gridCol w="480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unction 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a Boolean value signifying a change on this 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a Boolean value signifying an assignment  made to this signal. This assignment may not be a new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ast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time since the last event on this 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ast_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time since the signal was la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ast_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previous value of this 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_arra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length of the array my_arr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3BB-83F3-4931-8CF0-16283454E07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 Attributes: Examp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400968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’driv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eturns FALSE if, the driver for the signal s1 is disconnected; otherwise it returns TRU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’driving_valu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 the current value of the driver for s1. It is illegal to access this attribute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’driv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FA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660240" y="1536840"/>
            <a:ext cx="72504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OCK: std_logic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tup_time: Time:= 5 ns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:std_logic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UNT: integer;</a:t>
            </a:r>
            <a:br>
              <a:rPr sz="1700"/>
            </a:b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CLOCK =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CLOCK’event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’last_event &lt; setup_tim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UNT=20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OUNT’last_value=10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22B-0EDC-45A9-8A4B-BADB105724B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unction Attributes: Examp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955800"/>
            <a:ext cx="7939080" cy="19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rocess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‘Z’,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ns, ‘1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ns,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15ns, ‘U’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fter 2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5ns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... x’driving ...          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use of driving attribut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... x’driving_value ..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-- use of driving_value  </a:t>
            </a:r>
            <a:br>
              <a:rPr sz="1700"/>
            </a:b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                              -- attribute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wait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r>
              <a:rPr b="0" lang="en-US" sz="17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99240" y="3440160"/>
            <a:ext cx="1219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 @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79920" y="3440160"/>
            <a:ext cx="1219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’ @ 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29120" y="3440160"/>
            <a:ext cx="1450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ul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@ 1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3440160"/>
            <a:ext cx="14367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’ @ 2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720" y="3476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99240" y="4275000"/>
            <a:ext cx="1219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75000"/>
            <a:ext cx="1219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29120" y="4275000"/>
            <a:ext cx="1450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2360" y="4275000"/>
            <a:ext cx="14367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66960" y="4311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dr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1520" y="5173560"/>
            <a:ext cx="1219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2560" y="5173560"/>
            <a:ext cx="12189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1400" y="5173560"/>
            <a:ext cx="14511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legal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44640" y="5173560"/>
            <a:ext cx="14367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6120" y="51735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driving_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AE5-8545-4A6B-9922-AD26BCE893D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Process Stateme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behavior of digital systems is best modeled using the process sta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x32-bits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33440" y="2557440"/>
            <a:ext cx="8288280" cy="37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.std_logic_arith.all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we need this package for    </a:t>
            </a:r>
            <a:br>
              <a:rPr sz="1800"/>
            </a:b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1164 related functio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o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dr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unsigned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use unsigned for  </a:t>
            </a:r>
            <a:br>
              <a:rPr sz="1800"/>
            </a:b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                                           memory addr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write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Mem Read, MemWrit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read_data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d_logic_vector(3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or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B12-672D-4CE1-BCD7-3D9D0432E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alue Attribut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return a constant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em_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0 to 7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_vector(3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lef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ascend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_arra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len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ate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state0, state1, state2, state3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lef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state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righ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state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have to remember the every state we just assig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the state on re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9E8-BED2-460E-B314-9E4C4D789FC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alue Attribut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33360" y="1020600"/>
          <a:ext cx="8520120" cy="5141880"/>
        </p:xfrm>
        <a:graphic>
          <a:graphicData uri="http://schemas.openxmlformats.org/drawingml/2006/table">
            <a:tbl>
              <a:tblPr/>
              <a:tblGrid>
                <a:gridCol w="3441960"/>
                <a:gridCol w="5078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lue 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leftmost value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its defin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rightmost value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its defin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highest value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its defin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lowest value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its defin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asce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rue i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calar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s an ascending range of values (VHDL’9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the number of elem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eft bound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_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ight bound o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_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B74-2FAB-476D-937F-154572494E5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alue Attributes: Exampl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ED_VALUE’high = ALLOWED_VALUE’left = 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ED_VALUE’right = ALLOWED_VALUE’low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EK_DAY’left = WEEK_DAY’low =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EK_DAY’right = WEEK_DAY’high = s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_DAY’right = WORK_DAY’low = m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_DAY’left = WORK_DAY’high = f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ED_VALUE’ascending is 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EK_DAY’ascending is 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K_DAY’ascending is FA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927000"/>
            <a:ext cx="793908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LLOWED_VALUE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rang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31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0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EEK_DAY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sun, mon, tue, wed, thu, fri, sat);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btyp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ORK_DAY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EEK_DAY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ange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i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downto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on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AE6-9183-415E-B5FB-66BFDD4AC79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attributes create new signals from signals explicitly declared in VHDL mode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ypes of signal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mplici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gnal_name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ay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reate a new signal of the same type, which is delayed by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04920" y="3333600"/>
          <a:ext cx="8520120" cy="2890800"/>
        </p:xfrm>
        <a:graphic>
          <a:graphicData uri="http://schemas.openxmlformats.org/drawingml/2006/table">
            <a:tbl>
              <a:tblPr/>
              <a:tblGrid>
                <a:gridCol w="3716280"/>
                <a:gridCol w="480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al 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delayed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al delayed by T units of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s signal of type bit whose value toggles whe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s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quiet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whe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has been quiet for T units of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nal_nam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’stable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ue when event has not occurred 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ignal_nam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T units of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070-579D-464B-8D1E-8F0D0A30298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: Example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990720"/>
            <a:ext cx="8650080" cy="49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ttribute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data:in std_logic_vector(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)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ttribute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ttribute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outtransaction: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it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outdelayed:std_logic_vector(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delayed &lt;= data'delayed(10 ns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transaction &lt;= data'transaction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99E-73F3-452B-926C-23E047DB44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: Example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45B-7511-4CB4-8985-03D41D23E35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en to Use Implicit Signals?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are interested in a change in the value of the  sig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xample, we can wait for events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‘transa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 signa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ayed signal is used to check for the relationship between the current value and older value of a 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it on ReceiveDat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transa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eiveDat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’delay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5 ns)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eiveDat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gt; 5 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1DB-6B39-43B7-B7D1-457621B543E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560" y="71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icit Signals: Example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604440"/>
            <a:ext cx="838188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attributes_0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data:in std_logic_vector(3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attributes_01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attributes_0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o_integer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arg:std_logic_vector(3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0))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eger is 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begi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arg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000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0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000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01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2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01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3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10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4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10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5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11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6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011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7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"100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8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00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9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01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0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01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1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10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2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10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3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110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4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"1111"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15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ther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0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ca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to_integer; 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4DE-3000-4FB9-A691-777A371FDF0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icit Signals: Example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outdelayed:std_logic_vector(3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0):="0000"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test: std_logic:='0'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ttributes: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to_integer(data)-to_integer(data'delayed(10 ns))  &gt; 1)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est &lt;= '1'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est &lt;= '0'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if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process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attributes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utdelayed &lt;= data'delayed(10 ns)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006-85EA-4160-B542-4B562B73A32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Implicit Signals: Example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80C-E6BB-4E68-A25D-934B7A7D36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9972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Process Statement for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5760" y="1176120"/>
            <a:ext cx="866484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behavioral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memory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ype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m_array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 arra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0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7)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d_logic_vector(31 downto 0)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define a new type, for memory array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gin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begin for architecture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m_process: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address, write_data)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ata_mem: mem_array :=(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declare a memory array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         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initialize data memory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         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X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denotes a hexadecimal numb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”0000000”)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ariable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ddr: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</a:t>
            </a:r>
            <a:r>
              <a:rPr b="0" i="1" lang="en-US" sz="1500" spc="-1" strike="noStrike">
                <a:solidFill>
                  <a:srgbClr val="3333cc"/>
                </a:solidFill>
                <a:latin typeface="Courier New"/>
              </a:rPr>
              <a:t>begin for process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m_process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217880" y="657360"/>
            <a:ext cx="53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larative region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E93-FADF-4271-A03D-9E11C58728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flipV="1">
            <a:off x="5521320" y="2214720"/>
            <a:ext cx="0" cy="2411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OCK_SKEW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370320" y="2162160"/>
            <a:ext cx="15840" cy="2463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370320" y="2950920"/>
            <a:ext cx="5640480" cy="6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8680" y="245520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84200" y="24732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_SK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386160" y="2949120"/>
            <a:ext cx="1085760" cy="3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49920" y="2436120"/>
            <a:ext cx="0" cy="515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64000" y="2455920"/>
            <a:ext cx="2222640" cy="3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0320" y="3828960"/>
            <a:ext cx="5662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60400" y="46418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29280" y="4175280"/>
            <a:ext cx="242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449600" y="4626000"/>
            <a:ext cx="8226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68680" y="2214720"/>
            <a:ext cx="1800" cy="2433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86640" y="2938320"/>
            <a:ext cx="2160360" cy="11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638760" y="2228760"/>
            <a:ext cx="0" cy="2417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696080" y="2219040"/>
            <a:ext cx="0" cy="24289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847000" y="2204640"/>
            <a:ext cx="0" cy="24210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3920" y="3333600"/>
            <a:ext cx="2198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3280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71920" y="41745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5200" y="475776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4032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0880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7440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4108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6520" y="32544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_SKEW’DELAYED(5 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70320" y="3828960"/>
            <a:ext cx="2151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49600" y="3621240"/>
            <a:ext cx="1094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03680" y="324648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7560" y="40068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_SKEW’STABLE(4 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29280" y="41745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4175280"/>
            <a:ext cx="13586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72200" y="41745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71920" y="428004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43200" y="393372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55720" y="43369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30840" y="414432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49920" y="4632480"/>
            <a:ext cx="8668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516800" y="4145040"/>
            <a:ext cx="13302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16800" y="414648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32800" y="3828960"/>
            <a:ext cx="11160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28960" y="41511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362400" y="4624560"/>
            <a:ext cx="86688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20E-8D1D-4B08-903B-3A3F89BC1F9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 for Setup Constrain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BLE attribute can be used for catch a setup viol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required to report a violation if signal DATA has not been stable for the specified SETUP time before the falling edge of the signal CLK occu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ETUP: TIME:=1.2 n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unti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LK =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K’even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ATA’STABLE(SETUP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“setup violation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ver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WARNING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68E-8097-4F06-AEB1-987B5EF87FA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5320" y="40464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A D Flip-Flop with Setup &amp; Holdup Violations Check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560" y="1209240"/>
            <a:ext cx="8381880" cy="461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d, clk: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std_logic; q, qbar: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d_logic);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ff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check_time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ff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constan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hold_time: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:= 5 ns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tan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up_time: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:= 3 ns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proces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d, clk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check for hold time</a:t>
            </a:r>
            <a:br>
              <a:rPr sz="1500"/>
            </a:b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’event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asser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W = 0 n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k’last_event &gt;= hold_tim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“hold time too short!”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AILURE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heck_times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455400" y="5823000"/>
            <a:ext cx="790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is a predefined function that returns the 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io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2CF-B8F5-4388-B5EC-58E551D882A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5191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A D Flip-Flop with Setup &amp; Holdup Violations Check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check for setup time</a:t>
            </a:r>
            <a:br>
              <a:rPr sz="1500"/>
            </a:b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clk = 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k’event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asser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W = 0 ns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’last_event &gt;= setup_tim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por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“setup time too short!”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everity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AILURE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-- behavior of D FF</a:t>
            </a:r>
            <a:br>
              <a:rPr sz="1500"/>
            </a:br>
            <a:r>
              <a:rPr b="0" lang="en-US" sz="15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clk = 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lk’event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q &lt;= d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qbar &lt;=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end if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end process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heck_times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3A5-5ABE-4DE8-969E-CBBAA8D3C34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gnal Attributes vs. Function Attribut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attributes return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attributes creates a new sig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 attributes can be used wherever a signal is expected; for example in the sensitivity list of a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TABL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, B, CLK’STABL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illegal to use CLK’EVENT, for example, in the sensitivity li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680-7360-4D5B-8B5A-73E4036CED6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ange Attribu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s a r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ful especially when writing lo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 loop that scans all of the elements in an arra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_array(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ex range is return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_array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may not know the size of the array after 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_array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ge lo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my_var := value_array(i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lo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39B-83D2-4F01-8150-62D5EF3D0B2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Range Attribu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BUS: std_logic_vector(7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0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BUS’range returns the range “7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0”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BUS’reverse_range returns the range “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7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97B-889F-4328-ADBD-E7F67624002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ype Attribut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120" y="990360"/>
            <a:ext cx="8926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 is any type or subtype, T’BASE, which is the only type attribute, returns base type of 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attribute cannot be used in expressions since it returns a ty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be used in conjunction with other attribu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_O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ADD,SUB,MULT,DIV,AND,NAND,OR,NOR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RITH_O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_OP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IV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ITH_OPS’BAS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LU_OP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ITH_OPS’BASE’LEF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DCB-9EE3-4B89-BBE8-63C26EE8D4F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er-Defined Attributes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ants of any type (except access or file typ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declared using attribute declar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-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ue-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884160" y="3379680"/>
            <a:ext cx="712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user_defin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ttribu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n_no: natur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technology: string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3320" y="4932360"/>
            <a:ext cx="80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yet not associated with an 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y, in this context, could be and entity, a signal,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chitecture, a variable, type, subtype, packag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dure, or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7E1-42B7-4B27-B11D-5A9EA0CBF37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er-Defined Attribute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3065040"/>
            <a:ext cx="8381880" cy="28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e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ser_defin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_no of Q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echnolog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a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onent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CMOS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25880" y="993600"/>
            <a:ext cx="703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ssoc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-na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-name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name_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DC2-0843-45A5-93E8-4E50E858E67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69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The Process Statement for Memory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77520"/>
            <a:ext cx="838188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egin for archite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egin for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1: addr := conv_integer(address(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wn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)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-- this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-- conversion function is in std_logic_arith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Write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-- perform a read or wri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3:    data_mem(addr) := write_data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ls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mRead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_data &lt;= data_mem(add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f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310040" y="85392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ational part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20A-CF8B-4643-947D-8C064EC015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Generating Clocks and Periodic Waveform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560" y="101916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iod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(Z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iodic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iod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&lt;= ’0’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0 ns, 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 ns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0 n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50 n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ED1-7AF4-4981-9791-6D6C2B24E5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Monotype Corsiva"/>
              </a:rPr>
              <a:t>Generating Clocks and Periodic Waveforms</a:t>
            </a:r>
            <a:endParaRPr b="0" lang="en-US" sz="40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3513240"/>
            <a:ext cx="838188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rocess is executed repeatedly with 50 ns peri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upon initialization, all processes are execu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every process is executed at least o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50 ns cause the process to be re-execu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671400" y="1703160"/>
            <a:ext cx="15840" cy="11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240" y="2832120"/>
            <a:ext cx="6745320" cy="9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08040" y="2862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18280" y="2862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57520" y="170316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69120" y="2862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86920" y="2862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44240" y="2862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95160" y="28479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62360" y="166644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921120" y="166644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18040" y="166644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103800" y="166644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246800" y="1666440"/>
            <a:ext cx="0" cy="11588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71400" y="2832120"/>
            <a:ext cx="1086120" cy="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757520" y="2112840"/>
            <a:ext cx="1085760" cy="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740960" y="2128680"/>
            <a:ext cx="16200" cy="689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2835360" y="2152440"/>
            <a:ext cx="15840" cy="68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5360" y="2825640"/>
            <a:ext cx="2182680" cy="22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018040" y="2104920"/>
            <a:ext cx="1085760" cy="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02200" y="2120760"/>
            <a:ext cx="15840" cy="689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6095880" y="2144520"/>
            <a:ext cx="15840" cy="688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18200" y="2825640"/>
            <a:ext cx="1143000" cy="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7245360" y="2120760"/>
            <a:ext cx="15840" cy="689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95C-BDE6-4939-B4FC-F637DBF302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ting a Two-Phase Clock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3818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EEE.std_logic_1164.al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wo_pha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(phi1, phi2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std_logic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enti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wo_phases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wo_pha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et_process: reset &lt;= ‘1’, 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0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lock_proces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hi1 &lt;= ‘1’, 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0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phi2 &lt;= ‘0’, ‘1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2 ns, ‘0’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f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20 n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ck_proce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architect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haviora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750-0199-4B35-83BE-B3629DEC11B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3680" y="2162160"/>
            <a:ext cx="2148120" cy="24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Generating a Two-Phase Clock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ulses in two clock signals are adjusted not to overl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228840" y="2214720"/>
            <a:ext cx="0" cy="2411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077840" y="2162160"/>
            <a:ext cx="15840" cy="2463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77840" y="2957400"/>
            <a:ext cx="6631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2455200"/>
            <a:ext cx="0" cy="501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2640" y="24732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093680" y="2433240"/>
            <a:ext cx="1086120" cy="3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77840" y="3828960"/>
            <a:ext cx="6631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077840" y="4641840"/>
            <a:ext cx="7093080" cy="6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077840" y="4626000"/>
            <a:ext cx="12780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176560" y="2214720"/>
            <a:ext cx="1440" cy="24336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57480" y="2949480"/>
            <a:ext cx="55497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346640" y="2228760"/>
            <a:ext cx="0" cy="241776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403960" y="2219040"/>
            <a:ext cx="0" cy="242892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554880" y="2204640"/>
            <a:ext cx="0" cy="24210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87720" y="332676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241800" y="3327120"/>
            <a:ext cx="1096920" cy="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988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355840" y="41745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96840" y="47577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4856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1524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8192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48960" y="4734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8920" y="33336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i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03400" y="3333600"/>
            <a:ext cx="1076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7280" y="41893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55840" y="4175280"/>
            <a:ext cx="652320" cy="140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08160" y="417456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5640" y="3821040"/>
            <a:ext cx="103320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709040" y="2161800"/>
            <a:ext cx="0" cy="242100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57040" y="4711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2884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0396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4880" y="3333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70400" y="3828960"/>
            <a:ext cx="103356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03960" y="3333600"/>
            <a:ext cx="1150920" cy="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54880" y="3835440"/>
            <a:ext cx="1152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008160" y="4646160"/>
            <a:ext cx="22068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160800" y="4646160"/>
            <a:ext cx="1406520" cy="32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67320" y="415440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67320" y="4168800"/>
            <a:ext cx="609480" cy="6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76800" y="41680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176800" y="4646160"/>
            <a:ext cx="22068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97480" y="4648320"/>
            <a:ext cx="142704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24520" y="41824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24520" y="4183200"/>
            <a:ext cx="652680" cy="140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7200" y="4182480"/>
            <a:ext cx="0" cy="50148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77200" y="4654080"/>
            <a:ext cx="220680" cy="18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6200" y="5599080"/>
            <a:ext cx="8381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that reset process is executed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1880" y="1665360"/>
            <a:ext cx="1886040" cy="496800"/>
          </a:xfrm>
          <a:custGeom>
            <a:avLst/>
            <a:gdLst/>
            <a:ahLst/>
            <a:rect l="l" t="t" r="r" b="b"/>
            <a:pathLst>
              <a:path w="1188" h="313">
                <a:moveTo>
                  <a:pt x="0" y="313"/>
                </a:moveTo>
                <a:cubicBezTo>
                  <a:pt x="12" y="177"/>
                  <a:pt x="24" y="42"/>
                  <a:pt x="137" y="21"/>
                </a:cubicBezTo>
                <a:cubicBezTo>
                  <a:pt x="250" y="0"/>
                  <a:pt x="501" y="159"/>
                  <a:pt x="676" y="185"/>
                </a:cubicBezTo>
                <a:cubicBezTo>
                  <a:pt x="851" y="211"/>
                  <a:pt x="1019" y="193"/>
                  <a:pt x="1188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86280" y="16192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of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F43-3B34-46D6-98C5-9A7036DCF61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Signals in a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993600"/>
            <a:ext cx="698400" cy="5605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79840" y="122076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1960" y="1668600"/>
            <a:ext cx="698760" cy="56016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02160" y="189540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48200" y="1349280"/>
            <a:ext cx="698760" cy="560520"/>
          </a:xfrm>
          <a:custGeom>
            <a:avLst/>
            <a:gdLst/>
            <a:ahLst/>
            <a:rect l="l" t="t" r="r" b="b"/>
            <a:pathLst>
              <a:path w="39" h="30">
                <a:moveTo>
                  <a:pt x="24" y="30"/>
                </a:moveTo>
                <a:lnTo>
                  <a:pt x="0" y="30"/>
                </a:lnTo>
                <a:lnTo>
                  <a:pt x="0" y="0"/>
                </a:lnTo>
                <a:lnTo>
                  <a:pt x="24" y="0"/>
                </a:lnTo>
                <a:cubicBezTo>
                  <a:pt x="32" y="0"/>
                  <a:pt x="39" y="6"/>
                  <a:pt x="39" y="15"/>
                </a:cubicBezTo>
                <a:cubicBezTo>
                  <a:pt x="39" y="23"/>
                  <a:pt x="32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48400" y="1576440"/>
            <a:ext cx="13644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2422800" y="1005480"/>
            <a:ext cx="304560" cy="290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16200" y="1084320"/>
            <a:ext cx="13644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2445120" y="1940760"/>
            <a:ext cx="304920" cy="290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8520" y="2019240"/>
            <a:ext cx="1364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71720" y="2079720"/>
            <a:ext cx="9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5600" y="1157400"/>
            <a:ext cx="92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6560" y="2087640"/>
            <a:ext cx="536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75040" y="11523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13400" y="1281240"/>
            <a:ext cx="58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0400" y="19558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194440" y="151272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94440" y="1281240"/>
            <a:ext cx="0" cy="23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5202360" y="17384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7960" y="173844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70800" y="163980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0480" y="1157400"/>
            <a:ext cx="0" cy="63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16080" y="1809720"/>
            <a:ext cx="16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25600" y="1452600"/>
            <a:ext cx="0" cy="6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19480" y="1446120"/>
            <a:ext cx="1465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89080" y="1109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4560" y="2038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0080" y="1171440"/>
            <a:ext cx="2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2000" y="2546280"/>
            <a:ext cx="883908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, s3, s4: std_logic :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2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1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4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3120" y="977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6720" y="1827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77640" y="75240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06080" y="20606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74320" y="8841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701600" y="19270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11280" y="124632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A09-7ED6-441F-BF34-59295312BBE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Delta Delays: Example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0" y="880920"/>
            <a:ext cx="450720" cy="524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2720" y="45813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141560" y="861840"/>
            <a:ext cx="15840" cy="5276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1040" y="16081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044800" y="898560"/>
            <a:ext cx="0" cy="5183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57400" y="160344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5840" y="1841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5560" y="110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3360" y="2300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3360" y="30700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71440" y="1805040"/>
            <a:ext cx="855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55560" y="3852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182600" y="25606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917800" y="857160"/>
            <a:ext cx="19080" cy="52516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39760" y="18111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27160" y="2305080"/>
            <a:ext cx="88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825720" y="901800"/>
            <a:ext cx="1800" cy="5208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22840" y="885960"/>
            <a:ext cx="19080" cy="52228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635800" y="878040"/>
            <a:ext cx="2880" cy="5232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6543720" y="861840"/>
            <a:ext cx="0" cy="53056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46600" y="179640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49480" y="25700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935440" y="337176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55640" y="61009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3680" y="6119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64360" y="61196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86680" y="6134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37800" y="61196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61920" y="6119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2720" y="53658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0880" y="61196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1000" y="40514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000" y="47577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52360" y="33847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50920" y="45864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41560" y="406872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65320" y="486396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57400" y="535464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1609560"/>
            <a:ext cx="91296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49480" y="1160640"/>
            <a:ext cx="91296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35440" y="116064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49840" y="161136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48400" y="161136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78640" y="113184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4600" y="839520"/>
            <a:ext cx="0" cy="5275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68400" y="6099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933280" y="1133640"/>
            <a:ext cx="180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741920" y="1127160"/>
            <a:ext cx="144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540480" y="1111320"/>
            <a:ext cx="144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33640" y="229716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835440" y="1796760"/>
            <a:ext cx="91584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741920" y="1788840"/>
            <a:ext cx="91584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638680" y="180432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664240" y="2289240"/>
            <a:ext cx="915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548400" y="2289240"/>
            <a:ext cx="91620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7960" y="25034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060640" y="3076560"/>
            <a:ext cx="8748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46240" y="2611440"/>
            <a:ext cx="890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43360" y="259236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40120" y="2604240"/>
            <a:ext cx="0" cy="459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851280" y="3068640"/>
            <a:ext cx="8748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751280" y="25750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48040" y="25844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27520" y="256212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5653080" y="3068640"/>
            <a:ext cx="8748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567480" y="258912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0200" y="25844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4200" y="33098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44800" y="33926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41920" y="336384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30400" y="3855960"/>
            <a:ext cx="882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36880" y="38498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56320" y="335052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45160" y="3363840"/>
            <a:ext cx="882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637240" y="33577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73960" y="3857760"/>
            <a:ext cx="88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57400" y="407052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49840" y="4074480"/>
            <a:ext cx="0" cy="50148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49480" y="407844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8040" y="45846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40120" y="457848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4000" y="4090320"/>
            <a:ext cx="0" cy="50148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49840" y="409248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6320" y="408636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8760" y="54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2063880" y="483876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41560" y="484488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841920" y="484488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41920" y="485604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34000" y="534672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35440" y="487836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649840" y="4852800"/>
            <a:ext cx="90972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550200" y="4852800"/>
            <a:ext cx="90936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150920" y="559440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14560" y="56260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2028960" y="5602320"/>
            <a:ext cx="90936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921040" y="610380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51280" y="561960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857760" y="5602320"/>
            <a:ext cx="90936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735440" y="559584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641920" y="560376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64240" y="563184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570720" y="611028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6120" y="1954080"/>
            <a:ext cx="12672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5040" y="2043000"/>
            <a:ext cx="320400" cy="2322720"/>
          </a:xfrm>
          <a:custGeom>
            <a:avLst/>
            <a:gdLst/>
            <a:ahLst/>
            <a:rect l="l" t="t" r="r" b="b"/>
            <a:pathLst>
              <a:path w="202" h="1463">
                <a:moveTo>
                  <a:pt x="0" y="0"/>
                </a:moveTo>
                <a:cubicBezTo>
                  <a:pt x="101" y="271"/>
                  <a:pt x="202" y="542"/>
                  <a:pt x="202" y="786"/>
                </a:cubicBezTo>
                <a:cubicBezTo>
                  <a:pt x="202" y="1030"/>
                  <a:pt x="101" y="1246"/>
                  <a:pt x="0" y="14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63800" y="429732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04920" y="3349800"/>
            <a:ext cx="352440" cy="1711080"/>
          </a:xfrm>
          <a:custGeom>
            <a:avLst/>
            <a:gdLst/>
            <a:ahLst/>
            <a:rect l="l" t="t" r="r" b="b"/>
            <a:pathLst>
              <a:path w="222" h="1078">
                <a:moveTo>
                  <a:pt x="183" y="0"/>
                </a:moveTo>
                <a:cubicBezTo>
                  <a:pt x="202" y="252"/>
                  <a:pt x="222" y="505"/>
                  <a:pt x="192" y="685"/>
                </a:cubicBezTo>
                <a:cubicBezTo>
                  <a:pt x="162" y="865"/>
                  <a:pt x="81" y="971"/>
                  <a:pt x="0" y="107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4320" y="500220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71720" y="2708280"/>
            <a:ext cx="127080" cy="1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90560" y="2841480"/>
            <a:ext cx="298440" cy="2235240"/>
          </a:xfrm>
          <a:custGeom>
            <a:avLst/>
            <a:gdLst/>
            <a:ahLst/>
            <a:rect l="l" t="t" r="r" b="b"/>
            <a:pathLst>
              <a:path w="188" h="1408">
                <a:moveTo>
                  <a:pt x="188" y="1408"/>
                </a:moveTo>
                <a:cubicBezTo>
                  <a:pt x="99" y="1104"/>
                  <a:pt x="10" y="801"/>
                  <a:pt x="5" y="566"/>
                </a:cubicBezTo>
                <a:cubicBezTo>
                  <a:pt x="0" y="331"/>
                  <a:pt x="80" y="165"/>
                  <a:pt x="1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C9-5442-4F0A-AF09-265483A0778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Signals in a Process 2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ination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, s2, s3, s4: std_logic := ‘0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ta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1, in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2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1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4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ta_proces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F2E-638E-4772-8A0B-4AB9A84646F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Signals in a Process 3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673" name=""/>
          <p:cNvSpPr/>
          <p:nvPr/>
        </p:nvSpPr>
        <p:spPr>
          <a:xfrm>
            <a:off x="612720" y="458136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1141560" y="861840"/>
            <a:ext cx="15840" cy="5276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1040" y="16081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044800" y="898560"/>
            <a:ext cx="0" cy="51832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7400" y="160344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5840" y="1841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5560" y="110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3360" y="23004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3360" y="307008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171440" y="1805040"/>
            <a:ext cx="855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55560" y="385272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17800" y="857160"/>
            <a:ext cx="19080" cy="52516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39760" y="181116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027160" y="2290680"/>
            <a:ext cx="884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825720" y="901800"/>
            <a:ext cx="1800" cy="52084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37240" y="944640"/>
            <a:ext cx="19080" cy="52228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35800" y="878040"/>
            <a:ext cx="2880" cy="523224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543720" y="861840"/>
            <a:ext cx="0" cy="53056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46600" y="179640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35440" y="337176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55640" y="61009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13680" y="6119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64360" y="61196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86680" y="61340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37800" y="61196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61920" y="6119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2720" y="536580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0880" y="6119640"/>
            <a:ext cx="7272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31000" y="40514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8000" y="47577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73240" y="339408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87280" y="45846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41560" y="4068720"/>
            <a:ext cx="0" cy="50184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65320" y="4863960"/>
            <a:ext cx="0" cy="5018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0920" y="1609560"/>
            <a:ext cx="91296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49480" y="1160640"/>
            <a:ext cx="91296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35440" y="116064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49840" y="161136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48400" y="1611360"/>
            <a:ext cx="9126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578640" y="1117440"/>
            <a:ext cx="912600" cy="1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464600" y="839520"/>
            <a:ext cx="0" cy="5275080"/>
          </a:xfrm>
          <a:prstGeom prst="line">
            <a:avLst/>
          </a:prstGeom>
          <a:ln w="936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68400" y="6099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933280" y="1133640"/>
            <a:ext cx="180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741920" y="1127160"/>
            <a:ext cx="144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540480" y="1111320"/>
            <a:ext cx="1440" cy="50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33640" y="2297160"/>
            <a:ext cx="9144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835440" y="1796760"/>
            <a:ext cx="91584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41920" y="1803240"/>
            <a:ext cx="915840" cy="16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638680" y="180432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664240" y="2274840"/>
            <a:ext cx="91584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548400" y="2289240"/>
            <a:ext cx="91620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7960" y="250344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2960640" y="3076560"/>
            <a:ext cx="8906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65680" y="2576520"/>
            <a:ext cx="87444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751280" y="257508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35440" y="258444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27520" y="2562120"/>
            <a:ext cx="0" cy="501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653080" y="3068640"/>
            <a:ext cx="874800" cy="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67480" y="3060720"/>
            <a:ext cx="860400" cy="15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4200" y="33098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044800" y="33926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41920" y="3363840"/>
            <a:ext cx="0" cy="50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30400" y="38419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4984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556320" y="335052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45160" y="3363840"/>
            <a:ext cx="882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7240" y="3357720"/>
            <a:ext cx="882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573960" y="3857760"/>
            <a:ext cx="882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57400" y="408456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49840" y="4074480"/>
            <a:ext cx="0" cy="50148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49480" y="407844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48040" y="458460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0120" y="459252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34000" y="4090320"/>
            <a:ext cx="0" cy="50148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49840" y="409248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56320" y="4086360"/>
            <a:ext cx="898560" cy="0"/>
          </a:xfrm>
          <a:prstGeom prst="line">
            <a:avLst/>
          </a:prstGeom>
          <a:ln w="2844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8760" y="547704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063880" y="483876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7520" y="4830480"/>
            <a:ext cx="90936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3841920" y="4830480"/>
            <a:ext cx="909360" cy="1404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649840" y="483876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550200" y="4838760"/>
            <a:ext cx="90936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150920" y="5608440"/>
            <a:ext cx="909720" cy="14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14560" y="562608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028960" y="5602320"/>
            <a:ext cx="90936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921040" y="610380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5595840"/>
            <a:ext cx="0" cy="50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3816360" y="611028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735440" y="559584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5641920" y="560376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64240" y="5631840"/>
            <a:ext cx="0" cy="501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570720" y="6110280"/>
            <a:ext cx="909720" cy="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57400" y="4853160"/>
            <a:ext cx="869760" cy="51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4767120" y="4838760"/>
            <a:ext cx="909720" cy="14400"/>
          </a:xfrm>
          <a:prstGeom prst="line">
            <a:avLst/>
          </a:prstGeom>
          <a:ln w="28440">
            <a:solidFill>
              <a:srgbClr val="1e1e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58840" y="2552760"/>
            <a:ext cx="898560" cy="51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55960" y="2560680"/>
            <a:ext cx="880920" cy="519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C46-F5C6-48B8-B4D6-A8528566B18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Using Signals in a Process 4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560" y="5354280"/>
            <a:ext cx="83818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 we made the process sensitive to all signals then we would obtain the identical t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71280" y="990720"/>
          <a:ext cx="6095880" cy="406404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725400"/>
                <a:gridCol w="628920"/>
                <a:gridCol w="677880"/>
                <a:gridCol w="677880"/>
                <a:gridCol w="676080"/>
                <a:gridCol w="6778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e1e7a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2" name=""/>
          <p:cNvSpPr/>
          <p:nvPr/>
        </p:nvSpPr>
        <p:spPr>
          <a:xfrm>
            <a:off x="6273000" y="464184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&lt;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4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53200" y="255744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1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1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10360" y="3135240"/>
            <a:ext cx="24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2 &l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2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56360" y="36291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3&lt;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2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62840" y="40957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4&lt;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1)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3DF-FD39-4CDC-99DC-81757088676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tate Machine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ational circuits are sensitive to the inpu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ed when an event occurs on an input sig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ential circuits retain information in internal devices such as flip-flops and latc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stored in these devices are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circu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finite number of sta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utput values are computed as functions of both internal state and input sign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ternal state is updated at discrete points in time determined by a periodic signal such as cloc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BF9-4252-4FCE-838D-EC07351319C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Process Construc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63604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be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nsitivity_li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declarative region for variables and const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egin fo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tatements in a process are executed sequentially in the order implied by the 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, values assigned to variables (not signals though) in a statement are immediately visible to the subsequent statem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e sequential nature of statements in a process to concurrent signal assignment stat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6E9-57A4-491E-8EAE-DAB043187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Finite State Machine (FSM)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780" name=""/>
          <p:cNvSpPr/>
          <p:nvPr/>
        </p:nvSpPr>
        <p:spPr>
          <a:xfrm>
            <a:off x="1639800" y="1050840"/>
            <a:ext cx="2133720" cy="146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8480" y="12556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8480" y="159696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73520" y="125568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73520" y="159696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27280" y="2938320"/>
            <a:ext cx="362160" cy="90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55800" y="3592440"/>
            <a:ext cx="117720" cy="246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73520" y="221292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65560" y="221292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989080" y="337356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830680" y="38386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190160" y="3373560"/>
            <a:ext cx="14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190520" y="221292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90520" y="22129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31360" y="90972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13560" y="8920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45680" y="33735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86000" y="34416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21520" y="42879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75240" y="2660760"/>
            <a:ext cx="5810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02560" y="2660760"/>
            <a:ext cx="5810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01160" y="2325600"/>
            <a:ext cx="591840" cy="1227240"/>
          </a:xfrm>
          <a:custGeom>
            <a:avLst/>
            <a:gdLst/>
            <a:ahLst/>
            <a:rect l="l" t="t" r="r" b="b"/>
            <a:pathLst>
              <a:path w="373" h="773">
                <a:moveTo>
                  <a:pt x="0" y="249"/>
                </a:moveTo>
                <a:cubicBezTo>
                  <a:pt x="133" y="124"/>
                  <a:pt x="267" y="0"/>
                  <a:pt x="320" y="75"/>
                </a:cubicBezTo>
                <a:cubicBezTo>
                  <a:pt x="373" y="150"/>
                  <a:pt x="373" y="621"/>
                  <a:pt x="320" y="697"/>
                </a:cubicBezTo>
                <a:cubicBezTo>
                  <a:pt x="267" y="773"/>
                  <a:pt x="133" y="652"/>
                  <a:pt x="0" y="5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985640" y="2317680"/>
            <a:ext cx="592200" cy="1227240"/>
          </a:xfrm>
          <a:custGeom>
            <a:avLst/>
            <a:gdLst/>
            <a:ahLst/>
            <a:rect l="l" t="t" r="r" b="b"/>
            <a:pathLst>
              <a:path w="373" h="773">
                <a:moveTo>
                  <a:pt x="0" y="249"/>
                </a:moveTo>
                <a:cubicBezTo>
                  <a:pt x="133" y="124"/>
                  <a:pt x="267" y="0"/>
                  <a:pt x="320" y="75"/>
                </a:cubicBezTo>
                <a:cubicBezTo>
                  <a:pt x="373" y="150"/>
                  <a:pt x="373" y="621"/>
                  <a:pt x="320" y="697"/>
                </a:cubicBezTo>
                <a:cubicBezTo>
                  <a:pt x="267" y="773"/>
                  <a:pt x="133" y="652"/>
                  <a:pt x="0" y="5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92840" y="2284560"/>
            <a:ext cx="1973160" cy="407880"/>
          </a:xfrm>
          <a:custGeom>
            <a:avLst/>
            <a:gdLst/>
            <a:ahLst/>
            <a:rect l="l" t="t" r="r" b="b"/>
            <a:pathLst>
              <a:path w="1243" h="257">
                <a:moveTo>
                  <a:pt x="0" y="257"/>
                </a:moveTo>
                <a:cubicBezTo>
                  <a:pt x="157" y="129"/>
                  <a:pt x="314" y="2"/>
                  <a:pt x="521" y="1"/>
                </a:cubicBezTo>
                <a:cubicBezTo>
                  <a:pt x="728" y="0"/>
                  <a:pt x="985" y="124"/>
                  <a:pt x="1243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899320" y="3250440"/>
            <a:ext cx="1973160" cy="407880"/>
          </a:xfrm>
          <a:custGeom>
            <a:avLst/>
            <a:gdLst/>
            <a:ahLst/>
            <a:rect l="l" t="t" r="r" b="b"/>
            <a:pathLst>
              <a:path w="1243" h="257">
                <a:moveTo>
                  <a:pt x="0" y="257"/>
                </a:moveTo>
                <a:cubicBezTo>
                  <a:pt x="157" y="129"/>
                  <a:pt x="314" y="2"/>
                  <a:pt x="521" y="1"/>
                </a:cubicBezTo>
                <a:cubicBezTo>
                  <a:pt x="728" y="0"/>
                  <a:pt x="985" y="124"/>
                  <a:pt x="1243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35080" y="1859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/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563520" y="3657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/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382240" y="20034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35600" y="200340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7520" y="4681440"/>
            <a:ext cx="788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HDL Model: Two communicating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implementing combinational component. Sensitiv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s on input signals and changes in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implementing the sequential component. Sensitiv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 edge of the c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B36-54A4-44DC-97FA-B8DDACD82B3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VHDL Model for FSM 1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bra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EE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EEE.std_logic_1164.al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_mach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or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set, clk, x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z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_logic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entit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_machine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chite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havior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_mach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_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ate0, state1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, next_state: state_type := state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9FC-5CEF-4D61-9C29-1A9DB2EAA88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Combination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ate, x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0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0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tate1; z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xt_state &lt;= state0; z &lt;=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1 =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tate0; z &lt;=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xt_state &lt;= state1; z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cas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b_process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43F-9465-4BA7-986E-C361EF62D73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equential Part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29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k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ising_Edge(clk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_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’lef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k_proces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508680" y="4173480"/>
            <a:ext cx="7907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and next_state are used by two process to communica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umerated typ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ributes of enumerated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’lef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used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lize state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72B-4B98-419D-B6F9-5E09001486D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209-E7A2-45A8-80B3-1074B6A47DD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560" y="70920"/>
            <a:ext cx="83818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Model: with One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560" y="833400"/>
            <a:ext cx="8381880" cy="54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lk, state, x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rising_edge(clk)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set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&lt;= state_type'lef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 &lt;= '0'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0 =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 = '0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 &lt;= state1; z&lt;='1'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 &lt;= state0; z&lt;='0'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1 =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 = '1'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 &lt;= state0; z&lt;='0'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ate &lt;= state1; z&lt;='1'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cas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process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61-712D-49BA-91B6-13EB69FE3C2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560" y="2844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Simulation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304920" y="790560"/>
            <a:ext cx="8381880" cy="51055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33360" y="6176880"/>
            <a:ext cx="43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 signal z changes with c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A45-C868-4C11-A2B9-A0C1624FD2D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Model: with Three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18960" y="1062000"/>
            <a:ext cx="8382240" cy="45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, next_state: statetype := state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ate, x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0 =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&lt;=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z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1 =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&lt;= ‘0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z &lt;= ‘1’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cas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_process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174240" y="57387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2F7-DC4D-4FEB-AD34-B35D39CF0BC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Model: with Three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ate, x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c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0 =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tate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xt_state &lt;= state1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w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1 =&g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x = ‘1’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 &lt;= state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xt_state &lt;= state1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 cas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xt_state_process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339840" y="6132600"/>
            <a:ext cx="30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Stat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6AB-5CE0-4E33-8766-4562244B373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749b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Alternative Model: with Three Process</a:t>
            </a:r>
            <a:endParaRPr b="0" lang="en-US" sz="4400" spc="-1" strike="noStrike">
              <a:solidFill>
                <a:srgbClr val="ff3300"/>
              </a:solidFill>
              <a:latin typeface="Monotype Corsiv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k_proces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wait until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ising_edge(clk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set = ‘1’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state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’lef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pro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k_process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 architect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ehavioral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339840" y="6132600"/>
            <a:ext cx="30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ck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B81-633F-4058-9476-7F3093DF279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ANCI UNIV</cp:lastModifiedBy>
  <dcterms:modified xsi:type="dcterms:W3CDTF">2003-11-04T06:16:43Z</dcterms:modified>
  <cp:revision>3038</cp:revision>
  <dc:subject/>
  <dc:title>PowerPoint Presentation</dc:title>
</cp:coreProperties>
</file>