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904-DD34-42B7-A156-9C5D7240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80D-8B1A-4C10-BB8A-34344C22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DFE-FCC8-4A04-A798-3F28E623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848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40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546-EF7D-42A6-8D74-5B9ACBD9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5B1-243A-46CF-8A1B-EBAB6218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A55-8A50-4DF0-9B63-0AAD8CC6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9D23-09DA-4A92-B93B-012F6876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9E9E-2A46-4B0A-885D-0A55CFCC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818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9467-A6FE-4E02-BB4D-AB27B0F6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22D1-9A53-483F-B634-7714ED4D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644C-4FBE-4AAF-83DF-DC6C715D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C6DE-74B4-4464-9AEF-EC12B8E2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BF07-2328-480A-A9B8-C5EACE1E4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23560"/>
            <a:ext cx="77724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odeling Behavior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from Synthesis Perspective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- Part A  -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94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3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kay Sava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bancı Univers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0B44-9567-48FC-8C9C-68EF8C87EA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ensitivity List Mismatch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igna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ig_s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not in the sensitivity li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fore, an event on it (caused by another process perhaps) will not lead to the execution of proce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c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ever, an event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g_s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cause the re-computation of the output values in the synthesized circu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ulation semantics may not match the behavior of the synthesized circu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9FD-1701-4D36-9447-3F404B2C27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ata Dependenc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ependent of whether variables and signals are used, process statements introduce a data dependency between the process state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1 &lt;= 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2 &lt;= ... s1 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3 &lt;= ... s2 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4 &lt;= ... s2 ..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so 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long chain of dependency to calculat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nsequ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a long signal path in the synthesized logi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78B-004B-461B-BE43-B63BD2AC45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2852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ynthesis of Conditional Statemen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38188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-Then-El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-Then-Elsi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Boolean valued expressions are evaluat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quential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ntil the first true expression is encounter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544680" y="2441520"/>
            <a:ext cx="8308800" cy="384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nf_lat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el,x,y,z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w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nf_latc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nf_lat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1, s2:std_logic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y,z,sel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el = ‘1’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s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= x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z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s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= s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y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w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2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         </a:t>
            </a:r>
            <a:r>
              <a:rPr b="0" lang="en-US" sz="1600" spc="-1" strike="noStrike">
                <a:solidFill>
                  <a:srgbClr val="1e1e7a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1e1e7a"/>
                </a:solidFill>
                <a:latin typeface="Courier New"/>
              </a:rPr>
              <a:t>w gets a value only conditionally</a:t>
            </a:r>
            <a:br>
              <a:rPr sz="1600"/>
            </a:br>
            <a:r>
              <a:rPr b="0" lang="en-US" sz="1600" spc="-1" strike="noStrike">
                <a:solidFill>
                  <a:srgbClr val="1e1e7a"/>
                </a:solidFill>
                <a:latin typeface="Courier New"/>
              </a:rPr>
              <a:t>                  -- </a:t>
            </a:r>
            <a:r>
              <a:rPr b="0" i="1" lang="en-US" sz="1600" spc="-1" strike="noStrike">
                <a:solidFill>
                  <a:srgbClr val="1e1e7a"/>
                </a:solidFill>
                <a:latin typeface="Courier New"/>
              </a:rPr>
              <a:t>hence a latch is inferred</a:t>
            </a:r>
            <a:r>
              <a:rPr b="0" lang="en-US" sz="1600" spc="-1" strike="noStrike">
                <a:solidFill>
                  <a:srgbClr val="1e1e7a"/>
                </a:solidFill>
                <a:latin typeface="Courier New"/>
              </a:rPr>
              <a:t>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A8C0-6198-41F3-BD6D-ED7065F288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Latch Inferenc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7400" y="3052440"/>
            <a:ext cx="8381880" cy="33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el = ‘1’ the new value of the signal w is computed as shown in the co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wise it will keeps its previous value stored in the lat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u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o avoid unnecessary latched inferred, the signal values should be assigned a value in every branch of conditional statements (both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ment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 that we have to make sure that all output signals get a value in every execution of proce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381560" y="2460600"/>
            <a:ext cx="45252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43840" y="175572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6280" y="24541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3320" y="152388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4160" y="1709640"/>
            <a:ext cx="452520" cy="4003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98880" y="2454120"/>
            <a:ext cx="782640" cy="206640"/>
          </a:xfrm>
          <a:custGeom>
            <a:avLst/>
            <a:gdLst/>
            <a:ahLst/>
            <a:rect l="l" t="t" r="r" b="b"/>
            <a:pathLst>
              <a:path w="493" h="130">
                <a:moveTo>
                  <a:pt x="0" y="0"/>
                </a:moveTo>
                <a:lnTo>
                  <a:pt x="246" y="0"/>
                </a:lnTo>
                <a:moveTo>
                  <a:pt x="0" y="130"/>
                </a:moveTo>
                <a:lnTo>
                  <a:pt x="246" y="130"/>
                </a:lnTo>
                <a:moveTo>
                  <a:pt x="493" y="65"/>
                </a:moveTo>
                <a:lnTo>
                  <a:pt x="246" y="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28840" y="2365200"/>
            <a:ext cx="520920" cy="38592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76640" y="2365200"/>
            <a:ext cx="573120" cy="3859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15"/>
                </a:moveTo>
                <a:cubicBezTo>
                  <a:pt x="39" y="23"/>
                  <a:pt x="29" y="28"/>
                  <a:pt x="16" y="30"/>
                </a:cubicBezTo>
                <a:lnTo>
                  <a:pt x="16" y="30"/>
                </a:lnTo>
                <a:lnTo>
                  <a:pt x="4" y="30"/>
                </a:lnTo>
                <a:cubicBezTo>
                  <a:pt x="12" y="21"/>
                  <a:pt x="12" y="10"/>
                  <a:pt x="4" y="0"/>
                </a:cubicBezTo>
                <a:lnTo>
                  <a:pt x="4" y="0"/>
                </a:lnTo>
                <a:lnTo>
                  <a:pt x="16" y="0"/>
                </a:lnTo>
                <a:cubicBezTo>
                  <a:pt x="29" y="2"/>
                  <a:pt x="39" y="8"/>
                  <a:pt x="44" y="15"/>
                </a:cubicBezTo>
                <a:moveTo>
                  <a:pt x="0" y="30"/>
                </a:moveTo>
                <a:cubicBezTo>
                  <a:pt x="8" y="21"/>
                  <a:pt x="8" y="1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91960" y="18241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10440" y="2482920"/>
            <a:ext cx="58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147680" y="2660760"/>
            <a:ext cx="195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191960" y="1954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3280" y="1189080"/>
            <a:ext cx="5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71840" y="2284560"/>
            <a:ext cx="3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57760" y="2136600"/>
            <a:ext cx="652680" cy="702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92320" y="138744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06680" y="192096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16280" y="1920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6280" y="2446200"/>
            <a:ext cx="28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1520" y="255888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6280" y="1920960"/>
            <a:ext cx="121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27320" y="192096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27320" y="2751120"/>
            <a:ext cx="35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34080" y="266076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38640" y="1387440"/>
            <a:ext cx="0" cy="9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38640" y="236520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71240" y="1511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9720" y="215280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06920" y="1370160"/>
            <a:ext cx="16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able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the 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97400" y="1668600"/>
            <a:ext cx="231840" cy="711000"/>
          </a:xfrm>
          <a:custGeom>
            <a:avLst/>
            <a:gdLst/>
            <a:ahLst/>
            <a:rect l="l" t="t" r="r" b="b"/>
            <a:pathLst>
              <a:path w="146" h="448">
                <a:moveTo>
                  <a:pt x="146" y="0"/>
                </a:moveTo>
                <a:cubicBezTo>
                  <a:pt x="125" y="84"/>
                  <a:pt x="105" y="168"/>
                  <a:pt x="82" y="220"/>
                </a:cubicBezTo>
                <a:cubicBezTo>
                  <a:pt x="59" y="272"/>
                  <a:pt x="18" y="273"/>
                  <a:pt x="9" y="311"/>
                </a:cubicBezTo>
                <a:cubicBezTo>
                  <a:pt x="0" y="349"/>
                  <a:pt x="14" y="398"/>
                  <a:pt x="28" y="4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70200" y="1854360"/>
            <a:ext cx="8892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23560" y="2187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B231-D9AC-4753-A9B3-F464F10B7F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lternative to Avoid Latch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gn a default value to the signal prior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399960" y="2209680"/>
            <a:ext cx="8439120" cy="384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nf_lat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el,x,y,z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w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nf_latc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nf_latc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1, s2:std_logic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y,z,sel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0’; </a:t>
            </a:r>
            <a:r>
              <a:rPr b="0" lang="en-US" sz="1600" spc="-1" strike="noStrike">
                <a:solidFill>
                  <a:srgbClr val="1e1e7a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1e1e7a"/>
                </a:solidFill>
                <a:latin typeface="Courier New"/>
              </a:rPr>
              <a:t>output signal set to a default value to avoid latch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el = ‘1’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s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= x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z; </a:t>
            </a:r>
            <a:r>
              <a:rPr b="0" lang="en-US" sz="1600" spc="-1" strike="noStrike">
                <a:solidFill>
                  <a:srgbClr val="1e1e7a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1e1e7a"/>
                </a:solidFill>
                <a:latin typeface="Courier New"/>
              </a:rPr>
              <a:t>body generates combinational logic</a:t>
            </a:r>
            <a:r>
              <a:rPr b="0" lang="en-US" sz="1600" spc="-1" strike="noStrike">
                <a:solidFill>
                  <a:srgbClr val="1e1e7a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1e1e7a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= s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y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w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2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679A-75C7-4E1F-82E0-9CC0D892AF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void Latches by Default Valu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49" name=""/>
          <p:cNvSpPr/>
          <p:nvPr/>
        </p:nvSpPr>
        <p:spPr>
          <a:xfrm>
            <a:off x="4381560" y="2460600"/>
            <a:ext cx="45252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43840" y="175572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6280" y="24541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3320" y="152388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4160" y="1709640"/>
            <a:ext cx="452520" cy="4003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8880" y="2454120"/>
            <a:ext cx="782640" cy="206640"/>
          </a:xfrm>
          <a:custGeom>
            <a:avLst/>
            <a:gdLst/>
            <a:ahLst/>
            <a:rect l="l" t="t" r="r" b="b"/>
            <a:pathLst>
              <a:path w="493" h="130">
                <a:moveTo>
                  <a:pt x="0" y="0"/>
                </a:moveTo>
                <a:lnTo>
                  <a:pt x="246" y="0"/>
                </a:lnTo>
                <a:moveTo>
                  <a:pt x="0" y="130"/>
                </a:moveTo>
                <a:lnTo>
                  <a:pt x="246" y="130"/>
                </a:lnTo>
                <a:moveTo>
                  <a:pt x="493" y="65"/>
                </a:moveTo>
                <a:lnTo>
                  <a:pt x="246" y="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28840" y="2365200"/>
            <a:ext cx="520920" cy="38592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76640" y="2365200"/>
            <a:ext cx="573120" cy="3859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15"/>
                </a:moveTo>
                <a:cubicBezTo>
                  <a:pt x="39" y="23"/>
                  <a:pt x="29" y="28"/>
                  <a:pt x="16" y="30"/>
                </a:cubicBezTo>
                <a:lnTo>
                  <a:pt x="16" y="30"/>
                </a:lnTo>
                <a:lnTo>
                  <a:pt x="4" y="30"/>
                </a:lnTo>
                <a:cubicBezTo>
                  <a:pt x="12" y="21"/>
                  <a:pt x="12" y="10"/>
                  <a:pt x="4" y="0"/>
                </a:cubicBezTo>
                <a:lnTo>
                  <a:pt x="4" y="0"/>
                </a:lnTo>
                <a:lnTo>
                  <a:pt x="16" y="0"/>
                </a:lnTo>
                <a:cubicBezTo>
                  <a:pt x="29" y="2"/>
                  <a:pt x="39" y="8"/>
                  <a:pt x="44" y="15"/>
                </a:cubicBezTo>
                <a:moveTo>
                  <a:pt x="0" y="30"/>
                </a:moveTo>
                <a:cubicBezTo>
                  <a:pt x="8" y="21"/>
                  <a:pt x="8" y="1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191960" y="18241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49880" y="2568600"/>
            <a:ext cx="58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147680" y="2660760"/>
            <a:ext cx="195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191960" y="1954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3280" y="1189080"/>
            <a:ext cx="5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11640" y="2370240"/>
            <a:ext cx="3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92320" y="1387440"/>
            <a:ext cx="394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06680" y="192096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16280" y="1920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6280" y="2446200"/>
            <a:ext cx="28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1520" y="255888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6280" y="1920960"/>
            <a:ext cx="121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27320" y="192096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27320" y="2751120"/>
            <a:ext cx="35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34080" y="266076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38640" y="13874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3040" y="248112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71240" y="1511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9720" y="215280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81520" y="2367000"/>
            <a:ext cx="45252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98280" y="137016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sel = ‘0’ the w gets ‘0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97400" y="1668600"/>
            <a:ext cx="231840" cy="711000"/>
          </a:xfrm>
          <a:custGeom>
            <a:avLst/>
            <a:gdLst/>
            <a:ahLst/>
            <a:rect l="l" t="t" r="r" b="b"/>
            <a:pathLst>
              <a:path w="146" h="448">
                <a:moveTo>
                  <a:pt x="146" y="0"/>
                </a:moveTo>
                <a:cubicBezTo>
                  <a:pt x="125" y="84"/>
                  <a:pt x="105" y="168"/>
                  <a:pt x="82" y="220"/>
                </a:cubicBezTo>
                <a:cubicBezTo>
                  <a:pt x="59" y="272"/>
                  <a:pt x="18" y="273"/>
                  <a:pt x="9" y="311"/>
                </a:cubicBezTo>
                <a:cubicBezTo>
                  <a:pt x="0" y="349"/>
                  <a:pt x="14" y="398"/>
                  <a:pt x="28" y="4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73440" y="186840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62C5-DD54-40D2-8412-C5FB5F6650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fficienc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78000" y="771480"/>
            <a:ext cx="8410320" cy="15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ing unnecessary latches is one aspect of effective design for combinational circuit synthe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iciency in terms of speed and/or size is the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442800" y="2154240"/>
            <a:ext cx="8439120" cy="432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feren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el,x,y,z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w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feren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feren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, s2:std_logic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x,y,z,sel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el = ‘1’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45B-B822-4B52-917E-98276EDD5D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564000" y="1488960"/>
            <a:ext cx="2503440" cy="2357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59120" y="2838600"/>
            <a:ext cx="958680" cy="83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59120" y="1465200"/>
            <a:ext cx="958680" cy="83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Efficienc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4325400"/>
            <a:ext cx="838188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he general princip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binational logic is generated for each branch of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-then-e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stru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ultiplexor is generated to select the outcom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931320" y="309564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41640" y="3049560"/>
            <a:ext cx="45216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626840" y="316404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279080" y="3294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12680" y="150804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76560" y="1647720"/>
            <a:ext cx="452520" cy="4003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314000" y="17622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314000" y="18921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06560" y="174780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627200" y="1747800"/>
            <a:ext cx="0" cy="141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82560" y="172548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52720" y="1757520"/>
            <a:ext cx="45252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29080" y="18352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2720" y="3164040"/>
            <a:ext cx="45252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29080" y="32418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79440" y="3784680"/>
            <a:ext cx="198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265560" y="2048040"/>
            <a:ext cx="0" cy="17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65560" y="2048040"/>
            <a:ext cx="58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65560" y="3449520"/>
            <a:ext cx="58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20920" y="341316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438280"/>
            <a:ext cx="452520" cy="4003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05240" y="193356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05240" y="337032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62520" y="1933560"/>
            <a:ext cx="0" cy="63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62520" y="256392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62520" y="2739960"/>
            <a:ext cx="0" cy="63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62520" y="272268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80160" y="263700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38720" y="2513160"/>
            <a:ext cx="88920" cy="9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76920" y="257976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5280" y="2343240"/>
            <a:ext cx="5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5280" y="356400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98640" y="895320"/>
            <a:ext cx="148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gic f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97200" y="2330280"/>
            <a:ext cx="148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gic f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62440" y="1508040"/>
            <a:ext cx="14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-to-1 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34040" y="266544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63800" y="339084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71A-0028-473C-8D18-9A17EB48A7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ore Efficient Design -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99680" y="872640"/>
            <a:ext cx="838188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mall rearrangement will simplify the desig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485640" y="1643040"/>
            <a:ext cx="8439120" cy="468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feren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el,x,y,z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w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feren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feren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x,y,z,sel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variab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ight: std_logic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el = ‘1’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righ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righ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w &lt;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igh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B6C-57A9-4260-8954-56751390C4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387520" y="2903400"/>
            <a:ext cx="38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76600" y="2585880"/>
            <a:ext cx="41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ore Efficient Design -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560" y="3300480"/>
            <a:ext cx="838188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ding styles help us to control how much hardware is generate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e1e7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e1e7a"/>
                </a:solidFill>
                <a:uFillTx/>
                <a:latin typeface="Comic Sans MS"/>
              </a:rPr>
              <a:t>Golden rule</a:t>
            </a:r>
            <a:r>
              <a:rPr b="0" lang="en-US" sz="2400" spc="-1" strike="noStrike">
                <a:solidFill>
                  <a:srgbClr val="1e1e7a"/>
                </a:solidFill>
                <a:latin typeface="Comic Sans MS"/>
              </a:rPr>
              <a:t>: move complex or hardware intensive operations that are replicated in </a:t>
            </a:r>
            <a:r>
              <a:rPr b="1" lang="en-US" sz="2400" spc="-1" strike="noStrike">
                <a:solidFill>
                  <a:srgbClr val="1e1e7a"/>
                </a:solidFill>
                <a:latin typeface="Courier New"/>
              </a:rPr>
              <a:t>then</a:t>
            </a:r>
            <a:r>
              <a:rPr b="0" lang="en-US" sz="2400" spc="-1" strike="noStrike">
                <a:solidFill>
                  <a:srgbClr val="1e1e7a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1e1e7a"/>
                </a:solidFill>
                <a:latin typeface="Courier New"/>
              </a:rPr>
              <a:t>else</a:t>
            </a:r>
            <a:r>
              <a:rPr b="0" lang="en-US" sz="2400" spc="-1" strike="noStrike">
                <a:solidFill>
                  <a:srgbClr val="1e1e7a"/>
                </a:solidFill>
                <a:latin typeface="Comic Sans MS"/>
              </a:rPr>
              <a:t> branches out of the </a:t>
            </a:r>
            <a:r>
              <a:rPr b="1" lang="en-US" sz="2400" spc="-1" strike="noStrike">
                <a:solidFill>
                  <a:srgbClr val="1e1e7a"/>
                </a:solidFill>
                <a:latin typeface="Courier New"/>
              </a:rPr>
              <a:t>if-then-else</a:t>
            </a:r>
            <a:r>
              <a:rPr b="0" lang="en-US" sz="2400" spc="-1" strike="noStrike">
                <a:solidFill>
                  <a:srgbClr val="1e1e7a"/>
                </a:solidFill>
                <a:latin typeface="Comic Sans MS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1598040" y="290340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08680" y="1628640"/>
            <a:ext cx="452160" cy="4003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907640" y="31021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87600" y="1405080"/>
            <a:ext cx="3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909440" y="268920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907640" y="2219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87600" y="2021040"/>
            <a:ext cx="3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43240" y="263844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73440" y="2817720"/>
            <a:ext cx="452520" cy="4003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8000" y="1671480"/>
            <a:ext cx="310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2114640"/>
            <a:ext cx="45252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79920" y="1816200"/>
            <a:ext cx="45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92400" y="2452680"/>
            <a:ext cx="45252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84520" y="285264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41680" y="2617920"/>
            <a:ext cx="88920" cy="9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73680" y="1581120"/>
            <a:ext cx="5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27320" y="248616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87520" y="2417760"/>
            <a:ext cx="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87520" y="2417760"/>
            <a:ext cx="38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25960" y="2305080"/>
            <a:ext cx="35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76600" y="230508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25960" y="3017880"/>
            <a:ext cx="35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91000" y="273852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76600" y="2738520"/>
            <a:ext cx="41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30600" y="267480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51200" y="1938240"/>
            <a:ext cx="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51200" y="1938240"/>
            <a:ext cx="35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25960" y="225432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25960" y="297324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C0D-C96F-464C-BE9B-C214C4E5D3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otiva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60" y="933480"/>
            <a:ext cx="888228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thesis of VHDL models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tru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es provide powerful modeling abstraction for simulation purpos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ing complex digital system behavior that cannot be captured with only CSA statem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reasing the level of modeling abstraction makes hardware inference process hard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than one hardware implementation is possi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erence process has more work to do. Relationship between the language constructs and the real systems is no longer explici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coding guidelines in order to ease the synthesis compiler’s tas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8CD-6A16-420E-8F32-FB48D81102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ultiple Levels of Nesting 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90468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est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el1, sel2, sel3, x,y,z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re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ested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est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x, y, z, sel1, sel2, sel3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el1 = ‘1’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r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el2 = ‘1’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r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el3 = ‘1’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r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540360" y="60102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Is latch infer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19F-F626-4C04-A668-2DBB41A97B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H="1">
            <a:off x="1727280" y="1668600"/>
            <a:ext cx="247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Multiple Levels of Nesting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5464080"/>
            <a:ext cx="83818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ority logic is implemen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highest priorit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2300400" y="4600440"/>
            <a:ext cx="452160" cy="4003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240" y="2890800"/>
            <a:ext cx="2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7400" y="414180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3160" y="39355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98600" y="3328920"/>
            <a:ext cx="45252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51160" y="2790720"/>
            <a:ext cx="520560" cy="38592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98600" y="2790720"/>
            <a:ext cx="573120" cy="3859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15"/>
                </a:moveTo>
                <a:cubicBezTo>
                  <a:pt x="39" y="23"/>
                  <a:pt x="29" y="28"/>
                  <a:pt x="16" y="30"/>
                </a:cubicBezTo>
                <a:lnTo>
                  <a:pt x="16" y="30"/>
                </a:lnTo>
                <a:lnTo>
                  <a:pt x="4" y="30"/>
                </a:lnTo>
                <a:cubicBezTo>
                  <a:pt x="12" y="21"/>
                  <a:pt x="12" y="10"/>
                  <a:pt x="4" y="0"/>
                </a:cubicBezTo>
                <a:lnTo>
                  <a:pt x="4" y="0"/>
                </a:lnTo>
                <a:lnTo>
                  <a:pt x="16" y="0"/>
                </a:lnTo>
                <a:cubicBezTo>
                  <a:pt x="29" y="2"/>
                  <a:pt x="39" y="8"/>
                  <a:pt x="44" y="15"/>
                </a:cubicBezTo>
                <a:moveTo>
                  <a:pt x="0" y="30"/>
                </a:moveTo>
                <a:cubicBezTo>
                  <a:pt x="8" y="21"/>
                  <a:pt x="8" y="1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985320" y="4313160"/>
            <a:ext cx="139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979200" y="4896000"/>
            <a:ext cx="132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00400" y="2168640"/>
            <a:ext cx="45216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30280" y="282888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979200" y="4714920"/>
            <a:ext cx="132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00400" y="4032360"/>
            <a:ext cx="520560" cy="38556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9040" y="477036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8760" y="452268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79560" y="4141800"/>
            <a:ext cx="139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11480" y="4834080"/>
            <a:ext cx="88920" cy="9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11480" y="467028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06960" y="4319640"/>
            <a:ext cx="45252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20960" y="4233960"/>
            <a:ext cx="15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8280" y="4233960"/>
            <a:ext cx="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8280" y="441792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52560" y="4795920"/>
            <a:ext cx="2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978280" y="460008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8280" y="460044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59480" y="4519440"/>
            <a:ext cx="63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944720" y="1844640"/>
            <a:ext cx="0" cy="305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00080" y="4834080"/>
            <a:ext cx="8892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44720" y="361476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93960" y="356400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727280" y="1668240"/>
            <a:ext cx="0" cy="305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27280" y="345600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05000" y="340524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979560" y="3087720"/>
            <a:ext cx="143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474920" y="2430360"/>
            <a:ext cx="0" cy="18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74920" y="28908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72120" y="3056040"/>
            <a:ext cx="45216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86120" y="2970360"/>
            <a:ext cx="15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3080" y="2970360"/>
            <a:ext cx="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3080" y="315432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51120" y="35323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043080" y="333648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3080" y="333684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24280" y="3255840"/>
            <a:ext cx="116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30280" y="426240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82640" y="465768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195560" y="2260440"/>
            <a:ext cx="0" cy="18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95560" y="2260440"/>
            <a:ext cx="11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44440" y="409104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74920" y="2430360"/>
            <a:ext cx="82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72120" y="2255760"/>
            <a:ext cx="45216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51120" y="2354400"/>
            <a:ext cx="152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72120" y="1558800"/>
            <a:ext cx="452160" cy="4003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83200" y="178272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83200" y="161928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944720" y="1844640"/>
            <a:ext cx="22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84920" y="2930400"/>
            <a:ext cx="682560" cy="6271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6000" y="320508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5297400" y="345600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5297400" y="305604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97400" y="3456000"/>
            <a:ext cx="0" cy="10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297400" y="2430360"/>
            <a:ext cx="0" cy="62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24280" y="243036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89520" y="298764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96000" y="340668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89520" y="1219320"/>
            <a:ext cx="45252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985680" y="1346040"/>
            <a:ext cx="481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8080" y="11779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l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724280" y="175752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297400" y="151416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297400" y="151452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37600" y="2703600"/>
            <a:ext cx="652320" cy="70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67480" y="3227400"/>
            <a:ext cx="87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67480" y="316872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42040" y="1409760"/>
            <a:ext cx="85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01000" y="1409760"/>
            <a:ext cx="0" cy="14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01000" y="2890800"/>
            <a:ext cx="33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089920" y="305604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70800" y="2887560"/>
            <a:ext cx="4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00600" y="129528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52160" y="414180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x +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89680" y="28494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65600" y="166860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65600" y="256860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27440" y="161928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80520" y="2049480"/>
            <a:ext cx="3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87920" y="4503600"/>
            <a:ext cx="179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x+ y) sel1’ sel2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61160" y="333684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l1’ sel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59200" y="21034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xyse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43840" y="1123920"/>
            <a:ext cx="216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 if sel1 = sel2 = sel3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89000" y="270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33800" y="297036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CAD4-6616-48B0-A7F1-1858D21F71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Nested If Statemen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019160"/>
            <a:ext cx="838188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nested_if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l0, sel1, x,y,z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nested_if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nested_if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 y, z, sel0, sel1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 (sel0 = '0')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 (sel1 = '1')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res &lt;= x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nd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 y;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else                      </a:t>
            </a:r>
            <a:r>
              <a:rPr b="0" lang="en-US" sz="1600" spc="-1" strike="noStrike">
                <a:solidFill>
                  <a:srgbClr val="1e1e7a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1e1e7a"/>
                </a:solidFill>
                <a:latin typeface="Courier New"/>
              </a:rPr>
              <a:t>included to avoid latch inference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res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&lt;=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'0‘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74A-1483-4716-9EC5-53D1B93DF9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Nested If Statemen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18960" y="1063800"/>
            <a:ext cx="8382240" cy="41763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03120" y="5541840"/>
            <a:ext cx="754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tch is inferred because of the outer if-then-el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5CC5-BDD2-4CC0-B89E-2300F2B2D0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Nested If Statemen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nested_if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l0, sel1, x,y,z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nested_if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nested_if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 y, z, sel0, sel1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 (sel0 = '0')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 (sel1 = '1')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res &lt;= x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nd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 y;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BB2-0D5A-4F85-AEDB-0684F129BE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Nested If Statemen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45399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36240" y="5638680"/>
            <a:ext cx="7893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ve the inn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-then-e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om the outer on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order to infer combinational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C13-3A42-404D-95E2-F634824C7C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on’t Cares in Conditional Express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560" y="5791320"/>
            <a:ext cx="838188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son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n’t c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in conditional expressions return always FAL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304920" y="1004760"/>
            <a:ext cx="8381880" cy="453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ig_va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el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x,y,z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w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ig_v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ig_va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x, y, z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el = ‘-0’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n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n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EA1-21CE-4D84-BD89-C1765FC7F93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on’t Cares in Conditional Expression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04920" y="1557360"/>
            <a:ext cx="8381880" cy="46846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174240" y="763560"/>
            <a:ext cx="8654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hesis compiler generates a logic in whi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ranc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never t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0BD-DE39-4E5B-B3D9-7AFFF52DB4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ase Statemen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tatement is similar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-then-el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tru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identifi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utually exclus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locks of co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one branch of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ment can be 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collectively all branches cover all possible values of select express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ther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use helps cover all possible values of select expre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ing one of the several possible alternatives suggests that a multiplexor is inferr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expression provides the control signals for multiplex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4F6-FAD6-4400-BF0F-BA1F37F75C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ase Statement: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5817960"/>
            <a:ext cx="838188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mbinational logic is inferred when output signa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a value in all branches of the cas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1004760"/>
            <a:ext cx="8381880" cy="47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ase_e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el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integer rang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x,y,z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re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ase_e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ase_e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x, y, z, sel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ca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 =&gt; r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 =&gt; r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2 =&gt; r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th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&gt; r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a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1FD-6023-49E9-A7D3-00E03A3062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ynthesis with Processes 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 construct models have similarities to high-level programming langu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tial style of high-level programming languages may lead to excessive logic and often long signal path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 rule of thumb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long process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mote concurrency within models through the use of multiple processes and CSA statem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ter all, processes are concurrent to other processes and to CSA statem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192-4DBA-4E35-A9CA-D86848C722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2205000" y="905040"/>
            <a:ext cx="2557440" cy="1171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05000" y="2266920"/>
            <a:ext cx="2557440" cy="1171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5000" y="3513240"/>
            <a:ext cx="2557440" cy="1171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05000" y="4792680"/>
            <a:ext cx="2557440" cy="1171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ase Statement: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85" name=""/>
          <p:cNvSpPr/>
          <p:nvPr/>
        </p:nvSpPr>
        <p:spPr>
          <a:xfrm>
            <a:off x="2300400" y="5457960"/>
            <a:ext cx="45216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3040" y="3747960"/>
            <a:ext cx="2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5840" y="499896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1600" y="47926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98600" y="4186080"/>
            <a:ext cx="452520" cy="4003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747720" y="5170320"/>
            <a:ext cx="162864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747360" y="5753160"/>
            <a:ext cx="15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00400" y="3025800"/>
            <a:ext cx="45216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440" y="368604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747360" y="5572080"/>
            <a:ext cx="15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200" y="5627520"/>
            <a:ext cx="68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l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120" y="5380200"/>
            <a:ext cx="68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l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744120" y="4998960"/>
            <a:ext cx="16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206960" y="5176800"/>
            <a:ext cx="45252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20960" y="5091120"/>
            <a:ext cx="15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78280" y="5091120"/>
            <a:ext cx="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78280" y="527544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52560" y="5653080"/>
            <a:ext cx="2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978280" y="54579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78280" y="545796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59480" y="5376960"/>
            <a:ext cx="63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1944720" y="1896840"/>
            <a:ext cx="0" cy="38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00080" y="569124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44720" y="447192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93960" y="442116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1727280" y="1739880"/>
            <a:ext cx="0" cy="383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27280" y="431316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5000" y="426240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744120" y="3944880"/>
            <a:ext cx="167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1474920" y="1288800"/>
            <a:ext cx="0" cy="38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44440" y="3747960"/>
            <a:ext cx="127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72120" y="3913200"/>
            <a:ext cx="45216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20960" y="382752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3080" y="3827520"/>
            <a:ext cx="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43080" y="401148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51120" y="43894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043080" y="41936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43080" y="419400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24280" y="4113360"/>
            <a:ext cx="116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430280" y="511956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82640" y="551484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1195560" y="1103040"/>
            <a:ext cx="0" cy="38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727280" y="3114720"/>
            <a:ext cx="573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4440" y="494820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44720" y="328788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272120" y="2714760"/>
            <a:ext cx="45216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84920" y="3560760"/>
            <a:ext cx="682560" cy="8539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96000" y="406224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5297400" y="431316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297400" y="391320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297400" y="4313160"/>
            <a:ext cx="0" cy="10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5297400" y="2925360"/>
            <a:ext cx="0" cy="9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89520" y="384480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96000" y="4264200"/>
            <a:ext cx="88920" cy="9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567480" y="4084560"/>
            <a:ext cx="87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567480" y="402588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445520" y="3944880"/>
            <a:ext cx="4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07440" y="499896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x nor 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45320" y="370692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x nand 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87920" y="536112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x nor y)  when sel=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51160" y="4875120"/>
            <a:ext cx="452520" cy="4003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62240" y="494820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62240" y="511956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76360" y="3654360"/>
            <a:ext cx="45252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56120" y="4186080"/>
            <a:ext cx="108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n sel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14440" y="2446200"/>
            <a:ext cx="520920" cy="38592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62240" y="2446200"/>
            <a:ext cx="573120" cy="3859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15"/>
                </a:moveTo>
                <a:cubicBezTo>
                  <a:pt x="39" y="23"/>
                  <a:pt x="29" y="28"/>
                  <a:pt x="16" y="30"/>
                </a:cubicBezTo>
                <a:lnTo>
                  <a:pt x="16" y="30"/>
                </a:lnTo>
                <a:lnTo>
                  <a:pt x="4" y="30"/>
                </a:lnTo>
                <a:cubicBezTo>
                  <a:pt x="12" y="21"/>
                  <a:pt x="12" y="10"/>
                  <a:pt x="4" y="0"/>
                </a:cubicBezTo>
                <a:lnTo>
                  <a:pt x="4" y="0"/>
                </a:lnTo>
                <a:lnTo>
                  <a:pt x="16" y="0"/>
                </a:lnTo>
                <a:cubicBezTo>
                  <a:pt x="29" y="2"/>
                  <a:pt x="39" y="8"/>
                  <a:pt x="44" y="15"/>
                </a:cubicBezTo>
                <a:moveTo>
                  <a:pt x="0" y="30"/>
                </a:moveTo>
                <a:cubicBezTo>
                  <a:pt x="8" y="21"/>
                  <a:pt x="8" y="1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985680" y="2525760"/>
            <a:ext cx="0" cy="14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985320" y="2525760"/>
            <a:ext cx="136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55800" y="387504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74920" y="2701800"/>
            <a:ext cx="87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436760" y="2664000"/>
            <a:ext cx="8892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03680" y="378144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16280" y="263700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38400" y="2637000"/>
            <a:ext cx="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38400" y="282096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759040" y="32497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3063960" y="3025800"/>
            <a:ext cx="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56920" y="252900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 xor 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49640" y="3025800"/>
            <a:ext cx="108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n se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051000" y="3025800"/>
            <a:ext cx="12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05000" y="323676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89120" y="426240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00080" y="321480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82640" y="305100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44720" y="189720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726920" y="1739880"/>
            <a:ext cx="6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55760" y="1846440"/>
            <a:ext cx="88920" cy="9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49640" y="168912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44680" y="987480"/>
            <a:ext cx="45252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0960" y="1289160"/>
            <a:ext cx="45216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05120" y="121140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27240" y="1211400"/>
            <a:ext cx="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7240" y="139536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7880" y="182412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052800" y="1600200"/>
            <a:ext cx="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219480" y="110340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x an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38480" y="1600200"/>
            <a:ext cx="108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n sel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039840" y="1600200"/>
            <a:ext cx="121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351160" y="1619280"/>
            <a:ext cx="45252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95560" y="1103400"/>
            <a:ext cx="115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74920" y="1289160"/>
            <a:ext cx="87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13120" y="29257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794200" y="365292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559120" y="3706920"/>
            <a:ext cx="23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559480" y="1464840"/>
            <a:ext cx="0" cy="22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4712760" y="146520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9800" y="6110280"/>
            <a:ext cx="73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integer rang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;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 mapped to a two-bit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5AB-587D-4F2F-89C6-04A2217412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atch Inference from Case Statemen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560" y="5689080"/>
            <a:ext cx="83818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304920" y="1004760"/>
            <a:ext cx="8381880" cy="50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ase_e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el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integer rang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x,y,z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re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ase_e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ase_e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x, y, z, sel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ca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 =&gt; r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 =&gt; r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2 =&gt; r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th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en-US" sz="1800" spc="-1" strike="noStrike">
                <a:solidFill>
                  <a:srgbClr val="1e1e7a"/>
                </a:solidFill>
                <a:latin typeface="Courier New"/>
              </a:rPr>
              <a:t>-- </a:t>
            </a:r>
            <a:r>
              <a:rPr b="0" i="1" lang="en-US" sz="1800" spc="-1" strike="noStrike">
                <a:solidFill>
                  <a:srgbClr val="1e1e7a"/>
                </a:solidFill>
                <a:latin typeface="Courier New"/>
              </a:rPr>
              <a:t>in this case the value of </a:t>
            </a:r>
            <a:r>
              <a:rPr b="0" lang="en-US" sz="1800" spc="-1" strike="noStrike">
                <a:solidFill>
                  <a:srgbClr val="1e1e7a"/>
                </a:solidFill>
                <a:latin typeface="Courier New"/>
              </a:rPr>
              <a:t>res</a:t>
            </a:r>
            <a:r>
              <a:rPr b="0" i="1" lang="en-US" sz="1800" spc="-1" strike="noStrike">
                <a:solidFill>
                  <a:srgbClr val="1e1e7a"/>
                </a:solidFill>
                <a:latin typeface="Courier New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1e1e7a"/>
                </a:solidFill>
                <a:latin typeface="Courier New"/>
              </a:rPr>
              <a:t>                         -- remains unalter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a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830C-1647-4C02-A850-A9F4053C93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atch Inference from Case Statemen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406440" y="1004760"/>
            <a:ext cx="8381880" cy="51055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999720" y="524340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31040" y="543888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53800" y="26226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56160" y="175248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l[1: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98160" y="129528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 when sel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340160" y="2060640"/>
            <a:ext cx="943200" cy="696960"/>
          </a:xfrm>
          <a:custGeom>
            <a:avLst/>
            <a:gdLst/>
            <a:ahLst/>
            <a:rect l="l" t="t" r="r" b="b"/>
            <a:pathLst>
              <a:path w="594" h="439">
                <a:moveTo>
                  <a:pt x="0" y="439"/>
                </a:moveTo>
                <a:cubicBezTo>
                  <a:pt x="52" y="307"/>
                  <a:pt x="105" y="175"/>
                  <a:pt x="183" y="119"/>
                </a:cubicBezTo>
                <a:cubicBezTo>
                  <a:pt x="261" y="63"/>
                  <a:pt x="398" y="121"/>
                  <a:pt x="466" y="101"/>
                </a:cubicBezTo>
                <a:cubicBezTo>
                  <a:pt x="534" y="81"/>
                  <a:pt x="564" y="40"/>
                  <a:pt x="594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66920" y="162252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x and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22360" y="3405240"/>
            <a:ext cx="2743200" cy="701640"/>
          </a:xfrm>
          <a:custGeom>
            <a:avLst/>
            <a:gdLst/>
            <a:ahLst/>
            <a:rect l="l" t="t" r="r" b="b"/>
            <a:pathLst>
              <a:path w="1728" h="442">
                <a:moveTo>
                  <a:pt x="1728" y="442"/>
                </a:moveTo>
                <a:cubicBezTo>
                  <a:pt x="1716" y="270"/>
                  <a:pt x="1704" y="98"/>
                  <a:pt x="1545" y="49"/>
                </a:cubicBezTo>
                <a:cubicBezTo>
                  <a:pt x="1386" y="0"/>
                  <a:pt x="1034" y="124"/>
                  <a:pt x="777" y="150"/>
                </a:cubicBezTo>
                <a:cubicBezTo>
                  <a:pt x="520" y="176"/>
                  <a:pt x="134" y="193"/>
                  <a:pt x="0" y="20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65480" y="35593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z xor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190040" y="55278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x nand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10160" y="29433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707000" y="2960640"/>
            <a:ext cx="1984320" cy="1670040"/>
          </a:xfrm>
          <a:custGeom>
            <a:avLst/>
            <a:gdLst/>
            <a:ahLst/>
            <a:rect l="l" t="t" r="r" b="b"/>
            <a:pathLst>
              <a:path w="1250" h="1052">
                <a:moveTo>
                  <a:pt x="52" y="0"/>
                </a:moveTo>
                <a:cubicBezTo>
                  <a:pt x="26" y="293"/>
                  <a:pt x="0" y="586"/>
                  <a:pt x="116" y="722"/>
                </a:cubicBezTo>
                <a:cubicBezTo>
                  <a:pt x="232" y="858"/>
                  <a:pt x="558" y="759"/>
                  <a:pt x="747" y="814"/>
                </a:cubicBezTo>
                <a:cubicBezTo>
                  <a:pt x="936" y="869"/>
                  <a:pt x="1166" y="1014"/>
                  <a:pt x="1250" y="1052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673320" y="446580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 when sel(0)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14920" y="3324240"/>
            <a:ext cx="2120760" cy="2103480"/>
          </a:xfrm>
          <a:custGeom>
            <a:avLst/>
            <a:gdLst/>
            <a:ahLst/>
            <a:rect l="l" t="t" r="r" b="b"/>
            <a:pathLst>
              <a:path w="1336" h="1325">
                <a:moveTo>
                  <a:pt x="102" y="0"/>
                </a:moveTo>
                <a:cubicBezTo>
                  <a:pt x="51" y="253"/>
                  <a:pt x="0" y="507"/>
                  <a:pt x="139" y="667"/>
                </a:cubicBezTo>
                <a:cubicBezTo>
                  <a:pt x="278" y="827"/>
                  <a:pt x="735" y="850"/>
                  <a:pt x="934" y="960"/>
                </a:cubicBezTo>
                <a:cubicBezTo>
                  <a:pt x="1133" y="1070"/>
                  <a:pt x="1234" y="1197"/>
                  <a:pt x="1336" y="132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26320" y="521496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1 when sel(1)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559480" y="3876840"/>
            <a:ext cx="1276200" cy="247320"/>
          </a:xfrm>
          <a:custGeom>
            <a:avLst/>
            <a:gdLst/>
            <a:ahLst/>
            <a:rect l="l" t="t" r="r" b="b"/>
            <a:pathLst>
              <a:path w="804" h="156">
                <a:moveTo>
                  <a:pt x="0" y="72"/>
                </a:moveTo>
                <a:cubicBezTo>
                  <a:pt x="110" y="114"/>
                  <a:pt x="221" y="156"/>
                  <a:pt x="320" y="145"/>
                </a:cubicBezTo>
                <a:cubicBezTo>
                  <a:pt x="419" y="134"/>
                  <a:pt x="513" y="16"/>
                  <a:pt x="594" y="8"/>
                </a:cubicBezTo>
                <a:cubicBezTo>
                  <a:pt x="675" y="0"/>
                  <a:pt x="769" y="85"/>
                  <a:pt x="804" y="10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505560" y="374976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on’t enable the 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tch when sel</a:t>
            </a:r>
            <a:r>
              <a:rPr b="0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0,1,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E0CB-8CC7-4EBD-A6CC-1981054399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voiding Latch Using Default Valu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3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ase_ex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el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integer ran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x,y,z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res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ase_ex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ase_ex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 y, z, sel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 &lt;= ‘0’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ca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l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 =&gt; re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1 =&gt; re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z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2 =&gt; re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z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ther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a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304920" y="5584680"/>
            <a:ext cx="856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statement has an equival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-then-elsif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form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Question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: what is the difference between the tw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9BB-2181-4E2C-9770-9413CB0BA3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Using </a:t>
            </a:r>
            <a:r>
              <a:rPr b="0" lang="en-US" sz="3600" spc="-1" strike="noStrike">
                <a:solidFill>
                  <a:srgbClr val="ff3300"/>
                </a:solidFill>
                <a:latin typeface="Courier New"/>
              </a:rPr>
              <a:t>don’t cares</a:t>
            </a: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 in </a:t>
            </a:r>
            <a:r>
              <a:rPr b="0" lang="en-US" sz="3600" spc="-1" strike="noStrike">
                <a:solidFill>
                  <a:srgbClr val="ff3300"/>
                </a:solidFill>
                <a:latin typeface="Courier New"/>
              </a:rPr>
              <a:t>Case</a:t>
            </a: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 Statements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71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ase_e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el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integer rang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x,y,z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re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ase_ex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ase_e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x, y, z, sel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ca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 =&gt; r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 =&gt; r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2 =&gt; r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1e1e7a"/>
                </a:solidFill>
                <a:latin typeface="Courier New"/>
              </a:rPr>
              <a:t>-- </a:t>
            </a:r>
            <a:r>
              <a:rPr b="1" lang="en-US" sz="1800" spc="-1" strike="noStrike">
                <a:solidFill>
                  <a:srgbClr val="1e1e7a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1e1e7a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1e1e7a"/>
                </a:solidFill>
                <a:latin typeface="Courier New"/>
              </a:rPr>
              <a:t>others</a:t>
            </a:r>
            <a:r>
              <a:rPr b="0" lang="en-US" sz="1800" spc="-1" strike="noStrike">
                <a:solidFill>
                  <a:srgbClr val="1e1e7a"/>
                </a:solidFill>
                <a:latin typeface="Courier New"/>
              </a:rPr>
              <a:t> =&gt; res</a:t>
            </a:r>
            <a:r>
              <a:rPr b="1" lang="en-US" sz="1800" spc="-1" strike="noStrike">
                <a:solidFill>
                  <a:srgbClr val="1e1e7a"/>
                </a:solidFill>
                <a:latin typeface="Courier New"/>
              </a:rPr>
              <a:t> &lt;= </a:t>
            </a:r>
            <a:r>
              <a:rPr b="0" lang="en-US" sz="1800" spc="-1" strike="noStrike">
                <a:solidFill>
                  <a:srgbClr val="1e1e7a"/>
                </a:solidFill>
                <a:latin typeface="Courier New"/>
              </a:rPr>
              <a:t>‘0’;</a:t>
            </a:r>
            <a:br>
              <a:rPr sz="1800"/>
            </a:br>
            <a:r>
              <a:rPr b="0" lang="en-US" sz="1800" spc="-1" strike="noStrike">
                <a:solidFill>
                  <a:srgbClr val="1e1e7a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th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&gt; r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‘-’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a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"/>
          <p:cNvSpPr/>
          <p:nvPr/>
        </p:nvSpPr>
        <p:spPr>
          <a:xfrm>
            <a:off x="304920" y="5818320"/>
            <a:ext cx="812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don’t cares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n oth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let the synthesis tool to optimize the circu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CF9-3476-459D-996F-D561CAE33D3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Using </a:t>
            </a:r>
            <a:r>
              <a:rPr b="0" lang="en-US" sz="3600" spc="-1" strike="noStrike">
                <a:solidFill>
                  <a:srgbClr val="ff3300"/>
                </a:solidFill>
                <a:latin typeface="Courier New"/>
              </a:rPr>
              <a:t>don’t cares</a:t>
            </a: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 in </a:t>
            </a:r>
            <a:r>
              <a:rPr b="0" lang="en-US" sz="3600" spc="-1" strike="noStrike">
                <a:solidFill>
                  <a:srgbClr val="ff3300"/>
                </a:solidFill>
                <a:latin typeface="Courier New"/>
              </a:rPr>
              <a:t>Case</a:t>
            </a: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 Statements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304920" y="6153120"/>
            <a:ext cx="601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rcuit output res is not defined for sel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2E1C-1EE2-4582-A224-E2F8F827E3E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oop Statemen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-Lo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common construct for loops supported by synthesis compil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compile-time, it is possible to know when the loops ends; the logic is inferred according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while-loops, when the loop ends may be data dependen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fore, a state machine controller is synthesized to cycle datapath a data-dependent number of tim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-loops, on the other hand, is easy to synthesize. since the number of iterations is kn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5D4-58DC-48EE-B4E7-624878F4087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For Loop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3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shift_reg(N) &lt;= shift_reg(N-1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 loo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oop can easily be replaced by sequential c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ift_reg(3) &lt;= shift_reg(2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ift_reg(2) &lt;= shift_reg(1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ift_reg(1) &lt;= shift_reg(0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technique is known 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oop unroll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nd it is also being commonly used in conventional languages for optimization purpos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VHDL synthesis, loop unrolling is also used as an optimization techniqu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7CF5-B71E-4D83-98AE-A0C87CED0D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560" y="14292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oop Unrolling: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29" name=""/>
          <p:cNvSpPr/>
          <p:nvPr/>
        </p:nvSpPr>
        <p:spPr>
          <a:xfrm>
            <a:off x="304920" y="733320"/>
            <a:ext cx="8381880" cy="55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k, reset, data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re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_vector(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ift_reg: std_logic_vector(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k, reset, data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ising_edge(clk)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eset = ‘1’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s &lt;= “0000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shift_reg(N) &lt;= shift_reg(N-1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loo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ift_reg(0) &lt;= data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res &lt;= shift_reg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end if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 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10D9-BFFD-4CC3-9044-C383730C8E9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oop Unrolling: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tch in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caus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rising_edge(clk)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n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 a storage element will be inferr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 due to the call to functi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ising_edge()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flip-flop instead of a latch is inferr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1058760" y="5383080"/>
            <a:ext cx="609840" cy="725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98600" y="5383080"/>
            <a:ext cx="609840" cy="725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38440" y="5383080"/>
            <a:ext cx="609840" cy="725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778280" y="5383080"/>
            <a:ext cx="609840" cy="725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668600" y="576756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08440" y="576756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48280" y="577368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11960" y="5383080"/>
            <a:ext cx="609480" cy="725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11960" y="4572000"/>
            <a:ext cx="609480" cy="725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11960" y="3760920"/>
            <a:ext cx="609480" cy="725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11960" y="2949480"/>
            <a:ext cx="609480" cy="725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388120" y="5767560"/>
            <a:ext cx="10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4398840" y="4938840"/>
            <a:ext cx="201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98840" y="493884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177720" y="4084560"/>
            <a:ext cx="323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78080" y="4084560"/>
            <a:ext cx="0" cy="168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1929960" y="3314880"/>
            <a:ext cx="44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30320" y="3314880"/>
            <a:ext cx="0" cy="24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5400000">
            <a:off x="1058400" y="5500440"/>
            <a:ext cx="101520" cy="101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5400000">
            <a:off x="2298240" y="5500440"/>
            <a:ext cx="101520" cy="101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5400000">
            <a:off x="3538440" y="5500800"/>
            <a:ext cx="101520" cy="101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5400000">
            <a:off x="4772160" y="5500800"/>
            <a:ext cx="101520" cy="101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rot="5400000">
            <a:off x="6411960" y="3025800"/>
            <a:ext cx="101520" cy="101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5400000">
            <a:off x="6411960" y="3875040"/>
            <a:ext cx="101520" cy="101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5400000">
            <a:off x="6411960" y="4673520"/>
            <a:ext cx="101520" cy="101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5400000">
            <a:off x="6411960" y="5500800"/>
            <a:ext cx="101520" cy="101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1680" y="3076560"/>
            <a:ext cx="584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32520" y="3076560"/>
            <a:ext cx="0" cy="24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6032520" y="5551560"/>
            <a:ext cx="3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6032520" y="4726080"/>
            <a:ext cx="3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6032520" y="3925800"/>
            <a:ext cx="3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551480" y="3076200"/>
            <a:ext cx="0" cy="24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51480" y="555156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319560" y="3076200"/>
            <a:ext cx="0" cy="24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19560" y="555156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2075040" y="3076200"/>
            <a:ext cx="0" cy="24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75040" y="555156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71680" y="6337440"/>
            <a:ext cx="51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762120" y="59940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2120" y="5994360"/>
            <a:ext cx="29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57240" y="5940360"/>
            <a:ext cx="10152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001960" y="59940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001960" y="5994360"/>
            <a:ext cx="29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197080" y="5940360"/>
            <a:ext cx="10152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241800" y="59940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41800" y="5994360"/>
            <a:ext cx="29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436920" y="5940360"/>
            <a:ext cx="10152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4475160" y="59940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75160" y="5994360"/>
            <a:ext cx="29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670280" y="5940360"/>
            <a:ext cx="10188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5689440" y="3504960"/>
            <a:ext cx="0" cy="28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689440" y="3505320"/>
            <a:ext cx="72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89440" y="4321080"/>
            <a:ext cx="72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89440" y="5170320"/>
            <a:ext cx="72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695920" y="5943600"/>
            <a:ext cx="72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43120" y="3076200"/>
            <a:ext cx="0" cy="24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43120" y="555156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71680" y="5767560"/>
            <a:ext cx="48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21440" y="33148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21440" y="409896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021440" y="493560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21440" y="576432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24920" y="29052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-39960" y="555156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7920" y="62848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571160" y="312588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&lt;0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570440" y="391320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&lt;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566480" y="475128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&lt;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71160" y="55767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&lt;3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031520" y="302580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014240" y="379404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014240" y="463392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031520" y="546264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98200" y="546264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867760" y="550080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094640" y="550080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621440" y="550080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010880" y="5854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55400" y="5856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500280" y="5843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733640" y="5867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75240" y="5853240"/>
            <a:ext cx="2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62640" y="5054760"/>
            <a:ext cx="2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75240" y="4168800"/>
            <a:ext cx="2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362640" y="3403440"/>
            <a:ext cx="2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04400" y="563868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48920" y="562140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93440" y="561492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709520" y="560232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57600" y="561492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349320" y="478296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49320" y="392580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49320" y="317484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659560" y="5913360"/>
            <a:ext cx="730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59560" y="5140440"/>
            <a:ext cx="730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659560" y="4290840"/>
            <a:ext cx="730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994360" y="4687920"/>
            <a:ext cx="730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997600" y="3895560"/>
            <a:ext cx="730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92920" y="3051000"/>
            <a:ext cx="730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38800" y="6311880"/>
            <a:ext cx="727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97160" y="6307200"/>
            <a:ext cx="730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65240" y="6300720"/>
            <a:ext cx="730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25400" y="6307200"/>
            <a:ext cx="730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351320" y="5749920"/>
            <a:ext cx="730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37040" y="5737320"/>
            <a:ext cx="7272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90720" y="5737320"/>
            <a:ext cx="730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11520" y="3046320"/>
            <a:ext cx="730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98680" y="3051000"/>
            <a:ext cx="730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038320" y="3046320"/>
            <a:ext cx="73080" cy="58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06400" y="3051000"/>
            <a:ext cx="73080" cy="5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BF9D-2535-4280-A46A-ED801B6ED12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ecall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57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ational log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an output signal is defined for every combination of values of input sign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vious” values do not have to be remember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ke sure that every time a process is executed, each output should be assigned a valu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quential log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s of an output signal may depend on “previous” values stored in the circu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-then-e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structs leads to a latch element 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ranch does not assign a value to one of the output sign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 issue: will edge-sensitive flip-flop or latch be inferr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it until (falling_edge(clk)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148-B3C4-4AA6-B5CC-4823765522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While Loop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3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tera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k, reset, data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res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_vector(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teration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tera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hift_reg: std_logic_vector(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k, reset, data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varia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N: integer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ising_edge(clk)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eset = '1'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es &lt;= "0000"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:= 3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N &gt; 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o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hift_reg(N) &lt;= shift_reg(N-1); N := N - 1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loop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hift_reg(0) &lt;= data; res &lt;= shift_reg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end if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9258-4999-4457-89C1-6C0C54037BF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it Statemen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381880" cy="19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:= 1; j := 0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2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 := j+21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um := sum *1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w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um &gt; 10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loop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250920" y="2735280"/>
            <a:ext cx="825948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i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ment can be used only inside a lo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causes execution to jump out of the innermost loop or the loop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ose label is specif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[loop-label]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onditio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7520" y="4132440"/>
            <a:ext cx="8381880" cy="21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:= 1; j := 0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3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op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 := j+21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sum := sum *10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um &gt; 10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L3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loop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268-70E1-4EDC-8A3E-A7CB41524DC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Next Statemen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8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equential statement that can be used only inside a loo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ax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[loop-label][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ondition]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results in skipping the remaining statements in the current iteration of the loop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ecution resumes with the first statement in the next iteration of this loop, if one exis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331920" y="3638520"/>
            <a:ext cx="8381880" cy="264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o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&lt; total_su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:= sum + 2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total_su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nex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els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null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end if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 := k + 1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loo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513-5EE1-4D30-BEFF-3F1C78F2B7A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Next Statemen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ext statement can also cause an inner loop to be exit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317520" y="2057400"/>
            <a:ext cx="8381880" cy="264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4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o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statements sectio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L5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o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statements sectio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L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WR_DONE = ‘1’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--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statements sectio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loo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L5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--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statements sectio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loop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6560" y="4702320"/>
            <a:ext cx="8190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_DONE = ‘1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comes true, statemen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tion 3 and 4 are skipped, and execution jumps to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ginning of the next iteration of loop L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ice that loop L5 is terminated b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ex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me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F2E-FCA6-4BAC-9482-A65AF486546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oops 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synthesis compilers forces the type of the loop index to integers or only a subsets of array typ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ependencies across iterations of a loop will lead to long signal path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(0)&lt;= datain(0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reg(N) &lt;= reg(N-1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atain(N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loo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you unroll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(0)&lt;= datain(0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(1)&lt;= reg(0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atain(1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(2)&lt;= reg(1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atain(2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(3)&lt;= reg(2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atain(3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97B-AE60-49CC-B1E9-DDF246018FE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oops: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tera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ata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_vector(3 downto 0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_vector(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teration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havio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tera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eg: std_logic_vector(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l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ata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(0) &lt;= data(0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(N) &lt;= reg(N-1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(N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loop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 &lt;= reg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F1E-AE3F-48C5-B446-2F6A92526A5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oops: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97B5-8103-4198-8FBF-E9046A30AC4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ensitivity List in Synthesi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4560" y="111924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 is executed when there is an event on any signal in the sensitivity li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 signal is not in the sensitivity list, an event on this signal does not cause the execution of the proce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ever,  when the VHDL code is synthesized in to a logic circuit, a change on any signal will lead to the re-calculation of the other signals that depends on this signa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fore, simulation results after synthesis may not match exactly to those before the synthes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73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ss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clude all signals of process in the sensitivity list when performing simul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4814-426F-486C-84F0-E1B9C822A30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ariabl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ables are language objects that is useful in describing the behavior of the circu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 typically used to transfer values between statements in a pro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iler may collapse variable assignment statements and eliminate some of the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it is not possible to do so, then a variable is synthesized to a wire connecting gat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EA4-65B0-4598-80AE-4595C9BA7B1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nferring Latch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4560" y="4687560"/>
            <a:ext cx="838188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:  Is a latch for Aout inferr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>
            <a:off x="299520" y="1555920"/>
            <a:ext cx="319824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1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1 = ‘1’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2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2 = ‘1’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out &lt;= ‘1’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Aout &lt;= ‘0’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2C48-2CDA-41EB-AEC6-BCF68DF4983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156960"/>
            <a:ext cx="838188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One Old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718920"/>
            <a:ext cx="8381880" cy="55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ig_v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y,z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res1, res2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ig_var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ig_v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signa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g_s1, sig_s2: std_logic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y,z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1" lang="en-US" sz="1600" spc="-1" strike="noStrike">
                <a:solidFill>
                  <a:srgbClr val="1e1e7a"/>
                </a:solidFill>
                <a:latin typeface="Courier New"/>
              </a:rPr>
              <a:t>–- </a:t>
            </a:r>
            <a:r>
              <a:rPr b="0" i="1" lang="en-US" sz="1600" spc="-1" strike="noStrike">
                <a:solidFill>
                  <a:srgbClr val="1e1e7a"/>
                </a:solidFill>
                <a:latin typeface="Courier New"/>
              </a:rPr>
              <a:t>process 1 using variabl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var_s1, var_s2:std_logic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_s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= x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y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ar_s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= var_s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z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res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_s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_s2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2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y,z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1" lang="en-US" sz="1600" spc="-1" strike="noStrike">
                <a:solidFill>
                  <a:srgbClr val="1e1e7a"/>
                </a:solidFill>
                <a:latin typeface="Courier New"/>
              </a:rPr>
              <a:t>–- </a:t>
            </a:r>
            <a:r>
              <a:rPr b="0" i="1" lang="en-US" sz="1600" spc="-1" strike="noStrike">
                <a:solidFill>
                  <a:srgbClr val="1e1e7a"/>
                </a:solidFill>
                <a:latin typeface="Courier New"/>
              </a:rPr>
              <a:t>process 1 using signal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g_s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= x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y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ig_s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= sig_s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z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res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&lt;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g_s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g_s2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haviora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090-A2F5-4B21-A6A2-32274BB8A6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Buffer and Inout Entity Mod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ignal can serve as both a driver and as an output sign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out &lt;= in1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in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ut &lt;= Aou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in3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is cas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o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gnal must be defined as ei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uff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o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is important for hierarchical mode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the time being, try to avoid situations like this, using the follow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Aout := in1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in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ut &lt;= VarAou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in3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out &lt;= VarAout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B8C-2C89-413C-81F0-7734B132F1B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nference Using Signals vs. Variabl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560" y="890280"/>
            <a:ext cx="8381880" cy="508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igv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el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x, y, z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v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igvar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igv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ig_s1: std_logic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x, y, z, sel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var_s1: std_logic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1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el = '1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 th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g_s1 &lt;= 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z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v &lt;= sig_s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y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2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el = '0'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var_s1 := x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z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v &lt;= var_s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y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398880" y="6080040"/>
            <a:ext cx="69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Ques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Find the latches that will be infer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4F65-721A-4B85-A136-42EB04B6FA6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nference Using Signals vs. Variabl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3273120" y="5595840"/>
            <a:ext cx="38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ynthesis using Synops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506F-28B9-4E1F-B6B2-D2994186A0B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nference Using Signals vs. Variabl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4778280" y="563868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ynthesis using Synplify 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52160" y="157176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920560" y="101448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var_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13480" y="393696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ig_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9F2-4402-4292-B51F-55FCAAEF535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atch Inference for Variabl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4560" y="933480"/>
            <a:ext cx="838188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igva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lk, x, y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re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igva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igva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var_s1, var_s2: std_logic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wait unti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ising_edge(clk)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_s1 := 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_s2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var_s2 := var_s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y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res &lt;= var_s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var_S2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384840" y="6095880"/>
            <a:ext cx="67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Ques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Find the latches that will be infer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480-4341-40CA-8369-E8C94E77C60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atch Inference for Variabl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a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 unti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rising_edge(clk));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ment causes a flip-flo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there is no rising_edge of the clock, the sign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hould retain its valu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var_s2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var_s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before it is defin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retain their values across process inv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fore, a flip-flop is inferred when a variable is used before it is defin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169-EF37-4DFD-A91F-A3D6A53B18B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atch Inference for Variabl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C8F-D094-4346-8A89-06B71DCF843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4560" y="11412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Latch and Flip-Flop Inferenc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0" y="647280"/>
            <a:ext cx="8912160" cy="62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, case, wai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ditional and selected signal assignment statements can be used to infer latch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xample, 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sel = ‘1’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 will lead to the inference of a lat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rising_edge(clk))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used to infer an edge-triggered flip-flo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clk’event and clk = ‘1’) th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not detect a transition from ‘0’ to ‘1’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ttribute clk’last_value may be useful in detecting 0-to-1 transition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ever, it cannot be used in synthes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functio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ising_edge() or falling_edge(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Xilinx XC4000 series FPGAs support both edge-triggered and level-sensitive devices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D2B-12B0-4131-A4D2-301F9B3BA4A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Flip-Flops with Asynchronous Reset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4560" y="818640"/>
            <a:ext cx="83818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arith.al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ounter_asyn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k, rese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res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unsigned(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ounter_asyn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havio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ounter_asyn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k, reset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varia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var_count: unsigned(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if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et='1'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es &lt;= "0000"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rising_edge(clk)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var_count := var_count + 1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res &lt;= var_coun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1B8B-BD7A-4EE7-8CCD-8256872786E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Flip-Flops with Asynchronous Rese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94" name=""/>
          <p:cNvSpPr/>
          <p:nvPr/>
        </p:nvSpPr>
        <p:spPr>
          <a:xfrm>
            <a:off x="234720" y="5688000"/>
            <a:ext cx="854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ynchronous clear and set signal can be synthesize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y exist in the target libr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469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AE80-DFCF-455A-A450-56E43F58F1C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mulation Resul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560" y="990720"/>
            <a:ext cx="778680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598C-DA74-47A3-B816-44F56D6384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Flip-Flops with Synchronous Rese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arith.al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ounter_asyn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k, rese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res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unsigned(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ounter_asyn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havio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ounter_asyn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k, reset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varia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var_count: unsigned(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rising_edge(clk)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eset='1'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res &lt;= "0000"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var_count := var_count + 1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res &lt;= var_coun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549-6C4A-421B-91AB-FC6EC1C6A5C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Flip-Flops with Synchronous Rese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04920" y="1276200"/>
            <a:ext cx="8381880" cy="48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0D7-14AF-4AF7-812F-14EB299B769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560" y="2998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 in the Textbook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04560" y="107604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arith.al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ounter_asyn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k, reset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 res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unsigned(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ounter_asyn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havio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ounter_asyn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k, reset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var_count: unsigned(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rising_edge(clk)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reset='1'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res &lt;= "0000"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var_count := var_count + 1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 &lt;= var_coun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D14A-B01B-4590-84E7-486EB0C4E0E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 in the Textbook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304920" y="5695920"/>
            <a:ext cx="80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reason for this differ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A7C1-9B35-4B0D-875C-9DAA433F457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The Synthesized Logic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3903480"/>
            <a:ext cx="838188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processes result in identical logic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s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s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circuit are combinationa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binational logic is a natural result of using “variables” that are assigned immediately with values evaluated at the RHS of assignment statem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2635200" y="1217520"/>
            <a:ext cx="452520" cy="4003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5640" y="1413000"/>
            <a:ext cx="42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48080" y="1413000"/>
            <a:ext cx="782640" cy="206280"/>
          </a:xfrm>
          <a:custGeom>
            <a:avLst/>
            <a:gdLst/>
            <a:ahLst/>
            <a:rect l="l" t="t" r="r" b="b"/>
            <a:pathLst>
              <a:path w="493" h="130">
                <a:moveTo>
                  <a:pt x="0" y="0"/>
                </a:moveTo>
                <a:lnTo>
                  <a:pt x="246" y="0"/>
                </a:lnTo>
                <a:moveTo>
                  <a:pt x="0" y="130"/>
                </a:moveTo>
                <a:lnTo>
                  <a:pt x="246" y="130"/>
                </a:lnTo>
                <a:moveTo>
                  <a:pt x="493" y="65"/>
                </a:moveTo>
                <a:lnTo>
                  <a:pt x="246" y="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78400" y="1324080"/>
            <a:ext cx="520560" cy="38556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25840" y="1324080"/>
            <a:ext cx="573120" cy="38556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15"/>
                </a:moveTo>
                <a:cubicBezTo>
                  <a:pt x="39" y="23"/>
                  <a:pt x="29" y="28"/>
                  <a:pt x="16" y="30"/>
                </a:cubicBezTo>
                <a:lnTo>
                  <a:pt x="16" y="30"/>
                </a:lnTo>
                <a:lnTo>
                  <a:pt x="4" y="30"/>
                </a:lnTo>
                <a:cubicBezTo>
                  <a:pt x="12" y="21"/>
                  <a:pt x="12" y="10"/>
                  <a:pt x="4" y="0"/>
                </a:cubicBezTo>
                <a:lnTo>
                  <a:pt x="4" y="0"/>
                </a:lnTo>
                <a:lnTo>
                  <a:pt x="16" y="0"/>
                </a:lnTo>
                <a:cubicBezTo>
                  <a:pt x="29" y="2"/>
                  <a:pt x="39" y="8"/>
                  <a:pt x="44" y="15"/>
                </a:cubicBezTo>
                <a:moveTo>
                  <a:pt x="0" y="30"/>
                </a:moveTo>
                <a:cubicBezTo>
                  <a:pt x="8" y="21"/>
                  <a:pt x="8" y="1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989000" y="13240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53320" y="303840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17320" y="240336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4360" y="217800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91240" y="1212840"/>
            <a:ext cx="45216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30720" y="1512720"/>
            <a:ext cx="56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295800" y="10314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95800" y="1031760"/>
            <a:ext cx="11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427640" y="133344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427640" y="1031760"/>
            <a:ext cx="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43400" y="135576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51160" y="1362240"/>
            <a:ext cx="8892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2320" y="1413000"/>
            <a:ext cx="58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48080" y="1619280"/>
            <a:ext cx="0" cy="161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35200" y="2363760"/>
            <a:ext cx="45252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95640" y="2558880"/>
            <a:ext cx="42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48080" y="2558880"/>
            <a:ext cx="782640" cy="206640"/>
          </a:xfrm>
          <a:custGeom>
            <a:avLst/>
            <a:gdLst/>
            <a:ahLst/>
            <a:rect l="l" t="t" r="r" b="b"/>
            <a:pathLst>
              <a:path w="493" h="130">
                <a:moveTo>
                  <a:pt x="0" y="0"/>
                </a:moveTo>
                <a:lnTo>
                  <a:pt x="246" y="0"/>
                </a:lnTo>
                <a:moveTo>
                  <a:pt x="0" y="130"/>
                </a:moveTo>
                <a:lnTo>
                  <a:pt x="246" y="130"/>
                </a:lnTo>
                <a:moveTo>
                  <a:pt x="493" y="65"/>
                </a:moveTo>
                <a:lnTo>
                  <a:pt x="246" y="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78400" y="2470320"/>
            <a:ext cx="520560" cy="38556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25840" y="2470320"/>
            <a:ext cx="573120" cy="38556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15"/>
                </a:moveTo>
                <a:cubicBezTo>
                  <a:pt x="39" y="23"/>
                  <a:pt x="29" y="28"/>
                  <a:pt x="16" y="30"/>
                </a:cubicBezTo>
                <a:lnTo>
                  <a:pt x="16" y="30"/>
                </a:lnTo>
                <a:lnTo>
                  <a:pt x="4" y="30"/>
                </a:lnTo>
                <a:cubicBezTo>
                  <a:pt x="12" y="21"/>
                  <a:pt x="12" y="10"/>
                  <a:pt x="4" y="0"/>
                </a:cubicBezTo>
                <a:lnTo>
                  <a:pt x="4" y="0"/>
                </a:lnTo>
                <a:lnTo>
                  <a:pt x="16" y="0"/>
                </a:lnTo>
                <a:cubicBezTo>
                  <a:pt x="29" y="2"/>
                  <a:pt x="39" y="8"/>
                  <a:pt x="44" y="15"/>
                </a:cubicBezTo>
                <a:moveTo>
                  <a:pt x="0" y="30"/>
                </a:moveTo>
                <a:cubicBezTo>
                  <a:pt x="8" y="21"/>
                  <a:pt x="8" y="1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773000" y="2478240"/>
            <a:ext cx="863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91240" y="2359080"/>
            <a:ext cx="452160" cy="3999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30720" y="2658960"/>
            <a:ext cx="56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295800" y="2178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95800" y="2178000"/>
            <a:ext cx="11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427640" y="247968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427640" y="2178000"/>
            <a:ext cx="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43400" y="2502000"/>
            <a:ext cx="88920" cy="1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51160" y="250812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2320" y="2558880"/>
            <a:ext cx="58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73360" y="3236760"/>
            <a:ext cx="167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73000" y="26082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9000" y="1333440"/>
            <a:ext cx="0" cy="113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03440" y="272736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44720" y="244476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277720" y="14619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78080" y="14558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33440" y="2554200"/>
            <a:ext cx="889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89600" y="1189080"/>
            <a:ext cx="6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00400" y="2333520"/>
            <a:ext cx="6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5EF-2C75-4138-95CC-395DF723E6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ynplify Pro RTL View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4800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0280" y="594828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1 = res2 = z + (xy)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6A1-F246-474A-9546-F535B62664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Example: The Synthesized Logic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all th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s of sig_s1 and sig_s2 used when the process proc2 is executed are the ones when the process is invoked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the values are newly evaluated within the proced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would cause inference of storage elem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compilers generally optimize this sequence to produce combinational logi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, signals and variables behave identically with respect to the synthesis in this cas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ncy in the sequential execution of signals will increase the critical pa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FA28-8CE3-4DD1-841F-1CD737EE5B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BANCI UNIV</cp:lastModifiedBy>
  <dcterms:modified xsi:type="dcterms:W3CDTF">2003-11-11T05:57:54Z</dcterms:modified>
  <cp:revision>3276</cp:revision>
  <dc:subject/>
  <dc:title>PowerPoint Presentation</dc:title>
</cp:coreProperties>
</file>